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3332-CA63-4865-B6AD-5901EE05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37B9-C562-48B9-879B-5A36A8FE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18B5-7374-4DC0-9103-29131CCCA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10DB-7F33-481C-9E80-5B6F5DF98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48CE-1051-4AC7-A727-A89F5196A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9FB0-6138-464A-AF4A-52EAC193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22F0-12C4-4A4B-8811-3E7B1E39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136E-4500-4D40-B1B0-09421968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D74F-7DD5-4894-9FA9-1B341EBE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24C9-F874-477D-82AF-FCA6B467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E568-9F0B-491A-BC12-B57F2CBD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98C2-F76F-4128-84DC-70E244DC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8C62-C4EF-420C-91DD-C9AC55CA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07AE-1D57-4090-8102-16F7B792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D746-55FA-4621-A824-C5A4E341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D741-A7FB-4B6E-8A02-07A8C73D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F77E-F77F-4660-A89C-40E644584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A095-31C0-45BA-8068-5F74A7E6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8FAB-3E70-4DC3-8B58-F42FA6A9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E256-48B2-4A42-996F-2BAD99E0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3665-603F-44D7-9125-41D35AA2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A880-D8D2-4873-A46E-4CB83DD5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00FC-E2CF-42A6-84A3-77E4891C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5411-52FB-4F18-9538-485FDFFB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BACD-3326-43D3-A998-20B20A826E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7D8C-BA1E-44EF-B8A0-2B4E8ADF2A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lasszone.com/cz/books/msmath_1_na/book_home.htm?state=MD" TargetMode="External"/><Relationship Id="rId2" Type="http://schemas.openxmlformats.org/officeDocument/2006/relationships/hyperlink" Target="http://www.classzone.com/cz/books/msmath_1_na/book_home.htm?state=MD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Opener:  Check each number below for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divisibility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by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2, 3, 5, 6, 9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1.)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,302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2.)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87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3.)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4.)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5.)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,000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6.)</a:t>
            </a: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,0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cccc66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88120" y="1973160"/>
            <a:ext cx="1189080" cy="571680"/>
          </a:xfrm>
          <a:custGeom>
            <a:avLst/>
            <a:gdLst/>
            <a:ahLst/>
            <a:rect l="l" t="t" r="r" b="b"/>
            <a:pathLst>
              <a:path w="3300" h="1588">
                <a:moveTo>
                  <a:pt x="20216" y="6325"/>
                </a:moveTo>
                <a:cubicBezTo>
                  <a:pt x="20180" y="6414"/>
                  <a:pt x="20305" y="6303"/>
                  <a:pt x="20340" y="6499"/>
                </a:cubicBezTo>
                <a:cubicBezTo>
                  <a:pt x="20386" y="6759"/>
                  <a:pt x="20210" y="6912"/>
                  <a:pt x="19993" y="6970"/>
                </a:cubicBezTo>
                <a:cubicBezTo>
                  <a:pt x="19982" y="6796"/>
                  <a:pt x="20009" y="6661"/>
                  <a:pt x="20216" y="6747"/>
                </a:cubicBezTo>
                <a:cubicBezTo>
                  <a:pt x="20349" y="6802"/>
                  <a:pt x="20365" y="6847"/>
                  <a:pt x="20389" y="6970"/>
                </a:cubicBezTo>
              </a:path>
              <a:path w="3300" h="1588">
                <a:moveTo>
                  <a:pt x="20588" y="6449"/>
                </a:moveTo>
                <a:cubicBezTo>
                  <a:pt x="20604" y="6600"/>
                  <a:pt x="20614" y="6748"/>
                  <a:pt x="20638" y="6896"/>
                </a:cubicBezTo>
              </a:path>
              <a:path w="3300" h="1588">
                <a:moveTo>
                  <a:pt x="20414" y="6672"/>
                </a:moveTo>
                <a:cubicBezTo>
                  <a:pt x="20503" y="6672"/>
                  <a:pt x="20554" y="6655"/>
                  <a:pt x="20613" y="6598"/>
                </a:cubicBezTo>
              </a:path>
              <a:path w="3300" h="1588">
                <a:moveTo>
                  <a:pt x="21034" y="6400"/>
                </a:moveTo>
                <a:cubicBezTo>
                  <a:pt x="21135" y="6315"/>
                  <a:pt x="21294" y="6318"/>
                  <a:pt x="21332" y="6499"/>
                </a:cubicBezTo>
                <a:cubicBezTo>
                  <a:pt x="21390" y="6774"/>
                  <a:pt x="21093" y="6846"/>
                  <a:pt x="20910" y="6846"/>
                </a:cubicBezTo>
                <a:cubicBezTo>
                  <a:pt x="21007" y="6680"/>
                  <a:pt x="21110" y="6628"/>
                  <a:pt x="21282" y="6747"/>
                </a:cubicBezTo>
                <a:cubicBezTo>
                  <a:pt x="21351" y="6815"/>
                  <a:pt x="21373" y="6831"/>
                  <a:pt x="21382" y="6896"/>
                </a:cubicBezTo>
              </a:path>
              <a:path w="3300" h="1588">
                <a:moveTo>
                  <a:pt x="21630" y="6524"/>
                </a:moveTo>
                <a:cubicBezTo>
                  <a:pt x="21763" y="6515"/>
                  <a:pt x="21892" y="6499"/>
                  <a:pt x="22027" y="6499"/>
                </a:cubicBezTo>
              </a:path>
              <a:path w="3300" h="1588">
                <a:moveTo>
                  <a:pt x="21803" y="6747"/>
                </a:moveTo>
                <a:cubicBezTo>
                  <a:pt x="21836" y="6739"/>
                  <a:pt x="21870" y="6730"/>
                  <a:pt x="21903" y="6722"/>
                </a:cubicBezTo>
              </a:path>
              <a:path w="3300" h="1588">
                <a:moveTo>
                  <a:pt x="22324" y="6424"/>
                </a:moveTo>
                <a:cubicBezTo>
                  <a:pt x="22299" y="6523"/>
                  <a:pt x="22291" y="6555"/>
                  <a:pt x="22299" y="6623"/>
                </a:cubicBezTo>
                <a:cubicBezTo>
                  <a:pt x="22533" y="6633"/>
                  <a:pt x="22536" y="6624"/>
                  <a:pt x="22721" y="6474"/>
                </a:cubicBezTo>
              </a:path>
              <a:path w="3300" h="1588">
                <a:moveTo>
                  <a:pt x="22671" y="6127"/>
                </a:moveTo>
                <a:cubicBezTo>
                  <a:pt x="22656" y="6359"/>
                  <a:pt x="22645" y="6590"/>
                  <a:pt x="22622" y="6821"/>
                </a:cubicBezTo>
              </a:path>
              <a:path w="3300" h="1588">
                <a:moveTo>
                  <a:pt x="22200" y="7020"/>
                </a:moveTo>
                <a:cubicBezTo>
                  <a:pt x="22456" y="7078"/>
                  <a:pt x="22738" y="7121"/>
                  <a:pt x="22969" y="6945"/>
                </a:cubicBezTo>
                <a:cubicBezTo>
                  <a:pt x="23248" y="6733"/>
                  <a:pt x="23353" y="6251"/>
                  <a:pt x="23242" y="5928"/>
                </a:cubicBezTo>
                <a:cubicBezTo>
                  <a:pt x="23047" y="5361"/>
                  <a:pt x="22436" y="5373"/>
                  <a:pt x="22126" y="5854"/>
                </a:cubicBezTo>
                <a:cubicBezTo>
                  <a:pt x="21816" y="6335"/>
                  <a:pt x="22003" y="6555"/>
                  <a:pt x="22275" y="68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81960" y="3027240"/>
            <a:ext cx="152280" cy="71640"/>
          </a:xfrm>
          <a:custGeom>
            <a:avLst/>
            <a:gdLst/>
            <a:ahLst/>
            <a:rect l="l" t="t" r="r" b="b"/>
            <a:pathLst>
              <a:path w="423" h="199">
                <a:moveTo>
                  <a:pt x="21109" y="8434"/>
                </a:moveTo>
                <a:cubicBezTo>
                  <a:pt x="21200" y="8434"/>
                  <a:pt x="21423" y="8434"/>
                  <a:pt x="21332" y="8434"/>
                </a:cubicBezTo>
                <a:cubicBezTo>
                  <a:pt x="21235" y="8434"/>
                  <a:pt x="21153" y="8429"/>
                  <a:pt x="21059" y="8409"/>
                </a:cubicBezTo>
                <a:cubicBezTo>
                  <a:pt x="21172" y="8444"/>
                  <a:pt x="21310" y="8441"/>
                  <a:pt x="21406" y="8483"/>
                </a:cubicBezTo>
              </a:path>
              <a:path w="423" h="199">
                <a:moveTo>
                  <a:pt x="21109" y="8607"/>
                </a:moveTo>
                <a:cubicBezTo>
                  <a:pt x="21146" y="8603"/>
                  <a:pt x="21319" y="8591"/>
                  <a:pt x="21332" y="8533"/>
                </a:cubicBezTo>
                <a:cubicBezTo>
                  <a:pt x="21342" y="8485"/>
                  <a:pt x="21126" y="8508"/>
                  <a:pt x="21109" y="8508"/>
                </a:cubicBezTo>
                <a:cubicBezTo>
                  <a:pt x="21238" y="8481"/>
                  <a:pt x="21356" y="8451"/>
                  <a:pt x="21481" y="8409"/>
                </a:cubicBezTo>
                <a:cubicBezTo>
                  <a:pt x="21372" y="8437"/>
                  <a:pt x="21329" y="8449"/>
                  <a:pt x="21258" y="84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280" y="3017880"/>
            <a:ext cx="2482920" cy="1152360"/>
          </a:xfrm>
          <a:custGeom>
            <a:avLst/>
            <a:gdLst/>
            <a:ahLst/>
            <a:rect l="l" t="t" r="r" b="b"/>
            <a:pathLst>
              <a:path w="6897" h="3201">
                <a:moveTo>
                  <a:pt x="992" y="10120"/>
                </a:moveTo>
                <a:cubicBezTo>
                  <a:pt x="1039" y="10015"/>
                  <a:pt x="1079" y="10013"/>
                  <a:pt x="1191" y="9971"/>
                </a:cubicBezTo>
                <a:cubicBezTo>
                  <a:pt x="1344" y="10178"/>
                  <a:pt x="1226" y="10454"/>
                  <a:pt x="1067" y="10666"/>
                </a:cubicBezTo>
                <a:cubicBezTo>
                  <a:pt x="914" y="10869"/>
                  <a:pt x="793" y="10923"/>
                  <a:pt x="571" y="10964"/>
                </a:cubicBezTo>
                <a:cubicBezTo>
                  <a:pt x="570" y="10758"/>
                  <a:pt x="693" y="10670"/>
                  <a:pt x="918" y="10666"/>
                </a:cubicBezTo>
                <a:cubicBezTo>
                  <a:pt x="1169" y="10662"/>
                  <a:pt x="1206" y="10838"/>
                  <a:pt x="1265" y="11038"/>
                </a:cubicBezTo>
              </a:path>
              <a:path w="6897" h="3201">
                <a:moveTo>
                  <a:pt x="1563" y="11112"/>
                </a:moveTo>
                <a:cubicBezTo>
                  <a:pt x="1563" y="11137"/>
                  <a:pt x="1563" y="11162"/>
                  <a:pt x="1563" y="11187"/>
                </a:cubicBezTo>
              </a:path>
              <a:path w="6897" h="3201">
                <a:moveTo>
                  <a:pt x="1960" y="10319"/>
                </a:moveTo>
                <a:cubicBezTo>
                  <a:pt x="2011" y="10241"/>
                  <a:pt x="2032" y="10215"/>
                  <a:pt x="2108" y="10220"/>
                </a:cubicBezTo>
                <a:cubicBezTo>
                  <a:pt x="2239" y="10363"/>
                  <a:pt x="2168" y="10415"/>
                  <a:pt x="2034" y="10542"/>
                </a:cubicBezTo>
                <a:cubicBezTo>
                  <a:pt x="2026" y="10550"/>
                  <a:pt x="2017" y="10559"/>
                  <a:pt x="2009" y="10567"/>
                </a:cubicBezTo>
                <a:cubicBezTo>
                  <a:pt x="2136" y="10544"/>
                  <a:pt x="2426" y="10542"/>
                  <a:pt x="2232" y="10765"/>
                </a:cubicBezTo>
                <a:cubicBezTo>
                  <a:pt x="2137" y="10875"/>
                  <a:pt x="1934" y="10923"/>
                  <a:pt x="1836" y="10864"/>
                </a:cubicBezTo>
              </a:path>
              <a:path w="6897" h="3201">
                <a:moveTo>
                  <a:pt x="2604" y="10765"/>
                </a:moveTo>
                <a:cubicBezTo>
                  <a:pt x="2604" y="10848"/>
                  <a:pt x="2604" y="10864"/>
                  <a:pt x="2604" y="10914"/>
                </a:cubicBezTo>
              </a:path>
              <a:path w="6897" h="3201">
                <a:moveTo>
                  <a:pt x="3373" y="10120"/>
                </a:moveTo>
                <a:cubicBezTo>
                  <a:pt x="3294" y="10144"/>
                  <a:pt x="3067" y="10138"/>
                  <a:pt x="3026" y="10220"/>
                </a:cubicBezTo>
                <a:cubicBezTo>
                  <a:pt x="3018" y="10253"/>
                  <a:pt x="3009" y="10286"/>
                  <a:pt x="3001" y="10319"/>
                </a:cubicBezTo>
                <a:cubicBezTo>
                  <a:pt x="3136" y="10319"/>
                  <a:pt x="3341" y="10289"/>
                  <a:pt x="3448" y="10393"/>
                </a:cubicBezTo>
                <a:cubicBezTo>
                  <a:pt x="3568" y="10508"/>
                  <a:pt x="3433" y="10682"/>
                  <a:pt x="3299" y="10691"/>
                </a:cubicBezTo>
                <a:cubicBezTo>
                  <a:pt x="3159" y="10701"/>
                  <a:pt x="2995" y="10650"/>
                  <a:pt x="2853" y="10641"/>
                </a:cubicBezTo>
              </a:path>
              <a:path w="6897" h="3201">
                <a:moveTo>
                  <a:pt x="3795" y="10815"/>
                </a:moveTo>
                <a:cubicBezTo>
                  <a:pt x="3795" y="10909"/>
                  <a:pt x="3816" y="10930"/>
                  <a:pt x="3770" y="10964"/>
                </a:cubicBezTo>
              </a:path>
              <a:path w="6897" h="3201">
                <a:moveTo>
                  <a:pt x="4192" y="10145"/>
                </a:moveTo>
                <a:cubicBezTo>
                  <a:pt x="4174" y="10254"/>
                  <a:pt x="4110" y="10362"/>
                  <a:pt x="4093" y="10468"/>
                </a:cubicBezTo>
                <a:cubicBezTo>
                  <a:pt x="4074" y="10586"/>
                  <a:pt x="4098" y="10766"/>
                  <a:pt x="4266" y="10740"/>
                </a:cubicBezTo>
                <a:cubicBezTo>
                  <a:pt x="4393" y="10721"/>
                  <a:pt x="4538" y="10660"/>
                  <a:pt x="4514" y="10517"/>
                </a:cubicBezTo>
                <a:cubicBezTo>
                  <a:pt x="4496" y="10408"/>
                  <a:pt x="4346" y="10427"/>
                  <a:pt x="4291" y="10492"/>
                </a:cubicBezTo>
                <a:cubicBezTo>
                  <a:pt x="4247" y="10581"/>
                  <a:pt x="4231" y="10602"/>
                  <a:pt x="4242" y="10666"/>
                </a:cubicBezTo>
              </a:path>
              <a:path w="6897" h="3201">
                <a:moveTo>
                  <a:pt x="4787" y="10691"/>
                </a:moveTo>
                <a:cubicBezTo>
                  <a:pt x="4787" y="10798"/>
                  <a:pt x="4787" y="10823"/>
                  <a:pt x="4787" y="10889"/>
                </a:cubicBezTo>
              </a:path>
              <a:path w="6897" h="3201">
                <a:moveTo>
                  <a:pt x="5457" y="10294"/>
                </a:moveTo>
                <a:cubicBezTo>
                  <a:pt x="5418" y="10150"/>
                  <a:pt x="5274" y="10116"/>
                  <a:pt x="5110" y="10120"/>
                </a:cubicBezTo>
                <a:cubicBezTo>
                  <a:pt x="5025" y="10148"/>
                  <a:pt x="4995" y="10166"/>
                  <a:pt x="4986" y="10244"/>
                </a:cubicBezTo>
                <a:cubicBezTo>
                  <a:pt x="5076" y="10391"/>
                  <a:pt x="5185" y="10404"/>
                  <a:pt x="5358" y="10294"/>
                </a:cubicBezTo>
                <a:cubicBezTo>
                  <a:pt x="5465" y="10226"/>
                  <a:pt x="5434" y="10163"/>
                  <a:pt x="5457" y="10443"/>
                </a:cubicBezTo>
                <a:cubicBezTo>
                  <a:pt x="5457" y="10567"/>
                  <a:pt x="5457" y="10608"/>
                  <a:pt x="5457" y="10691"/>
                </a:cubicBezTo>
              </a:path>
              <a:path w="6897" h="3201">
                <a:moveTo>
                  <a:pt x="5755" y="10765"/>
                </a:moveTo>
                <a:cubicBezTo>
                  <a:pt x="5755" y="10856"/>
                  <a:pt x="5755" y="10881"/>
                  <a:pt x="5755" y="10939"/>
                </a:cubicBezTo>
              </a:path>
              <a:path w="6897" h="3201">
                <a:moveTo>
                  <a:pt x="6201" y="10244"/>
                </a:moveTo>
                <a:cubicBezTo>
                  <a:pt x="6210" y="10403"/>
                  <a:pt x="6240" y="10558"/>
                  <a:pt x="6251" y="10716"/>
                </a:cubicBezTo>
              </a:path>
              <a:path w="6897" h="3201">
                <a:moveTo>
                  <a:pt x="6896" y="10220"/>
                </a:moveTo>
                <a:cubicBezTo>
                  <a:pt x="6788" y="10282"/>
                  <a:pt x="6598" y="10441"/>
                  <a:pt x="6598" y="10592"/>
                </a:cubicBezTo>
                <a:cubicBezTo>
                  <a:pt x="6615" y="10625"/>
                  <a:pt x="6631" y="10658"/>
                  <a:pt x="6648" y="10691"/>
                </a:cubicBezTo>
                <a:cubicBezTo>
                  <a:pt x="6865" y="10759"/>
                  <a:pt x="7088" y="10752"/>
                  <a:pt x="7094" y="10443"/>
                </a:cubicBezTo>
                <a:cubicBezTo>
                  <a:pt x="7097" y="10311"/>
                  <a:pt x="6987" y="10265"/>
                  <a:pt x="6896" y="10220"/>
                </a:cubicBezTo>
              </a:path>
              <a:path w="6897" h="3201">
                <a:moveTo>
                  <a:pt x="5531" y="8434"/>
                </a:moveTo>
                <a:cubicBezTo>
                  <a:pt x="5596" y="8424"/>
                  <a:pt x="6041" y="8409"/>
                  <a:pt x="5730" y="8409"/>
                </a:cubicBezTo>
                <a:cubicBezTo>
                  <a:pt x="5649" y="8409"/>
                  <a:pt x="5255" y="8432"/>
                  <a:pt x="5606" y="8409"/>
                </a:cubicBezTo>
                <a:cubicBezTo>
                  <a:pt x="5746" y="8385"/>
                  <a:pt x="5787" y="8377"/>
                  <a:pt x="5879" y="8384"/>
                </a:cubicBezTo>
                <a:cubicBezTo>
                  <a:pt x="6006" y="8423"/>
                  <a:pt x="5989" y="8431"/>
                  <a:pt x="5829" y="8409"/>
                </a:cubicBezTo>
                <a:cubicBezTo>
                  <a:pt x="5618" y="8379"/>
                  <a:pt x="5633" y="8394"/>
                  <a:pt x="5879" y="8409"/>
                </a:cubicBezTo>
                <a:cubicBezTo>
                  <a:pt x="5986" y="8409"/>
                  <a:pt x="6011" y="8409"/>
                  <a:pt x="6077" y="8409"/>
                </a:cubicBezTo>
                <a:cubicBezTo>
                  <a:pt x="5944" y="8409"/>
                  <a:pt x="5548" y="8403"/>
                  <a:pt x="5680" y="8384"/>
                </a:cubicBezTo>
                <a:cubicBezTo>
                  <a:pt x="5826" y="8363"/>
                  <a:pt x="6001" y="8409"/>
                  <a:pt x="6152" y="8409"/>
                </a:cubicBezTo>
                <a:cubicBezTo>
                  <a:pt x="6260" y="8409"/>
                  <a:pt x="5937" y="8409"/>
                  <a:pt x="5829" y="8409"/>
                </a:cubicBezTo>
              </a:path>
              <a:path w="6897" h="3201">
                <a:moveTo>
                  <a:pt x="471" y="11385"/>
                </a:moveTo>
                <a:cubicBezTo>
                  <a:pt x="581" y="11481"/>
                  <a:pt x="707" y="11589"/>
                  <a:pt x="868" y="11584"/>
                </a:cubicBezTo>
                <a:cubicBezTo>
                  <a:pt x="1009" y="11580"/>
                  <a:pt x="1131" y="11485"/>
                  <a:pt x="1265" y="11460"/>
                </a:cubicBezTo>
                <a:cubicBezTo>
                  <a:pt x="1330" y="11448"/>
                  <a:pt x="1436" y="11368"/>
                  <a:pt x="1488" y="11311"/>
                </a:cubicBezTo>
                <a:cubicBezTo>
                  <a:pt x="1544" y="11250"/>
                  <a:pt x="1605" y="11139"/>
                  <a:pt x="1637" y="11063"/>
                </a:cubicBezTo>
                <a:cubicBezTo>
                  <a:pt x="1677" y="10968"/>
                  <a:pt x="1687" y="10891"/>
                  <a:pt x="1687" y="10790"/>
                </a:cubicBezTo>
                <a:cubicBezTo>
                  <a:pt x="1687" y="10686"/>
                  <a:pt x="1649" y="10589"/>
                  <a:pt x="1637" y="10492"/>
                </a:cubicBezTo>
                <a:cubicBezTo>
                  <a:pt x="1624" y="10388"/>
                  <a:pt x="1588" y="10339"/>
                  <a:pt x="1538" y="10244"/>
                </a:cubicBezTo>
                <a:cubicBezTo>
                  <a:pt x="1485" y="10143"/>
                  <a:pt x="1436" y="10111"/>
                  <a:pt x="1339" y="10046"/>
                </a:cubicBezTo>
                <a:cubicBezTo>
                  <a:pt x="1260" y="9993"/>
                  <a:pt x="1164" y="9934"/>
                  <a:pt x="1067" y="9922"/>
                </a:cubicBezTo>
                <a:cubicBezTo>
                  <a:pt x="936" y="9906"/>
                  <a:pt x="841" y="9942"/>
                  <a:pt x="719" y="9971"/>
                </a:cubicBezTo>
                <a:cubicBezTo>
                  <a:pt x="580" y="10005"/>
                  <a:pt x="413" y="10047"/>
                  <a:pt x="322" y="10170"/>
                </a:cubicBezTo>
                <a:cubicBezTo>
                  <a:pt x="224" y="10302"/>
                  <a:pt x="184" y="10480"/>
                  <a:pt x="198" y="10641"/>
                </a:cubicBezTo>
                <a:cubicBezTo>
                  <a:pt x="213" y="10808"/>
                  <a:pt x="296" y="10981"/>
                  <a:pt x="397" y="11112"/>
                </a:cubicBezTo>
                <a:cubicBezTo>
                  <a:pt x="465" y="11200"/>
                  <a:pt x="604" y="11318"/>
                  <a:pt x="719" y="11336"/>
                </a:cubicBezTo>
                <a:cubicBezTo>
                  <a:pt x="815" y="11351"/>
                  <a:pt x="920" y="11317"/>
                  <a:pt x="1017" y="11311"/>
                </a:cubicBezTo>
              </a:path>
              <a:path w="6897" h="3201">
                <a:moveTo>
                  <a:pt x="3497" y="9897"/>
                </a:moveTo>
                <a:lnTo>
                  <a:pt x="3497" y="9897"/>
                </a:lnTo>
              </a:path>
              <a:path w="6897" h="3201">
                <a:moveTo>
                  <a:pt x="3448" y="9971"/>
                </a:moveTo>
                <a:cubicBezTo>
                  <a:pt x="3349" y="10194"/>
                  <a:pt x="3242" y="10414"/>
                  <a:pt x="3150" y="10641"/>
                </a:cubicBezTo>
                <a:cubicBezTo>
                  <a:pt x="3093" y="10780"/>
                  <a:pt x="3026" y="10939"/>
                  <a:pt x="3001" y="11088"/>
                </a:cubicBezTo>
              </a:path>
              <a:path w="6897" h="3201">
                <a:moveTo>
                  <a:pt x="6970" y="9599"/>
                </a:moveTo>
                <a:cubicBezTo>
                  <a:pt x="6893" y="9983"/>
                  <a:pt x="6755" y="10354"/>
                  <a:pt x="6598" y="10716"/>
                </a:cubicBezTo>
                <a:cubicBezTo>
                  <a:pt x="6515" y="10881"/>
                  <a:pt x="6499" y="10914"/>
                  <a:pt x="6449" y="11013"/>
                </a:cubicBezTo>
              </a:path>
              <a:path w="6897" h="3201">
                <a:moveTo>
                  <a:pt x="1612" y="11137"/>
                </a:moveTo>
                <a:cubicBezTo>
                  <a:pt x="1694" y="11192"/>
                  <a:pt x="1783" y="11270"/>
                  <a:pt x="1885" y="11286"/>
                </a:cubicBezTo>
                <a:cubicBezTo>
                  <a:pt x="2004" y="11304"/>
                  <a:pt x="2117" y="11230"/>
                  <a:pt x="2232" y="11212"/>
                </a:cubicBezTo>
                <a:cubicBezTo>
                  <a:pt x="2313" y="11199"/>
                  <a:pt x="2346" y="11148"/>
                  <a:pt x="2406" y="11088"/>
                </a:cubicBezTo>
                <a:cubicBezTo>
                  <a:pt x="2491" y="11004"/>
                  <a:pt x="2502" y="10906"/>
                  <a:pt x="2505" y="10790"/>
                </a:cubicBezTo>
                <a:cubicBezTo>
                  <a:pt x="2508" y="10675"/>
                  <a:pt x="2495" y="10578"/>
                  <a:pt x="2480" y="10468"/>
                </a:cubicBezTo>
                <a:cubicBezTo>
                  <a:pt x="2467" y="10377"/>
                  <a:pt x="2440" y="10272"/>
                  <a:pt x="2381" y="10195"/>
                </a:cubicBezTo>
                <a:cubicBezTo>
                  <a:pt x="2324" y="10121"/>
                  <a:pt x="2263" y="10084"/>
                  <a:pt x="2183" y="10046"/>
                </a:cubicBezTo>
                <a:cubicBezTo>
                  <a:pt x="2081" y="9997"/>
                  <a:pt x="1971" y="9952"/>
                  <a:pt x="1860" y="9947"/>
                </a:cubicBezTo>
                <a:cubicBezTo>
                  <a:pt x="1797" y="9944"/>
                  <a:pt x="1710" y="9945"/>
                  <a:pt x="1662" y="9996"/>
                </a:cubicBezTo>
                <a:cubicBezTo>
                  <a:pt x="1588" y="10074"/>
                  <a:pt x="1572" y="10192"/>
                  <a:pt x="1588" y="10294"/>
                </a:cubicBezTo>
                <a:cubicBezTo>
                  <a:pt x="1610" y="10437"/>
                  <a:pt x="1667" y="10543"/>
                  <a:pt x="1736" y="10666"/>
                </a:cubicBezTo>
                <a:cubicBezTo>
                  <a:pt x="1783" y="10750"/>
                  <a:pt x="1850" y="10852"/>
                  <a:pt x="1885" y="10939"/>
                </a:cubicBezTo>
                <a:cubicBezTo>
                  <a:pt x="1919" y="11024"/>
                  <a:pt x="1943" y="11104"/>
                  <a:pt x="1984" y="11187"/>
                </a:cubicBezTo>
                <a:cubicBezTo>
                  <a:pt x="2009" y="11237"/>
                  <a:pt x="2017" y="11253"/>
                  <a:pt x="2059" y="11261"/>
                </a:cubicBezTo>
              </a:path>
              <a:path w="6897" h="3201">
                <a:moveTo>
                  <a:pt x="3820" y="10889"/>
                </a:moveTo>
                <a:cubicBezTo>
                  <a:pt x="3979" y="10889"/>
                  <a:pt x="4058" y="10961"/>
                  <a:pt x="4217" y="10964"/>
                </a:cubicBezTo>
                <a:cubicBezTo>
                  <a:pt x="4369" y="10967"/>
                  <a:pt x="4523" y="10939"/>
                  <a:pt x="4638" y="10840"/>
                </a:cubicBezTo>
                <a:cubicBezTo>
                  <a:pt x="4701" y="10786"/>
                  <a:pt x="4767" y="10765"/>
                  <a:pt x="4812" y="10691"/>
                </a:cubicBezTo>
                <a:cubicBezTo>
                  <a:pt x="4849" y="10631"/>
                  <a:pt x="4902" y="10515"/>
                  <a:pt x="4887" y="10443"/>
                </a:cubicBezTo>
                <a:cubicBezTo>
                  <a:pt x="4875" y="10387"/>
                  <a:pt x="4846" y="10267"/>
                  <a:pt x="4812" y="10220"/>
                </a:cubicBezTo>
                <a:cubicBezTo>
                  <a:pt x="4762" y="10152"/>
                  <a:pt x="4695" y="10083"/>
                  <a:pt x="4638" y="10021"/>
                </a:cubicBezTo>
                <a:cubicBezTo>
                  <a:pt x="4600" y="9979"/>
                  <a:pt x="4496" y="9953"/>
                  <a:pt x="4440" y="9947"/>
                </a:cubicBezTo>
                <a:cubicBezTo>
                  <a:pt x="4341" y="9937"/>
                  <a:pt x="4236" y="9943"/>
                  <a:pt x="4142" y="9971"/>
                </a:cubicBezTo>
                <a:cubicBezTo>
                  <a:pt x="4059" y="9996"/>
                  <a:pt x="3960" y="10041"/>
                  <a:pt x="3894" y="10096"/>
                </a:cubicBezTo>
                <a:cubicBezTo>
                  <a:pt x="3810" y="10166"/>
                  <a:pt x="3776" y="10237"/>
                  <a:pt x="3770" y="10344"/>
                </a:cubicBezTo>
                <a:cubicBezTo>
                  <a:pt x="3764" y="10454"/>
                  <a:pt x="3775" y="10473"/>
                  <a:pt x="3820" y="10567"/>
                </a:cubicBezTo>
                <a:cubicBezTo>
                  <a:pt x="3846" y="10622"/>
                  <a:pt x="3844" y="10697"/>
                  <a:pt x="3894" y="10740"/>
                </a:cubicBezTo>
                <a:cubicBezTo>
                  <a:pt x="3933" y="10773"/>
                  <a:pt x="4004" y="10865"/>
                  <a:pt x="4043" y="10889"/>
                </a:cubicBezTo>
                <a:cubicBezTo>
                  <a:pt x="4102" y="10926"/>
                  <a:pt x="4187" y="10937"/>
                  <a:pt x="4242" y="10964"/>
                </a:cubicBezTo>
                <a:cubicBezTo>
                  <a:pt x="4250" y="10972"/>
                  <a:pt x="4258" y="10980"/>
                  <a:pt x="4266" y="10988"/>
                </a:cubicBezTo>
              </a:path>
              <a:path w="6897" h="3201">
                <a:moveTo>
                  <a:pt x="5383" y="9847"/>
                </a:moveTo>
                <a:cubicBezTo>
                  <a:pt x="5422" y="9730"/>
                  <a:pt x="5410" y="10240"/>
                  <a:pt x="5407" y="10294"/>
                </a:cubicBezTo>
                <a:cubicBezTo>
                  <a:pt x="5395" y="10501"/>
                  <a:pt x="5359" y="10739"/>
                  <a:pt x="5308" y="10939"/>
                </a:cubicBezTo>
                <a:cubicBezTo>
                  <a:pt x="5300" y="10955"/>
                  <a:pt x="5291" y="10972"/>
                  <a:pt x="5283" y="109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38360" y="3402000"/>
            <a:ext cx="2170440" cy="581040"/>
          </a:xfrm>
          <a:custGeom>
            <a:avLst/>
            <a:gdLst/>
            <a:ahLst/>
            <a:rect l="l" t="t" r="r" b="b"/>
            <a:pathLst>
              <a:path w="6028" h="1613">
                <a:moveTo>
                  <a:pt x="9947" y="9996"/>
                </a:moveTo>
                <a:cubicBezTo>
                  <a:pt x="10118" y="9923"/>
                  <a:pt x="10294" y="9938"/>
                  <a:pt x="10294" y="10195"/>
                </a:cubicBezTo>
                <a:cubicBezTo>
                  <a:pt x="10294" y="10426"/>
                  <a:pt x="9863" y="10521"/>
                  <a:pt x="9699" y="10443"/>
                </a:cubicBezTo>
                <a:cubicBezTo>
                  <a:pt x="9674" y="10410"/>
                  <a:pt x="9649" y="10377"/>
                  <a:pt x="9624" y="10344"/>
                </a:cubicBezTo>
                <a:cubicBezTo>
                  <a:pt x="9810" y="10250"/>
                  <a:pt x="9956" y="10237"/>
                  <a:pt x="10145" y="10368"/>
                </a:cubicBezTo>
                <a:cubicBezTo>
                  <a:pt x="10208" y="10431"/>
                  <a:pt x="10225" y="10440"/>
                  <a:pt x="10244" y="10492"/>
                </a:cubicBezTo>
              </a:path>
              <a:path w="6028" h="1613">
                <a:moveTo>
                  <a:pt x="10567" y="10517"/>
                </a:moveTo>
                <a:cubicBezTo>
                  <a:pt x="10575" y="10550"/>
                  <a:pt x="10584" y="10583"/>
                  <a:pt x="10592" y="10616"/>
                </a:cubicBezTo>
              </a:path>
              <a:path w="6028" h="1613">
                <a:moveTo>
                  <a:pt x="10815" y="9947"/>
                </a:moveTo>
                <a:cubicBezTo>
                  <a:pt x="10837" y="9944"/>
                  <a:pt x="11080" y="9891"/>
                  <a:pt x="11063" y="9996"/>
                </a:cubicBezTo>
                <a:cubicBezTo>
                  <a:pt x="11007" y="10108"/>
                  <a:pt x="10978" y="10143"/>
                  <a:pt x="10864" y="10120"/>
                </a:cubicBezTo>
                <a:cubicBezTo>
                  <a:pt x="10848" y="10128"/>
                  <a:pt x="10831" y="10137"/>
                  <a:pt x="10815" y="10145"/>
                </a:cubicBezTo>
                <a:cubicBezTo>
                  <a:pt x="10980" y="10126"/>
                  <a:pt x="11089" y="10121"/>
                  <a:pt x="11187" y="10294"/>
                </a:cubicBezTo>
                <a:cubicBezTo>
                  <a:pt x="11306" y="10505"/>
                  <a:pt x="10780" y="10355"/>
                  <a:pt x="10740" y="10344"/>
                </a:cubicBezTo>
              </a:path>
              <a:path w="6028" h="1613">
                <a:moveTo>
                  <a:pt x="11460" y="10418"/>
                </a:moveTo>
                <a:cubicBezTo>
                  <a:pt x="11483" y="10508"/>
                  <a:pt x="11491" y="10532"/>
                  <a:pt x="11485" y="10592"/>
                </a:cubicBezTo>
              </a:path>
              <a:path w="6028" h="1613">
                <a:moveTo>
                  <a:pt x="11956" y="9872"/>
                </a:moveTo>
                <a:cubicBezTo>
                  <a:pt x="11857" y="9872"/>
                  <a:pt x="11840" y="9872"/>
                  <a:pt x="11782" y="9872"/>
                </a:cubicBezTo>
                <a:cubicBezTo>
                  <a:pt x="11782" y="10061"/>
                  <a:pt x="11736" y="10077"/>
                  <a:pt x="11906" y="10071"/>
                </a:cubicBezTo>
                <a:cubicBezTo>
                  <a:pt x="12175" y="10061"/>
                  <a:pt x="12384" y="10069"/>
                  <a:pt x="12353" y="10344"/>
                </a:cubicBezTo>
                <a:cubicBezTo>
                  <a:pt x="12152" y="10387"/>
                  <a:pt x="11990" y="10392"/>
                  <a:pt x="11807" y="10294"/>
                </a:cubicBezTo>
              </a:path>
              <a:path w="6028" h="1613">
                <a:moveTo>
                  <a:pt x="12675" y="10443"/>
                </a:moveTo>
                <a:cubicBezTo>
                  <a:pt x="12654" y="10525"/>
                  <a:pt x="12646" y="10541"/>
                  <a:pt x="12650" y="10592"/>
                </a:cubicBezTo>
              </a:path>
              <a:path w="6028" h="1613">
                <a:moveTo>
                  <a:pt x="12923" y="9971"/>
                </a:moveTo>
                <a:cubicBezTo>
                  <a:pt x="12908" y="10072"/>
                  <a:pt x="12839" y="10330"/>
                  <a:pt x="12923" y="10418"/>
                </a:cubicBezTo>
                <a:cubicBezTo>
                  <a:pt x="13075" y="10576"/>
                  <a:pt x="13276" y="10414"/>
                  <a:pt x="13395" y="10319"/>
                </a:cubicBezTo>
                <a:cubicBezTo>
                  <a:pt x="13365" y="10214"/>
                  <a:pt x="13248" y="10191"/>
                  <a:pt x="13146" y="10269"/>
                </a:cubicBezTo>
                <a:cubicBezTo>
                  <a:pt x="13100" y="10340"/>
                  <a:pt x="13084" y="10359"/>
                  <a:pt x="13097" y="10418"/>
                </a:cubicBezTo>
              </a:path>
              <a:path w="6028" h="1613">
                <a:moveTo>
                  <a:pt x="13543" y="10468"/>
                </a:moveTo>
                <a:cubicBezTo>
                  <a:pt x="13543" y="10559"/>
                  <a:pt x="13543" y="10583"/>
                  <a:pt x="13543" y="10641"/>
                </a:cubicBezTo>
              </a:path>
              <a:path w="6028" h="1613">
                <a:moveTo>
                  <a:pt x="14163" y="10170"/>
                </a:moveTo>
                <a:cubicBezTo>
                  <a:pt x="14211" y="10012"/>
                  <a:pt x="14142" y="9930"/>
                  <a:pt x="13965" y="9897"/>
                </a:cubicBezTo>
                <a:cubicBezTo>
                  <a:pt x="13763" y="9860"/>
                  <a:pt x="13747" y="9952"/>
                  <a:pt x="13667" y="10096"/>
                </a:cubicBezTo>
                <a:cubicBezTo>
                  <a:pt x="13805" y="10224"/>
                  <a:pt x="13995" y="10343"/>
                  <a:pt x="14139" y="10120"/>
                </a:cubicBezTo>
                <a:cubicBezTo>
                  <a:pt x="14166" y="10078"/>
                  <a:pt x="14139" y="9971"/>
                  <a:pt x="14139" y="10021"/>
                </a:cubicBezTo>
                <a:cubicBezTo>
                  <a:pt x="14139" y="10181"/>
                  <a:pt x="14133" y="10315"/>
                  <a:pt x="14089" y="10468"/>
                </a:cubicBezTo>
              </a:path>
              <a:path w="6028" h="1613">
                <a:moveTo>
                  <a:pt x="14337" y="10492"/>
                </a:moveTo>
                <a:cubicBezTo>
                  <a:pt x="14329" y="10525"/>
                  <a:pt x="14320" y="10559"/>
                  <a:pt x="14312" y="10592"/>
                </a:cubicBezTo>
              </a:path>
              <a:path w="6028" h="1613">
                <a:moveTo>
                  <a:pt x="14635" y="10046"/>
                </a:moveTo>
                <a:cubicBezTo>
                  <a:pt x="14674" y="10188"/>
                  <a:pt x="14660" y="10341"/>
                  <a:pt x="14660" y="10492"/>
                </a:cubicBezTo>
                <a:cubicBezTo>
                  <a:pt x="14660" y="10500"/>
                  <a:pt x="14660" y="10509"/>
                  <a:pt x="14660" y="10517"/>
                </a:cubicBezTo>
              </a:path>
              <a:path w="6028" h="1613">
                <a:moveTo>
                  <a:pt x="15304" y="10120"/>
                </a:moveTo>
                <a:cubicBezTo>
                  <a:pt x="15102" y="10197"/>
                  <a:pt x="15048" y="10261"/>
                  <a:pt x="15007" y="10468"/>
                </a:cubicBezTo>
                <a:cubicBezTo>
                  <a:pt x="15191" y="10551"/>
                  <a:pt x="15430" y="10665"/>
                  <a:pt x="15553" y="10418"/>
                </a:cubicBezTo>
                <a:cubicBezTo>
                  <a:pt x="15649" y="10226"/>
                  <a:pt x="15505" y="10190"/>
                  <a:pt x="15379" y="10120"/>
                </a:cubicBezTo>
              </a:path>
              <a:path w="6028" h="1613">
                <a:moveTo>
                  <a:pt x="12700" y="10567"/>
                </a:moveTo>
                <a:cubicBezTo>
                  <a:pt x="12670" y="10718"/>
                  <a:pt x="12636" y="10846"/>
                  <a:pt x="12576" y="10988"/>
                </a:cubicBezTo>
              </a:path>
              <a:path w="6028" h="1613">
                <a:moveTo>
                  <a:pt x="10344" y="9674"/>
                </a:moveTo>
                <a:cubicBezTo>
                  <a:pt x="10126" y="9920"/>
                  <a:pt x="9935" y="10190"/>
                  <a:pt x="9723" y="10443"/>
                </a:cubicBezTo>
                <a:cubicBezTo>
                  <a:pt x="9621" y="10565"/>
                  <a:pt x="9599" y="10586"/>
                  <a:pt x="9550" y="10666"/>
                </a:cubicBezTo>
              </a:path>
              <a:path w="6028" h="1613">
                <a:moveTo>
                  <a:pt x="12378" y="9748"/>
                </a:moveTo>
                <a:cubicBezTo>
                  <a:pt x="12303" y="9735"/>
                  <a:pt x="12303" y="9782"/>
                  <a:pt x="12179" y="9971"/>
                </a:cubicBezTo>
                <a:cubicBezTo>
                  <a:pt x="11992" y="10256"/>
                  <a:pt x="11812" y="10537"/>
                  <a:pt x="11584" y="10790"/>
                </a:cubicBezTo>
              </a:path>
              <a:path w="6028" h="1613">
                <a:moveTo>
                  <a:pt x="15528" y="9699"/>
                </a:moveTo>
                <a:lnTo>
                  <a:pt x="15528" y="9699"/>
                </a:lnTo>
              </a:path>
              <a:path w="6028" h="1613">
                <a:moveTo>
                  <a:pt x="14734" y="10567"/>
                </a:moveTo>
                <a:cubicBezTo>
                  <a:pt x="14875" y="10274"/>
                  <a:pt x="15096" y="10079"/>
                  <a:pt x="15329" y="9847"/>
                </a:cubicBezTo>
                <a:cubicBezTo>
                  <a:pt x="15354" y="9822"/>
                  <a:pt x="15379" y="9798"/>
                  <a:pt x="15404" y="9773"/>
                </a:cubicBezTo>
                <a:cubicBezTo>
                  <a:pt x="15216" y="10103"/>
                  <a:pt x="15022" y="10443"/>
                  <a:pt x="14784" y="10740"/>
                </a:cubicBezTo>
                <a:cubicBezTo>
                  <a:pt x="14693" y="10831"/>
                  <a:pt x="14685" y="10839"/>
                  <a:pt x="14635" y="10889"/>
                </a:cubicBezTo>
              </a:path>
              <a:path w="6028" h="1613">
                <a:moveTo>
                  <a:pt x="10393" y="10592"/>
                </a:moveTo>
                <a:cubicBezTo>
                  <a:pt x="10525" y="10679"/>
                  <a:pt x="10633" y="10730"/>
                  <a:pt x="10790" y="10765"/>
                </a:cubicBezTo>
                <a:cubicBezTo>
                  <a:pt x="10987" y="10809"/>
                  <a:pt x="11182" y="10787"/>
                  <a:pt x="11361" y="10691"/>
                </a:cubicBezTo>
                <a:cubicBezTo>
                  <a:pt x="11484" y="10625"/>
                  <a:pt x="11624" y="10462"/>
                  <a:pt x="11658" y="10319"/>
                </a:cubicBezTo>
                <a:cubicBezTo>
                  <a:pt x="11685" y="10209"/>
                  <a:pt x="11650" y="10051"/>
                  <a:pt x="11609" y="9947"/>
                </a:cubicBezTo>
                <a:cubicBezTo>
                  <a:pt x="11572" y="9854"/>
                  <a:pt x="11471" y="9707"/>
                  <a:pt x="11385" y="9649"/>
                </a:cubicBezTo>
                <a:cubicBezTo>
                  <a:pt x="11328" y="9610"/>
                  <a:pt x="11235" y="9561"/>
                  <a:pt x="11162" y="9550"/>
                </a:cubicBezTo>
                <a:cubicBezTo>
                  <a:pt x="11056" y="9534"/>
                  <a:pt x="10949" y="9595"/>
                  <a:pt x="10864" y="9649"/>
                </a:cubicBezTo>
                <a:cubicBezTo>
                  <a:pt x="10784" y="9700"/>
                  <a:pt x="10698" y="9770"/>
                  <a:pt x="10641" y="9847"/>
                </a:cubicBezTo>
                <a:cubicBezTo>
                  <a:pt x="10591" y="9915"/>
                  <a:pt x="10564" y="10017"/>
                  <a:pt x="10542" y="10096"/>
                </a:cubicBezTo>
                <a:cubicBezTo>
                  <a:pt x="10520" y="10175"/>
                  <a:pt x="10498" y="10254"/>
                  <a:pt x="10542" y="10344"/>
                </a:cubicBezTo>
                <a:cubicBezTo>
                  <a:pt x="10591" y="10445"/>
                  <a:pt x="10686" y="10521"/>
                  <a:pt x="10765" y="10592"/>
                </a:cubicBezTo>
                <a:cubicBezTo>
                  <a:pt x="10819" y="10641"/>
                  <a:pt x="10888" y="10677"/>
                  <a:pt x="10939" y="10716"/>
                </a:cubicBezTo>
                <a:cubicBezTo>
                  <a:pt x="10985" y="10762"/>
                  <a:pt x="10999" y="10774"/>
                  <a:pt x="11013" y="10815"/>
                </a:cubicBezTo>
              </a:path>
              <a:path w="6028" h="1613">
                <a:moveTo>
                  <a:pt x="13295" y="9699"/>
                </a:moveTo>
                <a:cubicBezTo>
                  <a:pt x="13295" y="9649"/>
                  <a:pt x="13295" y="9632"/>
                  <a:pt x="13295" y="9599"/>
                </a:cubicBezTo>
                <a:cubicBezTo>
                  <a:pt x="13249" y="9833"/>
                  <a:pt x="13204" y="10062"/>
                  <a:pt x="13146" y="10294"/>
                </a:cubicBezTo>
                <a:cubicBezTo>
                  <a:pt x="13093" y="10508"/>
                  <a:pt x="13041" y="10714"/>
                  <a:pt x="12948" y="10914"/>
                </a:cubicBezTo>
                <a:cubicBezTo>
                  <a:pt x="12924" y="10962"/>
                  <a:pt x="12916" y="10976"/>
                  <a:pt x="12923" y="11013"/>
                </a:cubicBezTo>
              </a:path>
              <a:path w="6028" h="1613">
                <a:moveTo>
                  <a:pt x="14263" y="9500"/>
                </a:moveTo>
                <a:cubicBezTo>
                  <a:pt x="14255" y="9484"/>
                  <a:pt x="14246" y="9467"/>
                  <a:pt x="14238" y="9451"/>
                </a:cubicBezTo>
                <a:cubicBezTo>
                  <a:pt x="14146" y="9496"/>
                  <a:pt x="14160" y="9497"/>
                  <a:pt x="14114" y="9599"/>
                </a:cubicBezTo>
                <a:cubicBezTo>
                  <a:pt x="14030" y="9785"/>
                  <a:pt x="14005" y="9978"/>
                  <a:pt x="13940" y="10170"/>
                </a:cubicBezTo>
                <a:cubicBezTo>
                  <a:pt x="13899" y="10292"/>
                  <a:pt x="13847" y="10430"/>
                  <a:pt x="13791" y="10542"/>
                </a:cubicBezTo>
                <a:cubicBezTo>
                  <a:pt x="13737" y="10651"/>
                  <a:pt x="13693" y="10756"/>
                  <a:pt x="13643" y="10864"/>
                </a:cubicBezTo>
                <a:cubicBezTo>
                  <a:pt x="13612" y="10932"/>
                  <a:pt x="13577" y="10995"/>
                  <a:pt x="13543" y="110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3919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297" y="10889"/>
                </a:moveTo>
                <a:lnTo>
                  <a:pt x="16297" y="1088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70760" y="3394080"/>
            <a:ext cx="2044440" cy="561960"/>
          </a:xfrm>
          <a:custGeom>
            <a:avLst/>
            <a:gdLst/>
            <a:ahLst/>
            <a:rect l="l" t="t" r="r" b="b"/>
            <a:pathLst>
              <a:path w="5681" h="1563">
                <a:moveTo>
                  <a:pt x="17785" y="9971"/>
                </a:moveTo>
                <a:cubicBezTo>
                  <a:pt x="17934" y="9971"/>
                  <a:pt x="18083" y="9982"/>
                  <a:pt x="18107" y="10170"/>
                </a:cubicBezTo>
                <a:cubicBezTo>
                  <a:pt x="18099" y="10220"/>
                  <a:pt x="18091" y="10269"/>
                  <a:pt x="18083" y="10319"/>
                </a:cubicBezTo>
                <a:cubicBezTo>
                  <a:pt x="17830" y="10418"/>
                  <a:pt x="17715" y="10405"/>
                  <a:pt x="17487" y="10244"/>
                </a:cubicBezTo>
                <a:cubicBezTo>
                  <a:pt x="17646" y="10159"/>
                  <a:pt x="17754" y="10135"/>
                  <a:pt x="17884" y="10294"/>
                </a:cubicBezTo>
                <a:cubicBezTo>
                  <a:pt x="17901" y="10327"/>
                  <a:pt x="17917" y="10360"/>
                  <a:pt x="17934" y="10393"/>
                </a:cubicBezTo>
              </a:path>
              <a:path w="5681" h="1563">
                <a:moveTo>
                  <a:pt x="18231" y="10418"/>
                </a:moveTo>
                <a:cubicBezTo>
                  <a:pt x="18254" y="10508"/>
                  <a:pt x="18262" y="10532"/>
                  <a:pt x="18256" y="10592"/>
                </a:cubicBezTo>
              </a:path>
              <a:path w="5681" h="1563">
                <a:moveTo>
                  <a:pt x="18504" y="9922"/>
                </a:moveTo>
                <a:cubicBezTo>
                  <a:pt x="18556" y="9907"/>
                  <a:pt x="18914" y="9798"/>
                  <a:pt x="18827" y="9971"/>
                </a:cubicBezTo>
                <a:cubicBezTo>
                  <a:pt x="18742" y="10028"/>
                  <a:pt x="18705" y="10047"/>
                  <a:pt x="18628" y="10046"/>
                </a:cubicBezTo>
                <a:cubicBezTo>
                  <a:pt x="18620" y="10046"/>
                  <a:pt x="18612" y="10046"/>
                  <a:pt x="18604" y="10046"/>
                </a:cubicBezTo>
                <a:cubicBezTo>
                  <a:pt x="18719" y="10046"/>
                  <a:pt x="18919" y="10070"/>
                  <a:pt x="18901" y="10244"/>
                </a:cubicBezTo>
                <a:cubicBezTo>
                  <a:pt x="18875" y="10496"/>
                  <a:pt x="18556" y="10350"/>
                  <a:pt x="18455" y="10294"/>
                </a:cubicBezTo>
              </a:path>
              <a:path w="5681" h="1563">
                <a:moveTo>
                  <a:pt x="19075" y="10393"/>
                </a:moveTo>
                <a:cubicBezTo>
                  <a:pt x="19067" y="10426"/>
                  <a:pt x="19058" y="10459"/>
                  <a:pt x="19050" y="10492"/>
                </a:cubicBezTo>
              </a:path>
              <a:path w="5681" h="1563">
                <a:moveTo>
                  <a:pt x="19521" y="9847"/>
                </a:moveTo>
                <a:cubicBezTo>
                  <a:pt x="19380" y="9838"/>
                  <a:pt x="19392" y="9805"/>
                  <a:pt x="19323" y="9897"/>
                </a:cubicBezTo>
                <a:cubicBezTo>
                  <a:pt x="19283" y="10036"/>
                  <a:pt x="19484" y="9957"/>
                  <a:pt x="19596" y="10021"/>
                </a:cubicBezTo>
                <a:cubicBezTo>
                  <a:pt x="19770" y="10119"/>
                  <a:pt x="19739" y="10203"/>
                  <a:pt x="19720" y="10368"/>
                </a:cubicBezTo>
                <a:cubicBezTo>
                  <a:pt x="19560" y="10383"/>
                  <a:pt x="19474" y="10374"/>
                  <a:pt x="19323" y="10319"/>
                </a:cubicBezTo>
              </a:path>
              <a:path w="5681" h="1563">
                <a:moveTo>
                  <a:pt x="20067" y="10393"/>
                </a:moveTo>
                <a:cubicBezTo>
                  <a:pt x="20067" y="10468"/>
                  <a:pt x="20067" y="10492"/>
                  <a:pt x="20067" y="10542"/>
                </a:cubicBezTo>
              </a:path>
              <a:path w="5681" h="1563">
                <a:moveTo>
                  <a:pt x="20365" y="9947"/>
                </a:moveTo>
                <a:cubicBezTo>
                  <a:pt x="20342" y="10060"/>
                  <a:pt x="20235" y="10334"/>
                  <a:pt x="20365" y="10418"/>
                </a:cubicBezTo>
                <a:cubicBezTo>
                  <a:pt x="20489" y="10498"/>
                  <a:pt x="20737" y="10406"/>
                  <a:pt x="20811" y="10294"/>
                </a:cubicBezTo>
                <a:cubicBezTo>
                  <a:pt x="20811" y="10277"/>
                  <a:pt x="20811" y="10261"/>
                  <a:pt x="20811" y="10244"/>
                </a:cubicBezTo>
                <a:cubicBezTo>
                  <a:pt x="20739" y="10164"/>
                  <a:pt x="20612" y="10086"/>
                  <a:pt x="20513" y="10220"/>
                </a:cubicBezTo>
                <a:cubicBezTo>
                  <a:pt x="20505" y="10253"/>
                  <a:pt x="20497" y="10286"/>
                  <a:pt x="20489" y="10319"/>
                </a:cubicBezTo>
              </a:path>
              <a:path w="5681" h="1563">
                <a:moveTo>
                  <a:pt x="20935" y="10393"/>
                </a:moveTo>
                <a:cubicBezTo>
                  <a:pt x="20935" y="10426"/>
                  <a:pt x="20935" y="10459"/>
                  <a:pt x="20935" y="10492"/>
                </a:cubicBezTo>
              </a:path>
              <a:path w="5681" h="1563">
                <a:moveTo>
                  <a:pt x="21630" y="10071"/>
                </a:moveTo>
                <a:cubicBezTo>
                  <a:pt x="21602" y="9943"/>
                  <a:pt x="21504" y="9831"/>
                  <a:pt x="21357" y="9823"/>
                </a:cubicBezTo>
                <a:cubicBezTo>
                  <a:pt x="21257" y="9847"/>
                  <a:pt x="21223" y="9856"/>
                  <a:pt x="21183" y="9922"/>
                </a:cubicBezTo>
                <a:cubicBezTo>
                  <a:pt x="21260" y="10075"/>
                  <a:pt x="21363" y="10138"/>
                  <a:pt x="21530" y="10021"/>
                </a:cubicBezTo>
                <a:cubicBezTo>
                  <a:pt x="21619" y="9959"/>
                  <a:pt x="21525" y="10199"/>
                  <a:pt x="21506" y="10294"/>
                </a:cubicBezTo>
              </a:path>
              <a:path w="5681" h="1563">
                <a:moveTo>
                  <a:pt x="21679" y="10443"/>
                </a:moveTo>
                <a:cubicBezTo>
                  <a:pt x="21663" y="10468"/>
                  <a:pt x="21646" y="10492"/>
                  <a:pt x="21630" y="10517"/>
                </a:cubicBezTo>
              </a:path>
              <a:path w="5681" h="1563">
                <a:moveTo>
                  <a:pt x="22051" y="9996"/>
                </a:moveTo>
                <a:cubicBezTo>
                  <a:pt x="22051" y="10126"/>
                  <a:pt x="22055" y="10241"/>
                  <a:pt x="22076" y="10368"/>
                </a:cubicBezTo>
              </a:path>
              <a:path w="5681" h="1563">
                <a:moveTo>
                  <a:pt x="22647" y="9971"/>
                </a:moveTo>
                <a:cubicBezTo>
                  <a:pt x="22506" y="9941"/>
                  <a:pt x="22361" y="10099"/>
                  <a:pt x="22324" y="10244"/>
                </a:cubicBezTo>
                <a:cubicBezTo>
                  <a:pt x="22332" y="10277"/>
                  <a:pt x="22341" y="10311"/>
                  <a:pt x="22349" y="10344"/>
                </a:cubicBezTo>
                <a:cubicBezTo>
                  <a:pt x="22483" y="10424"/>
                  <a:pt x="22724" y="10478"/>
                  <a:pt x="22820" y="10269"/>
                </a:cubicBezTo>
                <a:cubicBezTo>
                  <a:pt x="22886" y="10127"/>
                  <a:pt x="22729" y="10042"/>
                  <a:pt x="22647" y="9971"/>
                </a:cubicBezTo>
              </a:path>
              <a:path w="5681" h="1563">
                <a:moveTo>
                  <a:pt x="17785" y="9674"/>
                </a:moveTo>
                <a:cubicBezTo>
                  <a:pt x="17656" y="9682"/>
                  <a:pt x="17518" y="9687"/>
                  <a:pt x="17413" y="9773"/>
                </a:cubicBezTo>
                <a:cubicBezTo>
                  <a:pt x="17302" y="9864"/>
                  <a:pt x="17214" y="9963"/>
                  <a:pt x="17165" y="10096"/>
                </a:cubicBezTo>
                <a:cubicBezTo>
                  <a:pt x="17126" y="10200"/>
                  <a:pt x="17127" y="10314"/>
                  <a:pt x="17165" y="10418"/>
                </a:cubicBezTo>
                <a:cubicBezTo>
                  <a:pt x="17195" y="10500"/>
                  <a:pt x="17256" y="10579"/>
                  <a:pt x="17314" y="10641"/>
                </a:cubicBezTo>
                <a:cubicBezTo>
                  <a:pt x="17401" y="10733"/>
                  <a:pt x="17492" y="10716"/>
                  <a:pt x="17611" y="10716"/>
                </a:cubicBezTo>
                <a:cubicBezTo>
                  <a:pt x="17712" y="10716"/>
                  <a:pt x="17842" y="10687"/>
                  <a:pt x="17934" y="10641"/>
                </a:cubicBezTo>
                <a:cubicBezTo>
                  <a:pt x="18006" y="10605"/>
                  <a:pt x="18071" y="10574"/>
                  <a:pt x="18132" y="10517"/>
                </a:cubicBezTo>
                <a:cubicBezTo>
                  <a:pt x="18193" y="10460"/>
                  <a:pt x="18248" y="10429"/>
                  <a:pt x="18306" y="10368"/>
                </a:cubicBezTo>
                <a:cubicBezTo>
                  <a:pt x="18381" y="10289"/>
                  <a:pt x="18399" y="10256"/>
                  <a:pt x="18405" y="10145"/>
                </a:cubicBezTo>
                <a:cubicBezTo>
                  <a:pt x="18410" y="10058"/>
                  <a:pt x="18349" y="10015"/>
                  <a:pt x="18306" y="9947"/>
                </a:cubicBezTo>
                <a:cubicBezTo>
                  <a:pt x="18265" y="9881"/>
                  <a:pt x="18215" y="9846"/>
                  <a:pt x="18157" y="9798"/>
                </a:cubicBezTo>
                <a:cubicBezTo>
                  <a:pt x="18101" y="9751"/>
                  <a:pt x="18048" y="9747"/>
                  <a:pt x="17983" y="9723"/>
                </a:cubicBezTo>
                <a:cubicBezTo>
                  <a:pt x="17904" y="9694"/>
                  <a:pt x="17896" y="9718"/>
                  <a:pt x="17810" y="9723"/>
                </a:cubicBezTo>
                <a:cubicBezTo>
                  <a:pt x="17720" y="9728"/>
                  <a:pt x="17668" y="9737"/>
                  <a:pt x="17587" y="9773"/>
                </a:cubicBezTo>
                <a:cubicBezTo>
                  <a:pt x="17543" y="9795"/>
                  <a:pt x="17531" y="9798"/>
                  <a:pt x="17512" y="9823"/>
                </a:cubicBezTo>
              </a:path>
              <a:path w="5681" h="1563">
                <a:moveTo>
                  <a:pt x="19670" y="9550"/>
                </a:moveTo>
                <a:cubicBezTo>
                  <a:pt x="19523" y="9949"/>
                  <a:pt x="19450" y="10363"/>
                  <a:pt x="19323" y="10765"/>
                </a:cubicBezTo>
                <a:cubicBezTo>
                  <a:pt x="19293" y="10795"/>
                  <a:pt x="19288" y="10809"/>
                  <a:pt x="19323" y="10840"/>
                </a:cubicBezTo>
              </a:path>
              <a:path w="5681" h="1563">
                <a:moveTo>
                  <a:pt x="22771" y="9475"/>
                </a:moveTo>
                <a:cubicBezTo>
                  <a:pt x="22699" y="9381"/>
                  <a:pt x="22497" y="10140"/>
                  <a:pt x="22473" y="10195"/>
                </a:cubicBezTo>
                <a:cubicBezTo>
                  <a:pt x="22365" y="10450"/>
                  <a:pt x="22239" y="10700"/>
                  <a:pt x="22101" y="10939"/>
                </a:cubicBezTo>
              </a:path>
              <a:path w="5681" h="1563">
                <a:moveTo>
                  <a:pt x="19050" y="9649"/>
                </a:moveTo>
                <a:cubicBezTo>
                  <a:pt x="19032" y="9631"/>
                  <a:pt x="18700" y="10223"/>
                  <a:pt x="18628" y="10344"/>
                </a:cubicBezTo>
                <a:cubicBezTo>
                  <a:pt x="18567" y="10447"/>
                  <a:pt x="18469" y="10622"/>
                  <a:pt x="18405" y="10740"/>
                </a:cubicBezTo>
              </a:path>
              <a:path w="5681" h="1563">
                <a:moveTo>
                  <a:pt x="20588" y="9699"/>
                </a:moveTo>
                <a:cubicBezTo>
                  <a:pt x="20588" y="9666"/>
                  <a:pt x="20588" y="9649"/>
                  <a:pt x="20588" y="9624"/>
                </a:cubicBezTo>
                <a:cubicBezTo>
                  <a:pt x="20588" y="9581"/>
                  <a:pt x="20442" y="10395"/>
                  <a:pt x="20414" y="10517"/>
                </a:cubicBezTo>
                <a:cubicBezTo>
                  <a:pt x="20376" y="10682"/>
                  <a:pt x="20346" y="10845"/>
                  <a:pt x="20265" y="10988"/>
                </a:cubicBezTo>
              </a:path>
              <a:path w="5681" h="1563">
                <a:moveTo>
                  <a:pt x="21580" y="9550"/>
                </a:moveTo>
                <a:cubicBezTo>
                  <a:pt x="21580" y="9422"/>
                  <a:pt x="21394" y="10259"/>
                  <a:pt x="21382" y="10294"/>
                </a:cubicBezTo>
                <a:cubicBezTo>
                  <a:pt x="21356" y="10371"/>
                  <a:pt x="21165" y="10732"/>
                  <a:pt x="21208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24000" y="4116240"/>
            <a:ext cx="1731960" cy="455760"/>
          </a:xfrm>
          <a:custGeom>
            <a:avLst/>
            <a:gdLst/>
            <a:ahLst/>
            <a:rect l="l" t="t" r="r" b="b"/>
            <a:pathLst>
              <a:path w="4813" h="1266">
                <a:moveTo>
                  <a:pt x="3497" y="12005"/>
                </a:moveTo>
                <a:cubicBezTo>
                  <a:pt x="3357" y="12170"/>
                  <a:pt x="3385" y="12167"/>
                  <a:pt x="3572" y="12129"/>
                </a:cubicBezTo>
              </a:path>
              <a:path w="4813" h="1266">
                <a:moveTo>
                  <a:pt x="3671" y="11881"/>
                </a:moveTo>
                <a:cubicBezTo>
                  <a:pt x="3671" y="12032"/>
                  <a:pt x="3640" y="12159"/>
                  <a:pt x="3597" y="12303"/>
                </a:cubicBezTo>
                <a:cubicBezTo>
                  <a:pt x="3589" y="12328"/>
                  <a:pt x="3580" y="12353"/>
                  <a:pt x="3572" y="12378"/>
                </a:cubicBezTo>
              </a:path>
              <a:path w="4813" h="1266">
                <a:moveTo>
                  <a:pt x="3944" y="12030"/>
                </a:moveTo>
                <a:cubicBezTo>
                  <a:pt x="3930" y="12152"/>
                  <a:pt x="3919" y="12256"/>
                  <a:pt x="3919" y="12378"/>
                </a:cubicBezTo>
              </a:path>
              <a:path w="4813" h="1266">
                <a:moveTo>
                  <a:pt x="3845" y="12204"/>
                </a:moveTo>
                <a:cubicBezTo>
                  <a:pt x="3924" y="12199"/>
                  <a:pt x="3991" y="12188"/>
                  <a:pt x="4068" y="12179"/>
                </a:cubicBezTo>
              </a:path>
              <a:path w="4813" h="1266">
                <a:moveTo>
                  <a:pt x="4266" y="12005"/>
                </a:moveTo>
                <a:cubicBezTo>
                  <a:pt x="4362" y="11974"/>
                  <a:pt x="4464" y="11962"/>
                  <a:pt x="4564" y="11931"/>
                </a:cubicBezTo>
                <a:cubicBezTo>
                  <a:pt x="4556" y="12091"/>
                  <a:pt x="4551" y="12215"/>
                  <a:pt x="4465" y="12353"/>
                </a:cubicBezTo>
              </a:path>
              <a:path w="4813" h="1266">
                <a:moveTo>
                  <a:pt x="4738" y="12154"/>
                </a:moveTo>
                <a:cubicBezTo>
                  <a:pt x="4835" y="12124"/>
                  <a:pt x="4910" y="12111"/>
                  <a:pt x="5011" y="12105"/>
                </a:cubicBezTo>
              </a:path>
              <a:path w="4813" h="1266">
                <a:moveTo>
                  <a:pt x="4762" y="12303"/>
                </a:moveTo>
                <a:cubicBezTo>
                  <a:pt x="4868" y="12303"/>
                  <a:pt x="4957" y="12279"/>
                  <a:pt x="5060" y="12254"/>
                </a:cubicBezTo>
              </a:path>
              <a:path w="4813" h="1266">
                <a:moveTo>
                  <a:pt x="5358" y="11881"/>
                </a:moveTo>
                <a:cubicBezTo>
                  <a:pt x="5358" y="12041"/>
                  <a:pt x="5342" y="12194"/>
                  <a:pt x="5333" y="12353"/>
                </a:cubicBezTo>
              </a:path>
              <a:path w="4813" h="1266">
                <a:moveTo>
                  <a:pt x="5953" y="11857"/>
                </a:moveTo>
                <a:cubicBezTo>
                  <a:pt x="5925" y="12022"/>
                  <a:pt x="5891" y="12187"/>
                  <a:pt x="5879" y="12353"/>
                </a:cubicBezTo>
              </a:path>
              <a:path w="4813" h="1266">
                <a:moveTo>
                  <a:pt x="5606" y="11981"/>
                </a:moveTo>
                <a:cubicBezTo>
                  <a:pt x="5589" y="12047"/>
                  <a:pt x="5581" y="12085"/>
                  <a:pt x="5581" y="12154"/>
                </a:cubicBezTo>
              </a:path>
              <a:path w="4813" h="1266">
                <a:moveTo>
                  <a:pt x="5507" y="12105"/>
                </a:moveTo>
                <a:cubicBezTo>
                  <a:pt x="5591" y="12086"/>
                  <a:pt x="5671" y="12064"/>
                  <a:pt x="5755" y="12055"/>
                </a:cubicBezTo>
              </a:path>
              <a:path w="4813" h="1266">
                <a:moveTo>
                  <a:pt x="6400" y="11981"/>
                </a:moveTo>
                <a:cubicBezTo>
                  <a:pt x="6468" y="11951"/>
                  <a:pt x="6566" y="11943"/>
                  <a:pt x="6648" y="11931"/>
                </a:cubicBezTo>
              </a:path>
              <a:path w="4813" h="1266">
                <a:moveTo>
                  <a:pt x="6375" y="12129"/>
                </a:moveTo>
                <a:cubicBezTo>
                  <a:pt x="6472" y="12091"/>
                  <a:pt x="6568" y="12066"/>
                  <a:pt x="6672" y="12055"/>
                </a:cubicBezTo>
              </a:path>
              <a:path w="4813" h="1266">
                <a:moveTo>
                  <a:pt x="7243" y="11857"/>
                </a:moveTo>
                <a:cubicBezTo>
                  <a:pt x="7347" y="11792"/>
                  <a:pt x="7396" y="11772"/>
                  <a:pt x="7516" y="11757"/>
                </a:cubicBezTo>
                <a:cubicBezTo>
                  <a:pt x="7587" y="11918"/>
                  <a:pt x="7538" y="12044"/>
                  <a:pt x="7417" y="12179"/>
                </a:cubicBezTo>
                <a:cubicBezTo>
                  <a:pt x="7326" y="12281"/>
                  <a:pt x="7198" y="12343"/>
                  <a:pt x="7094" y="12427"/>
                </a:cubicBezTo>
                <a:cubicBezTo>
                  <a:pt x="7285" y="12387"/>
                  <a:pt x="7422" y="12344"/>
                  <a:pt x="7615" y="12378"/>
                </a:cubicBezTo>
              </a:path>
              <a:path w="4813" h="1266">
                <a:moveTo>
                  <a:pt x="7020" y="12626"/>
                </a:moveTo>
                <a:cubicBezTo>
                  <a:pt x="7314" y="12659"/>
                  <a:pt x="7598" y="12667"/>
                  <a:pt x="7863" y="12526"/>
                </a:cubicBezTo>
                <a:cubicBezTo>
                  <a:pt x="8050" y="12426"/>
                  <a:pt x="8168" y="12212"/>
                  <a:pt x="8210" y="12005"/>
                </a:cubicBezTo>
                <a:cubicBezTo>
                  <a:pt x="8259" y="11763"/>
                  <a:pt x="8104" y="11635"/>
                  <a:pt x="7913" y="11534"/>
                </a:cubicBezTo>
                <a:cubicBezTo>
                  <a:pt x="7716" y="11429"/>
                  <a:pt x="7460" y="11395"/>
                  <a:pt x="7243" y="11460"/>
                </a:cubicBezTo>
                <a:cubicBezTo>
                  <a:pt x="7028" y="11524"/>
                  <a:pt x="6865" y="11625"/>
                  <a:pt x="6772" y="11832"/>
                </a:cubicBezTo>
                <a:cubicBezTo>
                  <a:pt x="6700" y="11993"/>
                  <a:pt x="6635" y="12257"/>
                  <a:pt x="6697" y="12427"/>
                </a:cubicBezTo>
                <a:cubicBezTo>
                  <a:pt x="6764" y="12611"/>
                  <a:pt x="7036" y="12700"/>
                  <a:pt x="7218" y="12700"/>
                </a:cubicBezTo>
                <a:cubicBezTo>
                  <a:pt x="7243" y="12692"/>
                  <a:pt x="7268" y="12683"/>
                  <a:pt x="7293" y="126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46720" y="4197240"/>
            <a:ext cx="1366560" cy="401760"/>
          </a:xfrm>
          <a:custGeom>
            <a:avLst/>
            <a:gdLst/>
            <a:ahLst/>
            <a:rect l="l" t="t" r="r" b="b"/>
            <a:pathLst>
              <a:path w="3796" h="1117">
                <a:moveTo>
                  <a:pt x="12526" y="11906"/>
                </a:moveTo>
                <a:cubicBezTo>
                  <a:pt x="12462" y="12078"/>
                  <a:pt x="12406" y="12251"/>
                  <a:pt x="12353" y="12427"/>
                </a:cubicBezTo>
              </a:path>
              <a:path w="3796" h="1117">
                <a:moveTo>
                  <a:pt x="12700" y="11981"/>
                </a:moveTo>
                <a:cubicBezTo>
                  <a:pt x="12724" y="12098"/>
                  <a:pt x="12725" y="12206"/>
                  <a:pt x="12725" y="12328"/>
                </a:cubicBezTo>
              </a:path>
              <a:path w="3796" h="1117">
                <a:moveTo>
                  <a:pt x="12626" y="12129"/>
                </a:moveTo>
                <a:cubicBezTo>
                  <a:pt x="12773" y="12170"/>
                  <a:pt x="12941" y="12154"/>
                  <a:pt x="13072" y="12055"/>
                </a:cubicBezTo>
                <a:cubicBezTo>
                  <a:pt x="13080" y="12038"/>
                  <a:pt x="13089" y="12022"/>
                  <a:pt x="13097" y="12005"/>
                </a:cubicBezTo>
                <a:cubicBezTo>
                  <a:pt x="13049" y="12135"/>
                  <a:pt x="13029" y="12238"/>
                  <a:pt x="13022" y="12378"/>
                </a:cubicBezTo>
                <a:cubicBezTo>
                  <a:pt x="13150" y="12341"/>
                  <a:pt x="13460" y="12133"/>
                  <a:pt x="13246" y="11956"/>
                </a:cubicBezTo>
                <a:cubicBezTo>
                  <a:pt x="13156" y="11956"/>
                  <a:pt x="13130" y="11949"/>
                  <a:pt x="13097" y="12005"/>
                </a:cubicBezTo>
              </a:path>
              <a:path w="3796" h="1117">
                <a:moveTo>
                  <a:pt x="13519" y="12204"/>
                </a:moveTo>
                <a:cubicBezTo>
                  <a:pt x="13519" y="12328"/>
                  <a:pt x="13519" y="12353"/>
                  <a:pt x="13519" y="12427"/>
                </a:cubicBezTo>
              </a:path>
              <a:path w="3796" h="1117">
                <a:moveTo>
                  <a:pt x="13444" y="12229"/>
                </a:moveTo>
                <a:cubicBezTo>
                  <a:pt x="13503" y="12229"/>
                  <a:pt x="13544" y="12222"/>
                  <a:pt x="13593" y="12204"/>
                </a:cubicBezTo>
              </a:path>
              <a:path w="3796" h="1117">
                <a:moveTo>
                  <a:pt x="13965" y="12154"/>
                </a:moveTo>
                <a:cubicBezTo>
                  <a:pt x="13833" y="12242"/>
                  <a:pt x="13805" y="12300"/>
                  <a:pt x="13816" y="12452"/>
                </a:cubicBezTo>
                <a:cubicBezTo>
                  <a:pt x="13906" y="12447"/>
                  <a:pt x="14237" y="12301"/>
                  <a:pt x="14064" y="12129"/>
                </a:cubicBezTo>
                <a:cubicBezTo>
                  <a:pt x="14023" y="12121"/>
                  <a:pt x="13981" y="12113"/>
                  <a:pt x="13940" y="12105"/>
                </a:cubicBezTo>
              </a:path>
              <a:path w="3796" h="1117">
                <a:moveTo>
                  <a:pt x="14288" y="12278"/>
                </a:moveTo>
                <a:cubicBezTo>
                  <a:pt x="14333" y="12392"/>
                  <a:pt x="14349" y="12422"/>
                  <a:pt x="14337" y="12502"/>
                </a:cubicBezTo>
              </a:path>
              <a:path w="3796" h="1117">
                <a:moveTo>
                  <a:pt x="14188" y="12303"/>
                </a:moveTo>
                <a:cubicBezTo>
                  <a:pt x="14259" y="12268"/>
                  <a:pt x="14299" y="12255"/>
                  <a:pt x="14362" y="12254"/>
                </a:cubicBezTo>
              </a:path>
              <a:path w="3796" h="1117">
                <a:moveTo>
                  <a:pt x="14536" y="12105"/>
                </a:moveTo>
                <a:cubicBezTo>
                  <a:pt x="14432" y="12228"/>
                  <a:pt x="14445" y="12259"/>
                  <a:pt x="14461" y="12427"/>
                </a:cubicBezTo>
                <a:cubicBezTo>
                  <a:pt x="14592" y="12465"/>
                  <a:pt x="14822" y="12426"/>
                  <a:pt x="14759" y="12204"/>
                </a:cubicBezTo>
                <a:cubicBezTo>
                  <a:pt x="14679" y="12098"/>
                  <a:pt x="14645" y="12064"/>
                  <a:pt x="14536" y="12080"/>
                </a:cubicBezTo>
              </a:path>
              <a:path w="3796" h="1117">
                <a:moveTo>
                  <a:pt x="14982" y="12154"/>
                </a:moveTo>
                <a:cubicBezTo>
                  <a:pt x="15081" y="12154"/>
                  <a:pt x="15098" y="12154"/>
                  <a:pt x="15156" y="12154"/>
                </a:cubicBezTo>
              </a:path>
              <a:path w="3796" h="1117">
                <a:moveTo>
                  <a:pt x="14883" y="12427"/>
                </a:moveTo>
                <a:cubicBezTo>
                  <a:pt x="15009" y="12402"/>
                  <a:pt x="15053" y="12392"/>
                  <a:pt x="15131" y="12353"/>
                </a:cubicBezTo>
              </a:path>
              <a:path w="3796" h="1117">
                <a:moveTo>
                  <a:pt x="15528" y="12030"/>
                </a:moveTo>
                <a:cubicBezTo>
                  <a:pt x="15560" y="12191"/>
                  <a:pt x="15565" y="12315"/>
                  <a:pt x="15553" y="12477"/>
                </a:cubicBezTo>
              </a:path>
              <a:path w="3796" h="1117">
                <a:moveTo>
                  <a:pt x="15255" y="12551"/>
                </a:moveTo>
                <a:cubicBezTo>
                  <a:pt x="15485" y="12761"/>
                  <a:pt x="15769" y="12900"/>
                  <a:pt x="16024" y="12576"/>
                </a:cubicBezTo>
                <a:cubicBezTo>
                  <a:pt x="16273" y="12259"/>
                  <a:pt x="16185" y="11791"/>
                  <a:pt x="15776" y="11683"/>
                </a:cubicBezTo>
                <a:cubicBezTo>
                  <a:pt x="15212" y="11534"/>
                  <a:pt x="14947" y="12041"/>
                  <a:pt x="15180" y="12526"/>
                </a:cubicBezTo>
                <a:cubicBezTo>
                  <a:pt x="15246" y="12592"/>
                  <a:pt x="15313" y="12659"/>
                  <a:pt x="15379" y="127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72200" y="4224240"/>
            <a:ext cx="1643040" cy="384120"/>
          </a:xfrm>
          <a:custGeom>
            <a:avLst/>
            <a:gdLst/>
            <a:ahLst/>
            <a:rect l="l" t="t" r="r" b="b"/>
            <a:pathLst>
              <a:path w="4565" h="1067">
                <a:moveTo>
                  <a:pt x="19918" y="12154"/>
                </a:moveTo>
                <a:cubicBezTo>
                  <a:pt x="20087" y="12080"/>
                  <a:pt x="20082" y="12247"/>
                  <a:pt x="19993" y="12378"/>
                </a:cubicBezTo>
                <a:cubicBezTo>
                  <a:pt x="19931" y="12439"/>
                  <a:pt x="19925" y="12463"/>
                  <a:pt x="19869" y="12452"/>
                </a:cubicBezTo>
                <a:cubicBezTo>
                  <a:pt x="20048" y="12356"/>
                  <a:pt x="20113" y="12479"/>
                  <a:pt x="19968" y="12650"/>
                </a:cubicBezTo>
                <a:cubicBezTo>
                  <a:pt x="19847" y="12793"/>
                  <a:pt x="19761" y="12720"/>
                  <a:pt x="19645" y="12650"/>
                </a:cubicBezTo>
              </a:path>
              <a:path w="4565" h="1067">
                <a:moveTo>
                  <a:pt x="20265" y="12204"/>
                </a:moveTo>
                <a:cubicBezTo>
                  <a:pt x="20305" y="12338"/>
                  <a:pt x="20347" y="12465"/>
                  <a:pt x="20365" y="12601"/>
                </a:cubicBezTo>
              </a:path>
              <a:path w="4565" h="1067">
                <a:moveTo>
                  <a:pt x="20141" y="12402"/>
                </a:moveTo>
                <a:cubicBezTo>
                  <a:pt x="20272" y="12350"/>
                  <a:pt x="20321" y="12331"/>
                  <a:pt x="20414" y="12303"/>
                </a:cubicBezTo>
              </a:path>
              <a:path w="4565" h="1067">
                <a:moveTo>
                  <a:pt x="20687" y="12229"/>
                </a:moveTo>
                <a:cubicBezTo>
                  <a:pt x="20615" y="12341"/>
                  <a:pt x="20576" y="12425"/>
                  <a:pt x="20538" y="12551"/>
                </a:cubicBezTo>
                <a:cubicBezTo>
                  <a:pt x="20672" y="12563"/>
                  <a:pt x="20865" y="12495"/>
                  <a:pt x="20811" y="12303"/>
                </a:cubicBezTo>
                <a:cubicBezTo>
                  <a:pt x="20746" y="12216"/>
                  <a:pt x="20735" y="12188"/>
                  <a:pt x="20662" y="12179"/>
                </a:cubicBezTo>
              </a:path>
              <a:path w="4565" h="1067">
                <a:moveTo>
                  <a:pt x="20960" y="12254"/>
                </a:moveTo>
                <a:cubicBezTo>
                  <a:pt x="20997" y="12360"/>
                  <a:pt x="21024" y="12439"/>
                  <a:pt x="21034" y="12551"/>
                </a:cubicBezTo>
              </a:path>
              <a:path w="4565" h="1067">
                <a:moveTo>
                  <a:pt x="20960" y="12402"/>
                </a:moveTo>
                <a:cubicBezTo>
                  <a:pt x="21001" y="12377"/>
                  <a:pt x="21043" y="12353"/>
                  <a:pt x="21084" y="12328"/>
                </a:cubicBezTo>
              </a:path>
              <a:path w="4565" h="1067">
                <a:moveTo>
                  <a:pt x="21382" y="12229"/>
                </a:moveTo>
                <a:cubicBezTo>
                  <a:pt x="21413" y="12134"/>
                  <a:pt x="21439" y="12126"/>
                  <a:pt x="21530" y="12080"/>
                </a:cubicBezTo>
                <a:cubicBezTo>
                  <a:pt x="21590" y="12229"/>
                  <a:pt x="21563" y="12268"/>
                  <a:pt x="21481" y="12402"/>
                </a:cubicBezTo>
                <a:cubicBezTo>
                  <a:pt x="21556" y="12327"/>
                  <a:pt x="21730" y="12298"/>
                  <a:pt x="21630" y="12477"/>
                </a:cubicBezTo>
                <a:cubicBezTo>
                  <a:pt x="21552" y="12617"/>
                  <a:pt x="21430" y="12582"/>
                  <a:pt x="21307" y="12576"/>
                </a:cubicBezTo>
              </a:path>
              <a:path w="4565" h="1067">
                <a:moveTo>
                  <a:pt x="21853" y="12179"/>
                </a:moveTo>
                <a:cubicBezTo>
                  <a:pt x="21873" y="12296"/>
                  <a:pt x="21895" y="12409"/>
                  <a:pt x="21903" y="12526"/>
                </a:cubicBezTo>
              </a:path>
              <a:path w="4565" h="1067">
                <a:moveTo>
                  <a:pt x="21803" y="12353"/>
                </a:moveTo>
                <a:cubicBezTo>
                  <a:pt x="21844" y="12336"/>
                  <a:pt x="21886" y="12320"/>
                  <a:pt x="21927" y="12303"/>
                </a:cubicBezTo>
              </a:path>
              <a:path w="4565" h="1067">
                <a:moveTo>
                  <a:pt x="22275" y="12229"/>
                </a:moveTo>
                <a:cubicBezTo>
                  <a:pt x="22107" y="12285"/>
                  <a:pt x="22100" y="12413"/>
                  <a:pt x="22076" y="12576"/>
                </a:cubicBezTo>
                <a:cubicBezTo>
                  <a:pt x="22229" y="12609"/>
                  <a:pt x="22443" y="12603"/>
                  <a:pt x="22448" y="12378"/>
                </a:cubicBezTo>
                <a:cubicBezTo>
                  <a:pt x="22452" y="12222"/>
                  <a:pt x="22307" y="12217"/>
                  <a:pt x="22200" y="12179"/>
                </a:cubicBezTo>
              </a:path>
              <a:path w="4565" h="1067">
                <a:moveTo>
                  <a:pt x="22771" y="12229"/>
                </a:moveTo>
                <a:cubicBezTo>
                  <a:pt x="22839" y="12224"/>
                  <a:pt x="22902" y="12214"/>
                  <a:pt x="22969" y="12204"/>
                </a:cubicBezTo>
              </a:path>
              <a:path w="4565" h="1067">
                <a:moveTo>
                  <a:pt x="22820" y="12402"/>
                </a:moveTo>
                <a:cubicBezTo>
                  <a:pt x="22894" y="12384"/>
                  <a:pt x="22969" y="12364"/>
                  <a:pt x="23044" y="12353"/>
                </a:cubicBezTo>
              </a:path>
              <a:path w="4565" h="1067">
                <a:moveTo>
                  <a:pt x="23515" y="12080"/>
                </a:moveTo>
                <a:cubicBezTo>
                  <a:pt x="23482" y="12228"/>
                  <a:pt x="23416" y="12398"/>
                  <a:pt x="23490" y="12551"/>
                </a:cubicBezTo>
                <a:cubicBezTo>
                  <a:pt x="23595" y="12768"/>
                  <a:pt x="23837" y="12491"/>
                  <a:pt x="23837" y="12353"/>
                </a:cubicBezTo>
                <a:cubicBezTo>
                  <a:pt x="23837" y="12258"/>
                  <a:pt x="23698" y="12428"/>
                  <a:pt x="23639" y="12502"/>
                </a:cubicBezTo>
              </a:path>
              <a:path w="4565" h="1067">
                <a:moveTo>
                  <a:pt x="23540" y="12799"/>
                </a:moveTo>
                <a:cubicBezTo>
                  <a:pt x="23831" y="12770"/>
                  <a:pt x="24043" y="12736"/>
                  <a:pt x="24160" y="12427"/>
                </a:cubicBezTo>
                <a:cubicBezTo>
                  <a:pt x="24258" y="12167"/>
                  <a:pt x="24159" y="11843"/>
                  <a:pt x="23862" y="11757"/>
                </a:cubicBezTo>
                <a:cubicBezTo>
                  <a:pt x="23418" y="11629"/>
                  <a:pt x="22955" y="11927"/>
                  <a:pt x="23093" y="12427"/>
                </a:cubicBezTo>
                <a:cubicBezTo>
                  <a:pt x="23151" y="12510"/>
                  <a:pt x="23209" y="12592"/>
                  <a:pt x="23267" y="126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9920" y="4875120"/>
            <a:ext cx="2187360" cy="1063800"/>
          </a:xfrm>
          <a:custGeom>
            <a:avLst/>
            <a:gdLst/>
            <a:ahLst/>
            <a:rect l="l" t="t" r="r" b="b"/>
            <a:pathLst>
              <a:path w="6078" h="2953">
                <a:moveTo>
                  <a:pt x="1339" y="15925"/>
                </a:moveTo>
                <a:cubicBezTo>
                  <a:pt x="1339" y="16009"/>
                  <a:pt x="1346" y="16029"/>
                  <a:pt x="1315" y="16073"/>
                </a:cubicBezTo>
              </a:path>
              <a:path w="6078" h="2953">
                <a:moveTo>
                  <a:pt x="2381" y="16049"/>
                </a:moveTo>
                <a:cubicBezTo>
                  <a:pt x="2373" y="16074"/>
                  <a:pt x="2364" y="16098"/>
                  <a:pt x="2356" y="16123"/>
                </a:cubicBezTo>
              </a:path>
              <a:path w="6078" h="2953">
                <a:moveTo>
                  <a:pt x="645" y="15528"/>
                </a:moveTo>
                <a:cubicBezTo>
                  <a:pt x="711" y="15413"/>
                  <a:pt x="705" y="15406"/>
                  <a:pt x="819" y="15354"/>
                </a:cubicBezTo>
                <a:cubicBezTo>
                  <a:pt x="958" y="15522"/>
                  <a:pt x="955" y="15761"/>
                  <a:pt x="794" y="15949"/>
                </a:cubicBezTo>
                <a:cubicBezTo>
                  <a:pt x="639" y="16130"/>
                  <a:pt x="571" y="16042"/>
                  <a:pt x="471" y="15925"/>
                </a:cubicBezTo>
                <a:cubicBezTo>
                  <a:pt x="527" y="15851"/>
                  <a:pt x="678" y="15886"/>
                  <a:pt x="769" y="15925"/>
                </a:cubicBezTo>
                <a:cubicBezTo>
                  <a:pt x="874" y="15970"/>
                  <a:pt x="983" y="16115"/>
                  <a:pt x="1017" y="16049"/>
                </a:cubicBezTo>
              </a:path>
              <a:path w="6078" h="2953">
                <a:moveTo>
                  <a:pt x="1513" y="15503"/>
                </a:moveTo>
                <a:cubicBezTo>
                  <a:pt x="1599" y="15439"/>
                  <a:pt x="1803" y="15296"/>
                  <a:pt x="1811" y="15528"/>
                </a:cubicBezTo>
                <a:cubicBezTo>
                  <a:pt x="1814" y="15607"/>
                  <a:pt x="1735" y="15654"/>
                  <a:pt x="1687" y="15701"/>
                </a:cubicBezTo>
                <a:cubicBezTo>
                  <a:pt x="1776" y="15714"/>
                  <a:pt x="1913" y="15724"/>
                  <a:pt x="1885" y="15850"/>
                </a:cubicBezTo>
                <a:cubicBezTo>
                  <a:pt x="1842" y="16044"/>
                  <a:pt x="1675" y="16048"/>
                  <a:pt x="1538" y="15999"/>
                </a:cubicBezTo>
              </a:path>
              <a:path w="6078" h="2953">
                <a:moveTo>
                  <a:pt x="3101" y="15404"/>
                </a:moveTo>
                <a:cubicBezTo>
                  <a:pt x="2981" y="15436"/>
                  <a:pt x="2843" y="15417"/>
                  <a:pt x="2828" y="15528"/>
                </a:cubicBezTo>
                <a:cubicBezTo>
                  <a:pt x="2828" y="15611"/>
                  <a:pt x="2828" y="15627"/>
                  <a:pt x="2828" y="15677"/>
                </a:cubicBezTo>
                <a:cubicBezTo>
                  <a:pt x="2910" y="15665"/>
                  <a:pt x="3103" y="15602"/>
                  <a:pt x="3175" y="15677"/>
                </a:cubicBezTo>
                <a:cubicBezTo>
                  <a:pt x="3330" y="15838"/>
                  <a:pt x="2974" y="16025"/>
                  <a:pt x="2877" y="16049"/>
                </a:cubicBezTo>
                <a:cubicBezTo>
                  <a:pt x="2828" y="16049"/>
                  <a:pt x="2778" y="16049"/>
                  <a:pt x="2729" y="16049"/>
                </a:cubicBezTo>
              </a:path>
              <a:path w="6078" h="2953">
                <a:moveTo>
                  <a:pt x="3522" y="15900"/>
                </a:moveTo>
                <a:cubicBezTo>
                  <a:pt x="3550" y="15982"/>
                  <a:pt x="3560" y="16014"/>
                  <a:pt x="3572" y="16073"/>
                </a:cubicBezTo>
              </a:path>
              <a:path w="6078" h="2953">
                <a:moveTo>
                  <a:pt x="3845" y="15379"/>
                </a:moveTo>
                <a:cubicBezTo>
                  <a:pt x="3866" y="15536"/>
                  <a:pt x="3840" y="15768"/>
                  <a:pt x="3944" y="15900"/>
                </a:cubicBezTo>
                <a:cubicBezTo>
                  <a:pt x="4054" y="16040"/>
                  <a:pt x="4238" y="15896"/>
                  <a:pt x="4316" y="15801"/>
                </a:cubicBezTo>
                <a:cubicBezTo>
                  <a:pt x="4316" y="15766"/>
                  <a:pt x="4311" y="15748"/>
                  <a:pt x="4291" y="15726"/>
                </a:cubicBezTo>
                <a:cubicBezTo>
                  <a:pt x="4174" y="15677"/>
                  <a:pt x="4074" y="15686"/>
                  <a:pt x="4043" y="15850"/>
                </a:cubicBezTo>
                <a:cubicBezTo>
                  <a:pt x="4043" y="15883"/>
                  <a:pt x="4043" y="15916"/>
                  <a:pt x="4043" y="15949"/>
                </a:cubicBezTo>
              </a:path>
              <a:path w="6078" h="2953">
                <a:moveTo>
                  <a:pt x="4564" y="15875"/>
                </a:moveTo>
                <a:cubicBezTo>
                  <a:pt x="4592" y="15957"/>
                  <a:pt x="4598" y="15990"/>
                  <a:pt x="4564" y="16049"/>
                </a:cubicBezTo>
              </a:path>
              <a:path w="6078" h="2953">
                <a:moveTo>
                  <a:pt x="5209" y="15503"/>
                </a:moveTo>
                <a:cubicBezTo>
                  <a:pt x="5189" y="15397"/>
                  <a:pt x="5144" y="15316"/>
                  <a:pt x="5011" y="15329"/>
                </a:cubicBezTo>
                <a:cubicBezTo>
                  <a:pt x="4861" y="15343"/>
                  <a:pt x="4856" y="15436"/>
                  <a:pt x="4812" y="15553"/>
                </a:cubicBezTo>
                <a:cubicBezTo>
                  <a:pt x="4928" y="15627"/>
                  <a:pt x="5075" y="15685"/>
                  <a:pt x="5184" y="15528"/>
                </a:cubicBezTo>
                <a:cubicBezTo>
                  <a:pt x="5192" y="15503"/>
                  <a:pt x="5201" y="15478"/>
                  <a:pt x="5209" y="15453"/>
                </a:cubicBezTo>
                <a:cubicBezTo>
                  <a:pt x="5254" y="15575"/>
                  <a:pt x="5274" y="15695"/>
                  <a:pt x="5283" y="15825"/>
                </a:cubicBezTo>
              </a:path>
              <a:path w="6078" h="2953">
                <a:moveTo>
                  <a:pt x="5606" y="15825"/>
                </a:moveTo>
                <a:cubicBezTo>
                  <a:pt x="5631" y="15900"/>
                  <a:pt x="5639" y="15924"/>
                  <a:pt x="5655" y="15974"/>
                </a:cubicBezTo>
              </a:path>
              <a:path w="6078" h="2953">
                <a:moveTo>
                  <a:pt x="5854" y="15379"/>
                </a:moveTo>
                <a:cubicBezTo>
                  <a:pt x="5890" y="15529"/>
                  <a:pt x="5925" y="15682"/>
                  <a:pt x="5978" y="15825"/>
                </a:cubicBezTo>
              </a:path>
              <a:path w="6078" h="2953">
                <a:moveTo>
                  <a:pt x="6350" y="15379"/>
                </a:moveTo>
                <a:cubicBezTo>
                  <a:pt x="6270" y="15548"/>
                  <a:pt x="6210" y="15659"/>
                  <a:pt x="6300" y="15825"/>
                </a:cubicBezTo>
                <a:cubicBezTo>
                  <a:pt x="6384" y="15796"/>
                  <a:pt x="6714" y="15657"/>
                  <a:pt x="6499" y="15528"/>
                </a:cubicBezTo>
                <a:cubicBezTo>
                  <a:pt x="6441" y="15511"/>
                  <a:pt x="6383" y="15495"/>
                  <a:pt x="6325" y="15478"/>
                </a:cubicBezTo>
              </a:path>
              <a:path w="6078" h="2953">
                <a:moveTo>
                  <a:pt x="4242" y="13767"/>
                </a:moveTo>
                <a:cubicBezTo>
                  <a:pt x="4335" y="13748"/>
                  <a:pt x="4609" y="13717"/>
                  <a:pt x="4514" y="13717"/>
                </a:cubicBezTo>
                <a:cubicBezTo>
                  <a:pt x="4432" y="13717"/>
                  <a:pt x="4399" y="13717"/>
                  <a:pt x="4341" y="13717"/>
                </a:cubicBezTo>
                <a:cubicBezTo>
                  <a:pt x="4137" y="13717"/>
                  <a:pt x="4540" y="13717"/>
                  <a:pt x="4589" y="13717"/>
                </a:cubicBezTo>
                <a:cubicBezTo>
                  <a:pt x="4725" y="13717"/>
                  <a:pt x="4423" y="13692"/>
                  <a:pt x="4390" y="13692"/>
                </a:cubicBezTo>
                <a:cubicBezTo>
                  <a:pt x="4320" y="13692"/>
                  <a:pt x="4572" y="13692"/>
                  <a:pt x="4589" y="13692"/>
                </a:cubicBezTo>
                <a:cubicBezTo>
                  <a:pt x="4630" y="13692"/>
                  <a:pt x="4654" y="13692"/>
                  <a:pt x="4614" y="13692"/>
                </a:cubicBezTo>
                <a:cubicBezTo>
                  <a:pt x="4483" y="13692"/>
                  <a:pt x="4115" y="13733"/>
                  <a:pt x="4465" y="13667"/>
                </a:cubicBezTo>
                <a:cubicBezTo>
                  <a:pt x="4585" y="13645"/>
                  <a:pt x="4377" y="13752"/>
                  <a:pt x="4465" y="13667"/>
                </a:cubicBezTo>
                <a:cubicBezTo>
                  <a:pt x="4539" y="13649"/>
                  <a:pt x="4546" y="13641"/>
                  <a:pt x="4589" y="13643"/>
                </a:cubicBezTo>
              </a:path>
              <a:path w="6078" h="2953">
                <a:moveTo>
                  <a:pt x="943" y="15106"/>
                </a:moveTo>
                <a:cubicBezTo>
                  <a:pt x="798" y="15081"/>
                  <a:pt x="850" y="15263"/>
                  <a:pt x="794" y="15503"/>
                </a:cubicBezTo>
                <a:cubicBezTo>
                  <a:pt x="731" y="15773"/>
                  <a:pt x="638" y="16074"/>
                  <a:pt x="521" y="16321"/>
                </a:cubicBezTo>
                <a:cubicBezTo>
                  <a:pt x="493" y="16349"/>
                  <a:pt x="484" y="16363"/>
                  <a:pt x="496" y="16396"/>
                </a:cubicBezTo>
              </a:path>
              <a:path w="6078" h="2953">
                <a:moveTo>
                  <a:pt x="4366" y="13692"/>
                </a:moveTo>
                <a:cubicBezTo>
                  <a:pt x="4419" y="13685"/>
                  <a:pt x="4461" y="13674"/>
                  <a:pt x="4514" y="13667"/>
                </a:cubicBezTo>
              </a:path>
              <a:path w="6078" h="2953">
                <a:moveTo>
                  <a:pt x="4440" y="15056"/>
                </a:moveTo>
                <a:cubicBezTo>
                  <a:pt x="4487" y="15339"/>
                  <a:pt x="4346" y="15761"/>
                  <a:pt x="4266" y="16049"/>
                </a:cubicBezTo>
                <a:cubicBezTo>
                  <a:pt x="4208" y="16205"/>
                  <a:pt x="4197" y="16229"/>
                  <a:pt x="4167" y="16321"/>
                </a:cubicBezTo>
              </a:path>
              <a:path w="6078" h="2953">
                <a:moveTo>
                  <a:pt x="6251" y="14759"/>
                </a:moveTo>
                <a:cubicBezTo>
                  <a:pt x="6234" y="15220"/>
                  <a:pt x="6143" y="15648"/>
                  <a:pt x="6052" y="16098"/>
                </a:cubicBezTo>
              </a:path>
              <a:path w="6078" h="2953">
                <a:moveTo>
                  <a:pt x="3026" y="15131"/>
                </a:moveTo>
                <a:cubicBezTo>
                  <a:pt x="3048" y="15087"/>
                  <a:pt x="3051" y="15075"/>
                  <a:pt x="3076" y="15056"/>
                </a:cubicBezTo>
                <a:cubicBezTo>
                  <a:pt x="3146" y="15385"/>
                  <a:pt x="3141" y="15734"/>
                  <a:pt x="3076" y="16073"/>
                </a:cubicBezTo>
                <a:cubicBezTo>
                  <a:pt x="3063" y="16142"/>
                  <a:pt x="3016" y="16203"/>
                  <a:pt x="3001" y="16272"/>
                </a:cubicBezTo>
                <a:cubicBezTo>
                  <a:pt x="3001" y="16288"/>
                  <a:pt x="3001" y="16305"/>
                  <a:pt x="3001" y="16321"/>
                </a:cubicBezTo>
              </a:path>
              <a:path w="6078" h="2953">
                <a:moveTo>
                  <a:pt x="1836" y="15081"/>
                </a:moveTo>
                <a:lnTo>
                  <a:pt x="1836" y="15081"/>
                </a:lnTo>
              </a:path>
              <a:path w="6078" h="2953">
                <a:moveTo>
                  <a:pt x="1811" y="15404"/>
                </a:moveTo>
                <a:cubicBezTo>
                  <a:pt x="1776" y="15334"/>
                  <a:pt x="1746" y="15281"/>
                  <a:pt x="1736" y="15205"/>
                </a:cubicBezTo>
                <a:cubicBezTo>
                  <a:pt x="1736" y="15549"/>
                  <a:pt x="1702" y="15881"/>
                  <a:pt x="1662" y="16222"/>
                </a:cubicBezTo>
                <a:cubicBezTo>
                  <a:pt x="1642" y="16379"/>
                  <a:pt x="1634" y="16403"/>
                  <a:pt x="1637" y="16495"/>
                </a:cubicBezTo>
              </a:path>
              <a:path w="6078" h="2953">
                <a:moveTo>
                  <a:pt x="5333" y="14932"/>
                </a:moveTo>
                <a:cubicBezTo>
                  <a:pt x="5326" y="14946"/>
                  <a:pt x="5163" y="15545"/>
                  <a:pt x="5110" y="15726"/>
                </a:cubicBezTo>
                <a:cubicBezTo>
                  <a:pt x="5042" y="15974"/>
                  <a:pt x="5023" y="16039"/>
                  <a:pt x="4986" y="16197"/>
                </a:cubicBezTo>
              </a:path>
              <a:path w="6078" h="2953">
                <a:moveTo>
                  <a:pt x="4415" y="13692"/>
                </a:moveTo>
                <a:cubicBezTo>
                  <a:pt x="4361" y="13630"/>
                  <a:pt x="4263" y="13580"/>
                  <a:pt x="4390" y="13568"/>
                </a:cubicBezTo>
                <a:cubicBezTo>
                  <a:pt x="4506" y="13568"/>
                  <a:pt x="4539" y="13568"/>
                  <a:pt x="4614" y="13568"/>
                </a:cubicBezTo>
                <a:cubicBezTo>
                  <a:pt x="4483" y="13603"/>
                  <a:pt x="4088" y="13603"/>
                  <a:pt x="4217" y="13643"/>
                </a:cubicBezTo>
                <a:cubicBezTo>
                  <a:pt x="4357" y="13666"/>
                  <a:pt x="4398" y="13674"/>
                  <a:pt x="4490" y="13667"/>
                </a:cubicBezTo>
                <a:cubicBezTo>
                  <a:pt x="4389" y="13717"/>
                  <a:pt x="4206" y="13619"/>
                  <a:pt x="4316" y="13643"/>
                </a:cubicBezTo>
                <a:cubicBezTo>
                  <a:pt x="4341" y="13651"/>
                  <a:pt x="4365" y="13659"/>
                  <a:pt x="4390" y="13667"/>
                </a:cubicBezTo>
                <a:cubicBezTo>
                  <a:pt x="4550" y="13648"/>
                  <a:pt x="4320" y="13620"/>
                  <a:pt x="4465" y="13692"/>
                </a:cubicBezTo>
                <a:cubicBezTo>
                  <a:pt x="4607" y="13762"/>
                  <a:pt x="4696" y="13720"/>
                  <a:pt x="4440" y="13692"/>
                </a:cubicBezTo>
                <a:cubicBezTo>
                  <a:pt x="4315" y="13679"/>
                  <a:pt x="4512" y="13707"/>
                  <a:pt x="4539" y="13717"/>
                </a:cubicBezTo>
              </a:path>
              <a:path w="6078" h="2953">
                <a:moveTo>
                  <a:pt x="4440" y="13618"/>
                </a:moveTo>
                <a:cubicBezTo>
                  <a:pt x="4552" y="13561"/>
                  <a:pt x="4564" y="13555"/>
                  <a:pt x="4415" y="13543"/>
                </a:cubicBezTo>
                <a:cubicBezTo>
                  <a:pt x="4415" y="13629"/>
                  <a:pt x="4616" y="13679"/>
                  <a:pt x="4614" y="13593"/>
                </a:cubicBezTo>
                <a:cubicBezTo>
                  <a:pt x="4613" y="13545"/>
                  <a:pt x="4313" y="13552"/>
                  <a:pt x="4514" y="135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37000" y="4626000"/>
            <a:ext cx="2313000" cy="1366920"/>
          </a:xfrm>
          <a:custGeom>
            <a:avLst/>
            <a:gdLst/>
            <a:ahLst/>
            <a:rect l="l" t="t" r="r" b="b"/>
            <a:pathLst>
              <a:path w="6425" h="3796">
                <a:moveTo>
                  <a:pt x="10592" y="15453"/>
                </a:moveTo>
                <a:cubicBezTo>
                  <a:pt x="10592" y="15407"/>
                  <a:pt x="10610" y="15387"/>
                  <a:pt x="10666" y="15379"/>
                </a:cubicBezTo>
                <a:cubicBezTo>
                  <a:pt x="10859" y="15531"/>
                  <a:pt x="10879" y="15749"/>
                  <a:pt x="10716" y="15974"/>
                </a:cubicBezTo>
                <a:cubicBezTo>
                  <a:pt x="10568" y="16101"/>
                  <a:pt x="10543" y="16157"/>
                  <a:pt x="10418" y="16098"/>
                </a:cubicBezTo>
                <a:cubicBezTo>
                  <a:pt x="10438" y="15941"/>
                  <a:pt x="10500" y="15792"/>
                  <a:pt x="10666" y="15974"/>
                </a:cubicBezTo>
                <a:cubicBezTo>
                  <a:pt x="10721" y="16067"/>
                  <a:pt x="10720" y="16082"/>
                  <a:pt x="10765" y="16123"/>
                </a:cubicBezTo>
              </a:path>
              <a:path w="6425" h="3796">
                <a:moveTo>
                  <a:pt x="11162" y="16098"/>
                </a:moveTo>
                <a:cubicBezTo>
                  <a:pt x="11170" y="16115"/>
                  <a:pt x="11179" y="16131"/>
                  <a:pt x="11187" y="16148"/>
                </a:cubicBezTo>
              </a:path>
              <a:path w="6425" h="3796">
                <a:moveTo>
                  <a:pt x="11187" y="15429"/>
                </a:moveTo>
                <a:cubicBezTo>
                  <a:pt x="11310" y="15373"/>
                  <a:pt x="11320" y="15371"/>
                  <a:pt x="11435" y="15404"/>
                </a:cubicBezTo>
                <a:cubicBezTo>
                  <a:pt x="11424" y="15499"/>
                  <a:pt x="11395" y="15740"/>
                  <a:pt x="11311" y="15627"/>
                </a:cubicBezTo>
                <a:cubicBezTo>
                  <a:pt x="11408" y="15653"/>
                  <a:pt x="11636" y="15791"/>
                  <a:pt x="11460" y="15925"/>
                </a:cubicBezTo>
                <a:cubicBezTo>
                  <a:pt x="11362" y="15949"/>
                  <a:pt x="11329" y="15957"/>
                  <a:pt x="11261" y="15949"/>
                </a:cubicBezTo>
              </a:path>
              <a:path w="6425" h="3796">
                <a:moveTo>
                  <a:pt x="11881" y="16148"/>
                </a:moveTo>
                <a:cubicBezTo>
                  <a:pt x="11873" y="16173"/>
                  <a:pt x="11865" y="16197"/>
                  <a:pt x="11857" y="16222"/>
                </a:cubicBezTo>
              </a:path>
              <a:path w="6425" h="3796">
                <a:moveTo>
                  <a:pt x="12229" y="15453"/>
                </a:moveTo>
                <a:cubicBezTo>
                  <a:pt x="12028" y="15503"/>
                  <a:pt x="12031" y="15480"/>
                  <a:pt x="12055" y="15677"/>
                </a:cubicBezTo>
                <a:cubicBezTo>
                  <a:pt x="12055" y="15693"/>
                  <a:pt x="12055" y="15710"/>
                  <a:pt x="12055" y="15726"/>
                </a:cubicBezTo>
                <a:cubicBezTo>
                  <a:pt x="12152" y="15683"/>
                  <a:pt x="12449" y="15522"/>
                  <a:pt x="12502" y="15726"/>
                </a:cubicBezTo>
                <a:cubicBezTo>
                  <a:pt x="12575" y="16008"/>
                  <a:pt x="12237" y="15952"/>
                  <a:pt x="12105" y="15925"/>
                </a:cubicBezTo>
              </a:path>
              <a:path w="6425" h="3796">
                <a:moveTo>
                  <a:pt x="12874" y="16024"/>
                </a:moveTo>
                <a:cubicBezTo>
                  <a:pt x="12882" y="16040"/>
                  <a:pt x="12890" y="16057"/>
                  <a:pt x="12898" y="16073"/>
                </a:cubicBezTo>
              </a:path>
              <a:path w="6425" h="3796">
                <a:moveTo>
                  <a:pt x="12948" y="15329"/>
                </a:moveTo>
                <a:cubicBezTo>
                  <a:pt x="12906" y="15517"/>
                  <a:pt x="12867" y="15696"/>
                  <a:pt x="12973" y="15875"/>
                </a:cubicBezTo>
                <a:cubicBezTo>
                  <a:pt x="13092" y="16076"/>
                  <a:pt x="13336" y="15814"/>
                  <a:pt x="13370" y="15677"/>
                </a:cubicBezTo>
                <a:cubicBezTo>
                  <a:pt x="13402" y="15549"/>
                  <a:pt x="13150" y="15843"/>
                  <a:pt x="13146" y="15850"/>
                </a:cubicBezTo>
              </a:path>
              <a:path w="6425" h="3796">
                <a:moveTo>
                  <a:pt x="13593" y="15999"/>
                </a:moveTo>
                <a:cubicBezTo>
                  <a:pt x="13601" y="16016"/>
                  <a:pt x="13610" y="16032"/>
                  <a:pt x="13618" y="16049"/>
                </a:cubicBezTo>
              </a:path>
              <a:path w="6425" h="3796">
                <a:moveTo>
                  <a:pt x="14486" y="15553"/>
                </a:moveTo>
                <a:cubicBezTo>
                  <a:pt x="14433" y="15446"/>
                  <a:pt x="14247" y="15340"/>
                  <a:pt x="14114" y="15379"/>
                </a:cubicBezTo>
                <a:cubicBezTo>
                  <a:pt x="13927" y="15434"/>
                  <a:pt x="13958" y="15582"/>
                  <a:pt x="13990" y="15701"/>
                </a:cubicBezTo>
                <a:cubicBezTo>
                  <a:pt x="14208" y="15659"/>
                  <a:pt x="14245" y="15609"/>
                  <a:pt x="14387" y="15429"/>
                </a:cubicBezTo>
                <a:cubicBezTo>
                  <a:pt x="14406" y="15595"/>
                  <a:pt x="14446" y="15745"/>
                  <a:pt x="14511" y="15900"/>
                </a:cubicBezTo>
              </a:path>
              <a:path w="6425" h="3796">
                <a:moveTo>
                  <a:pt x="14784" y="15974"/>
                </a:moveTo>
                <a:lnTo>
                  <a:pt x="14784" y="15974"/>
                </a:lnTo>
              </a:path>
              <a:path w="6425" h="3796">
                <a:moveTo>
                  <a:pt x="15106" y="15379"/>
                </a:moveTo>
                <a:cubicBezTo>
                  <a:pt x="15126" y="15531"/>
                  <a:pt x="15144" y="15677"/>
                  <a:pt x="15180" y="15825"/>
                </a:cubicBezTo>
              </a:path>
              <a:path w="6425" h="3796">
                <a:moveTo>
                  <a:pt x="15528" y="15255"/>
                </a:moveTo>
                <a:cubicBezTo>
                  <a:pt x="15505" y="15355"/>
                  <a:pt x="15377" y="15828"/>
                  <a:pt x="15652" y="15776"/>
                </a:cubicBezTo>
                <a:cubicBezTo>
                  <a:pt x="15898" y="15729"/>
                  <a:pt x="15826" y="15531"/>
                  <a:pt x="15801" y="15379"/>
                </a:cubicBezTo>
              </a:path>
              <a:path w="6425" h="3796">
                <a:moveTo>
                  <a:pt x="14114" y="15776"/>
                </a:moveTo>
                <a:lnTo>
                  <a:pt x="14114" y="15776"/>
                </a:lnTo>
              </a:path>
              <a:path w="6425" h="3796">
                <a:moveTo>
                  <a:pt x="16247" y="13543"/>
                </a:moveTo>
                <a:lnTo>
                  <a:pt x="16247" y="13543"/>
                </a:lnTo>
              </a:path>
              <a:path w="6425" h="3796">
                <a:moveTo>
                  <a:pt x="14089" y="12849"/>
                </a:moveTo>
                <a:lnTo>
                  <a:pt x="14089" y="12849"/>
                </a:lnTo>
              </a:path>
              <a:path w="6425" h="3796">
                <a:moveTo>
                  <a:pt x="15726" y="15602"/>
                </a:moveTo>
                <a:cubicBezTo>
                  <a:pt x="15614" y="15588"/>
                  <a:pt x="15529" y="15509"/>
                  <a:pt x="15429" y="15453"/>
                </a:cubicBezTo>
              </a:path>
              <a:path w="6425" h="3796">
                <a:moveTo>
                  <a:pt x="14585" y="13643"/>
                </a:moveTo>
                <a:cubicBezTo>
                  <a:pt x="14410" y="13501"/>
                  <a:pt x="14961" y="13704"/>
                  <a:pt x="14536" y="13692"/>
                </a:cubicBezTo>
                <a:cubicBezTo>
                  <a:pt x="14383" y="13688"/>
                  <a:pt x="14883" y="13859"/>
                  <a:pt x="14784" y="13742"/>
                </a:cubicBezTo>
                <a:cubicBezTo>
                  <a:pt x="14751" y="13725"/>
                  <a:pt x="14717" y="13709"/>
                  <a:pt x="14684" y="13692"/>
                </a:cubicBezTo>
                <a:cubicBezTo>
                  <a:pt x="14592" y="13673"/>
                  <a:pt x="14853" y="13692"/>
                  <a:pt x="14759" y="13692"/>
                </a:cubicBezTo>
                <a:cubicBezTo>
                  <a:pt x="14606" y="13692"/>
                  <a:pt x="14888" y="13700"/>
                  <a:pt x="14759" y="13618"/>
                </a:cubicBezTo>
                <a:cubicBezTo>
                  <a:pt x="14726" y="13626"/>
                  <a:pt x="14693" y="13635"/>
                  <a:pt x="14660" y="13643"/>
                </a:cubicBezTo>
                <a:cubicBezTo>
                  <a:pt x="14584" y="13698"/>
                  <a:pt x="14395" y="13668"/>
                  <a:pt x="14486" y="13692"/>
                </a:cubicBezTo>
                <a:cubicBezTo>
                  <a:pt x="14563" y="13712"/>
                  <a:pt x="14639" y="13681"/>
                  <a:pt x="14709" y="13667"/>
                </a:cubicBezTo>
              </a:path>
              <a:path w="6425" h="3796">
                <a:moveTo>
                  <a:pt x="9823" y="16396"/>
                </a:moveTo>
                <a:cubicBezTo>
                  <a:pt x="9924" y="16464"/>
                  <a:pt x="10004" y="16544"/>
                  <a:pt x="10120" y="16594"/>
                </a:cubicBezTo>
                <a:cubicBezTo>
                  <a:pt x="10235" y="16644"/>
                  <a:pt x="10290" y="16644"/>
                  <a:pt x="10393" y="16594"/>
                </a:cubicBezTo>
                <a:cubicBezTo>
                  <a:pt x="10490" y="16548"/>
                  <a:pt x="10547" y="16493"/>
                  <a:pt x="10616" y="16421"/>
                </a:cubicBezTo>
                <a:cubicBezTo>
                  <a:pt x="10682" y="16352"/>
                  <a:pt x="10720" y="16259"/>
                  <a:pt x="10765" y="16173"/>
                </a:cubicBezTo>
                <a:cubicBezTo>
                  <a:pt x="10797" y="16111"/>
                  <a:pt x="10796" y="16059"/>
                  <a:pt x="10815" y="15999"/>
                </a:cubicBezTo>
                <a:cubicBezTo>
                  <a:pt x="10839" y="15924"/>
                  <a:pt x="10845" y="15851"/>
                  <a:pt x="10864" y="15776"/>
                </a:cubicBezTo>
                <a:cubicBezTo>
                  <a:pt x="10886" y="15690"/>
                  <a:pt x="10871" y="15612"/>
                  <a:pt x="10889" y="15528"/>
                </a:cubicBezTo>
                <a:cubicBezTo>
                  <a:pt x="10917" y="15395"/>
                  <a:pt x="10902" y="15312"/>
                  <a:pt x="10889" y="15180"/>
                </a:cubicBezTo>
                <a:cubicBezTo>
                  <a:pt x="10881" y="15103"/>
                  <a:pt x="10846" y="14950"/>
                  <a:pt x="10765" y="14908"/>
                </a:cubicBezTo>
                <a:cubicBezTo>
                  <a:pt x="10620" y="14833"/>
                  <a:pt x="10441" y="14901"/>
                  <a:pt x="10319" y="14982"/>
                </a:cubicBezTo>
                <a:cubicBezTo>
                  <a:pt x="10127" y="15110"/>
                  <a:pt x="10040" y="15359"/>
                  <a:pt x="9996" y="15577"/>
                </a:cubicBezTo>
                <a:cubicBezTo>
                  <a:pt x="9954" y="15787"/>
                  <a:pt x="9958" y="16014"/>
                  <a:pt x="9996" y="16222"/>
                </a:cubicBezTo>
                <a:cubicBezTo>
                  <a:pt x="10013" y="16315"/>
                  <a:pt x="10037" y="16402"/>
                  <a:pt x="10046" y="16495"/>
                </a:cubicBezTo>
              </a:path>
              <a:path w="6425" h="3796">
                <a:moveTo>
                  <a:pt x="11881" y="16148"/>
                </a:moveTo>
                <a:cubicBezTo>
                  <a:pt x="11906" y="16223"/>
                  <a:pt x="11904" y="16304"/>
                  <a:pt x="11956" y="16371"/>
                </a:cubicBezTo>
                <a:cubicBezTo>
                  <a:pt x="12024" y="16459"/>
                  <a:pt x="12158" y="16411"/>
                  <a:pt x="12229" y="16346"/>
                </a:cubicBezTo>
                <a:cubicBezTo>
                  <a:pt x="12307" y="16275"/>
                  <a:pt x="12361" y="16179"/>
                  <a:pt x="12452" y="16123"/>
                </a:cubicBezTo>
                <a:cubicBezTo>
                  <a:pt x="12506" y="16090"/>
                  <a:pt x="12600" y="16065"/>
                  <a:pt x="12626" y="15999"/>
                </a:cubicBezTo>
                <a:cubicBezTo>
                  <a:pt x="12670" y="15887"/>
                  <a:pt x="12675" y="15770"/>
                  <a:pt x="12675" y="15652"/>
                </a:cubicBezTo>
                <a:cubicBezTo>
                  <a:pt x="12675" y="15507"/>
                  <a:pt x="12664" y="15372"/>
                  <a:pt x="12650" y="15230"/>
                </a:cubicBezTo>
                <a:cubicBezTo>
                  <a:pt x="12642" y="15149"/>
                  <a:pt x="12653" y="15037"/>
                  <a:pt x="12576" y="14982"/>
                </a:cubicBezTo>
                <a:cubicBezTo>
                  <a:pt x="12474" y="14909"/>
                  <a:pt x="12403" y="14913"/>
                  <a:pt x="12303" y="15007"/>
                </a:cubicBezTo>
                <a:cubicBezTo>
                  <a:pt x="12143" y="15158"/>
                  <a:pt x="12113" y="15373"/>
                  <a:pt x="12080" y="15577"/>
                </a:cubicBezTo>
                <a:cubicBezTo>
                  <a:pt x="12052" y="15750"/>
                  <a:pt x="11989" y="15947"/>
                  <a:pt x="12005" y="16123"/>
                </a:cubicBezTo>
                <a:cubicBezTo>
                  <a:pt x="12014" y="16220"/>
                  <a:pt x="12047" y="16332"/>
                  <a:pt x="12080" y="16421"/>
                </a:cubicBezTo>
              </a:path>
              <a:path w="6425" h="3796">
                <a:moveTo>
                  <a:pt x="14908" y="15900"/>
                </a:moveTo>
                <a:cubicBezTo>
                  <a:pt x="14954" y="15993"/>
                  <a:pt x="14981" y="16090"/>
                  <a:pt x="15081" y="16148"/>
                </a:cubicBezTo>
                <a:cubicBezTo>
                  <a:pt x="15179" y="16205"/>
                  <a:pt x="15351" y="16181"/>
                  <a:pt x="15453" y="16148"/>
                </a:cubicBezTo>
                <a:cubicBezTo>
                  <a:pt x="15630" y="16091"/>
                  <a:pt x="15747" y="16006"/>
                  <a:pt x="15850" y="15850"/>
                </a:cubicBezTo>
                <a:cubicBezTo>
                  <a:pt x="15943" y="15709"/>
                  <a:pt x="15970" y="15569"/>
                  <a:pt x="15974" y="15404"/>
                </a:cubicBezTo>
                <a:cubicBezTo>
                  <a:pt x="15978" y="15262"/>
                  <a:pt x="15939" y="15154"/>
                  <a:pt x="15875" y="15032"/>
                </a:cubicBezTo>
                <a:cubicBezTo>
                  <a:pt x="15820" y="14927"/>
                  <a:pt x="15763" y="14891"/>
                  <a:pt x="15652" y="14858"/>
                </a:cubicBezTo>
                <a:cubicBezTo>
                  <a:pt x="15499" y="14813"/>
                  <a:pt x="15350" y="14815"/>
                  <a:pt x="15230" y="14932"/>
                </a:cubicBezTo>
                <a:cubicBezTo>
                  <a:pt x="15080" y="15078"/>
                  <a:pt x="15023" y="15276"/>
                  <a:pt x="15032" y="15478"/>
                </a:cubicBezTo>
                <a:cubicBezTo>
                  <a:pt x="15042" y="15689"/>
                  <a:pt x="15120" y="15897"/>
                  <a:pt x="15180" y="16098"/>
                </a:cubicBezTo>
                <a:cubicBezTo>
                  <a:pt x="15188" y="16123"/>
                  <a:pt x="15197" y="16148"/>
                  <a:pt x="15205" y="16173"/>
                </a:cubicBezTo>
              </a:path>
              <a:path w="6425" h="3796">
                <a:moveTo>
                  <a:pt x="11633" y="15106"/>
                </a:moveTo>
                <a:cubicBezTo>
                  <a:pt x="11575" y="15291"/>
                  <a:pt x="11414" y="15743"/>
                  <a:pt x="11311" y="15999"/>
                </a:cubicBezTo>
                <a:cubicBezTo>
                  <a:pt x="11232" y="16196"/>
                  <a:pt x="11172" y="16401"/>
                  <a:pt x="11088" y="16594"/>
                </a:cubicBezTo>
              </a:path>
              <a:path w="6425" h="3796">
                <a:moveTo>
                  <a:pt x="13271" y="15056"/>
                </a:moveTo>
                <a:cubicBezTo>
                  <a:pt x="13229" y="15476"/>
                  <a:pt x="13126" y="15892"/>
                  <a:pt x="12998" y="16297"/>
                </a:cubicBezTo>
                <a:cubicBezTo>
                  <a:pt x="12967" y="16396"/>
                  <a:pt x="12912" y="16521"/>
                  <a:pt x="12874" y="16619"/>
                </a:cubicBezTo>
              </a:path>
              <a:path w="6425" h="3796">
                <a:moveTo>
                  <a:pt x="14436" y="15106"/>
                </a:moveTo>
                <a:cubicBezTo>
                  <a:pt x="14450" y="15052"/>
                  <a:pt x="14455" y="15013"/>
                  <a:pt x="14461" y="14957"/>
                </a:cubicBezTo>
                <a:cubicBezTo>
                  <a:pt x="14450" y="14973"/>
                  <a:pt x="14330" y="15460"/>
                  <a:pt x="14312" y="15528"/>
                </a:cubicBezTo>
                <a:cubicBezTo>
                  <a:pt x="14248" y="15769"/>
                  <a:pt x="14149" y="16007"/>
                  <a:pt x="14089" y="16247"/>
                </a:cubicBezTo>
                <a:cubicBezTo>
                  <a:pt x="14089" y="16255"/>
                  <a:pt x="14089" y="16264"/>
                  <a:pt x="14089" y="16272"/>
                </a:cubicBezTo>
              </a:path>
              <a:path w="6425" h="3796">
                <a:moveTo>
                  <a:pt x="15577" y="15304"/>
                </a:moveTo>
                <a:cubicBezTo>
                  <a:pt x="15594" y="15312"/>
                  <a:pt x="15610" y="15321"/>
                  <a:pt x="15627" y="15329"/>
                </a:cubicBezTo>
                <a:cubicBezTo>
                  <a:pt x="15554" y="15318"/>
                  <a:pt x="15544" y="15241"/>
                  <a:pt x="15577" y="15255"/>
                </a:cubicBezTo>
                <a:cubicBezTo>
                  <a:pt x="15719" y="15317"/>
                  <a:pt x="15740" y="15442"/>
                  <a:pt x="15751" y="155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05680" y="5259240"/>
            <a:ext cx="117360" cy="108000"/>
          </a:xfrm>
          <a:custGeom>
            <a:avLst/>
            <a:gdLst/>
            <a:ahLst/>
            <a:rect l="l" t="t" r="r" b="b"/>
            <a:pathLst>
              <a:path w="324" h="299">
                <a:moveTo>
                  <a:pt x="17562" y="14610"/>
                </a:moveTo>
                <a:lnTo>
                  <a:pt x="17562" y="14610"/>
                </a:lnTo>
              </a:path>
              <a:path w="324" h="299">
                <a:moveTo>
                  <a:pt x="17239" y="14908"/>
                </a:moveTo>
                <a:lnTo>
                  <a:pt x="17239" y="1490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34080" y="4562640"/>
            <a:ext cx="1965240" cy="1277640"/>
          </a:xfrm>
          <a:custGeom>
            <a:avLst/>
            <a:gdLst/>
            <a:ahLst/>
            <a:rect l="l" t="t" r="r" b="b"/>
            <a:pathLst>
              <a:path w="5458" h="3548">
                <a:moveTo>
                  <a:pt x="18653" y="15255"/>
                </a:moveTo>
                <a:cubicBezTo>
                  <a:pt x="18678" y="15230"/>
                  <a:pt x="18703" y="15205"/>
                  <a:pt x="18728" y="15180"/>
                </a:cubicBezTo>
                <a:cubicBezTo>
                  <a:pt x="18992" y="15279"/>
                  <a:pt x="18986" y="15512"/>
                  <a:pt x="18802" y="15751"/>
                </a:cubicBezTo>
                <a:cubicBezTo>
                  <a:pt x="18644" y="15956"/>
                  <a:pt x="18545" y="15952"/>
                  <a:pt x="18430" y="15825"/>
                </a:cubicBezTo>
                <a:cubicBezTo>
                  <a:pt x="18613" y="15666"/>
                  <a:pt x="18680" y="15676"/>
                  <a:pt x="18827" y="15875"/>
                </a:cubicBezTo>
              </a:path>
              <a:path w="5458" h="3548">
                <a:moveTo>
                  <a:pt x="19149" y="16049"/>
                </a:moveTo>
                <a:cubicBezTo>
                  <a:pt x="19149" y="16074"/>
                  <a:pt x="19149" y="16098"/>
                  <a:pt x="19149" y="16123"/>
                </a:cubicBezTo>
              </a:path>
              <a:path w="5458" h="3548">
                <a:moveTo>
                  <a:pt x="19397" y="15205"/>
                </a:moveTo>
                <a:cubicBezTo>
                  <a:pt x="19501" y="15102"/>
                  <a:pt x="19544" y="15119"/>
                  <a:pt x="19695" y="15106"/>
                </a:cubicBezTo>
                <a:cubicBezTo>
                  <a:pt x="19755" y="15308"/>
                  <a:pt x="19717" y="15348"/>
                  <a:pt x="19546" y="15478"/>
                </a:cubicBezTo>
                <a:cubicBezTo>
                  <a:pt x="19683" y="15440"/>
                  <a:pt x="19921" y="15514"/>
                  <a:pt x="19720" y="15701"/>
                </a:cubicBezTo>
                <a:cubicBezTo>
                  <a:pt x="19565" y="15845"/>
                  <a:pt x="19443" y="15820"/>
                  <a:pt x="19273" y="15776"/>
                </a:cubicBezTo>
              </a:path>
              <a:path w="5458" h="3548">
                <a:moveTo>
                  <a:pt x="20265" y="15925"/>
                </a:moveTo>
                <a:cubicBezTo>
                  <a:pt x="20245" y="16007"/>
                  <a:pt x="20237" y="16022"/>
                  <a:pt x="20241" y="16073"/>
                </a:cubicBezTo>
              </a:path>
              <a:path w="5458" h="3548">
                <a:moveTo>
                  <a:pt x="20439" y="15354"/>
                </a:moveTo>
                <a:cubicBezTo>
                  <a:pt x="20307" y="15442"/>
                  <a:pt x="20340" y="15442"/>
                  <a:pt x="20340" y="15627"/>
                </a:cubicBezTo>
                <a:cubicBezTo>
                  <a:pt x="20460" y="15700"/>
                  <a:pt x="20574" y="15538"/>
                  <a:pt x="20712" y="15602"/>
                </a:cubicBezTo>
                <a:cubicBezTo>
                  <a:pt x="20954" y="15713"/>
                  <a:pt x="20655" y="15936"/>
                  <a:pt x="20513" y="15925"/>
                </a:cubicBezTo>
                <a:cubicBezTo>
                  <a:pt x="20464" y="15908"/>
                  <a:pt x="20414" y="15892"/>
                  <a:pt x="20365" y="15875"/>
                </a:cubicBezTo>
              </a:path>
              <a:path w="5458" h="3548">
                <a:moveTo>
                  <a:pt x="21034" y="15949"/>
                </a:moveTo>
                <a:cubicBezTo>
                  <a:pt x="21052" y="16040"/>
                  <a:pt x="21061" y="16047"/>
                  <a:pt x="21059" y="16098"/>
                </a:cubicBezTo>
              </a:path>
              <a:path w="5458" h="3548">
                <a:moveTo>
                  <a:pt x="21258" y="15106"/>
                </a:moveTo>
                <a:cubicBezTo>
                  <a:pt x="21258" y="15271"/>
                  <a:pt x="21212" y="15505"/>
                  <a:pt x="21307" y="15652"/>
                </a:cubicBezTo>
                <a:cubicBezTo>
                  <a:pt x="21432" y="15844"/>
                  <a:pt x="21738" y="15639"/>
                  <a:pt x="21779" y="15478"/>
                </a:cubicBezTo>
                <a:cubicBezTo>
                  <a:pt x="21771" y="15445"/>
                  <a:pt x="21762" y="15412"/>
                  <a:pt x="21754" y="15379"/>
                </a:cubicBezTo>
                <a:cubicBezTo>
                  <a:pt x="21560" y="15468"/>
                  <a:pt x="21535" y="15546"/>
                  <a:pt x="21506" y="15751"/>
                </a:cubicBezTo>
              </a:path>
              <a:path w="5458" h="3548">
                <a:moveTo>
                  <a:pt x="21828" y="15751"/>
                </a:moveTo>
                <a:cubicBezTo>
                  <a:pt x="21828" y="15873"/>
                  <a:pt x="21832" y="15984"/>
                  <a:pt x="21803" y="16098"/>
                </a:cubicBezTo>
              </a:path>
              <a:path w="5458" h="3548">
                <a:moveTo>
                  <a:pt x="22399" y="15429"/>
                </a:moveTo>
                <a:cubicBezTo>
                  <a:pt x="22345" y="15294"/>
                  <a:pt x="22208" y="15113"/>
                  <a:pt x="22076" y="15304"/>
                </a:cubicBezTo>
                <a:cubicBezTo>
                  <a:pt x="22032" y="15439"/>
                  <a:pt x="22009" y="15475"/>
                  <a:pt x="22076" y="15553"/>
                </a:cubicBezTo>
                <a:cubicBezTo>
                  <a:pt x="22313" y="15552"/>
                  <a:pt x="22277" y="15535"/>
                  <a:pt x="22423" y="15329"/>
                </a:cubicBezTo>
                <a:cubicBezTo>
                  <a:pt x="22396" y="15054"/>
                  <a:pt x="22394" y="15556"/>
                  <a:pt x="22399" y="15602"/>
                </a:cubicBezTo>
                <a:cubicBezTo>
                  <a:pt x="22407" y="15652"/>
                  <a:pt x="22415" y="15701"/>
                  <a:pt x="22423" y="15751"/>
                </a:cubicBezTo>
              </a:path>
              <a:path w="5458" h="3548">
                <a:moveTo>
                  <a:pt x="22696" y="15925"/>
                </a:moveTo>
                <a:cubicBezTo>
                  <a:pt x="22696" y="16026"/>
                  <a:pt x="22706" y="16047"/>
                  <a:pt x="22671" y="16098"/>
                </a:cubicBezTo>
              </a:path>
              <a:path w="5458" h="3548">
                <a:moveTo>
                  <a:pt x="23068" y="15304"/>
                </a:moveTo>
                <a:cubicBezTo>
                  <a:pt x="23103" y="15464"/>
                  <a:pt x="23144" y="15619"/>
                  <a:pt x="23192" y="15776"/>
                </a:cubicBezTo>
              </a:path>
              <a:path w="5458" h="3548">
                <a:moveTo>
                  <a:pt x="23540" y="15156"/>
                </a:moveTo>
                <a:cubicBezTo>
                  <a:pt x="23462" y="15354"/>
                  <a:pt x="23432" y="15445"/>
                  <a:pt x="23440" y="15652"/>
                </a:cubicBezTo>
                <a:cubicBezTo>
                  <a:pt x="23630" y="15704"/>
                  <a:pt x="23867" y="15679"/>
                  <a:pt x="23887" y="15404"/>
                </a:cubicBezTo>
                <a:cubicBezTo>
                  <a:pt x="23837" y="15255"/>
                  <a:pt x="23820" y="15205"/>
                  <a:pt x="23688" y="15205"/>
                </a:cubicBezTo>
              </a:path>
              <a:path w="5458" h="3548">
                <a:moveTo>
                  <a:pt x="22423" y="13667"/>
                </a:moveTo>
                <a:cubicBezTo>
                  <a:pt x="22515" y="13659"/>
                  <a:pt x="22583" y="13655"/>
                  <a:pt x="22671" y="13667"/>
                </a:cubicBezTo>
                <a:cubicBezTo>
                  <a:pt x="22610" y="13667"/>
                  <a:pt x="22309" y="13612"/>
                  <a:pt x="22498" y="13717"/>
                </a:cubicBezTo>
                <a:cubicBezTo>
                  <a:pt x="22693" y="13825"/>
                  <a:pt x="22267" y="13692"/>
                  <a:pt x="22473" y="13692"/>
                </a:cubicBezTo>
                <a:cubicBezTo>
                  <a:pt x="22490" y="13692"/>
                  <a:pt x="22506" y="13692"/>
                  <a:pt x="22523" y="13692"/>
                </a:cubicBezTo>
              </a:path>
              <a:path w="5458" h="3548">
                <a:moveTo>
                  <a:pt x="19124" y="15999"/>
                </a:moveTo>
                <a:cubicBezTo>
                  <a:pt x="19164" y="16072"/>
                  <a:pt x="19173" y="16108"/>
                  <a:pt x="19224" y="16173"/>
                </a:cubicBezTo>
                <a:cubicBezTo>
                  <a:pt x="19314" y="16287"/>
                  <a:pt x="19468" y="16197"/>
                  <a:pt x="19571" y="16148"/>
                </a:cubicBezTo>
                <a:cubicBezTo>
                  <a:pt x="19666" y="16103"/>
                  <a:pt x="19818" y="16075"/>
                  <a:pt x="19893" y="15999"/>
                </a:cubicBezTo>
                <a:cubicBezTo>
                  <a:pt x="19953" y="15939"/>
                  <a:pt x="20002" y="15881"/>
                  <a:pt x="20042" y="15801"/>
                </a:cubicBezTo>
                <a:cubicBezTo>
                  <a:pt x="20076" y="15733"/>
                  <a:pt x="20114" y="15677"/>
                  <a:pt x="20117" y="15602"/>
                </a:cubicBezTo>
                <a:cubicBezTo>
                  <a:pt x="20122" y="15492"/>
                  <a:pt x="20124" y="15385"/>
                  <a:pt x="20092" y="15280"/>
                </a:cubicBezTo>
                <a:cubicBezTo>
                  <a:pt x="20065" y="15194"/>
                  <a:pt x="20040" y="15115"/>
                  <a:pt x="20017" y="15032"/>
                </a:cubicBezTo>
                <a:cubicBezTo>
                  <a:pt x="20002" y="14977"/>
                  <a:pt x="19930" y="14902"/>
                  <a:pt x="19893" y="14858"/>
                </a:cubicBezTo>
                <a:cubicBezTo>
                  <a:pt x="19829" y="14782"/>
                  <a:pt x="19720" y="14721"/>
                  <a:pt x="19621" y="14709"/>
                </a:cubicBezTo>
                <a:cubicBezTo>
                  <a:pt x="19498" y="14694"/>
                  <a:pt x="19338" y="14708"/>
                  <a:pt x="19224" y="14759"/>
                </a:cubicBezTo>
                <a:cubicBezTo>
                  <a:pt x="19153" y="14791"/>
                  <a:pt x="19017" y="14864"/>
                  <a:pt x="18976" y="14932"/>
                </a:cubicBezTo>
                <a:cubicBezTo>
                  <a:pt x="18925" y="15016"/>
                  <a:pt x="18910" y="15161"/>
                  <a:pt x="18901" y="15255"/>
                </a:cubicBezTo>
                <a:cubicBezTo>
                  <a:pt x="18891" y="15357"/>
                  <a:pt x="18940" y="15454"/>
                  <a:pt x="18951" y="15553"/>
                </a:cubicBezTo>
                <a:cubicBezTo>
                  <a:pt x="18959" y="15628"/>
                  <a:pt x="18976" y="15705"/>
                  <a:pt x="19000" y="15776"/>
                </a:cubicBezTo>
                <a:cubicBezTo>
                  <a:pt x="19024" y="15847"/>
                  <a:pt x="19034" y="15906"/>
                  <a:pt x="19050" y="15974"/>
                </a:cubicBezTo>
                <a:cubicBezTo>
                  <a:pt x="19062" y="16024"/>
                  <a:pt x="19097" y="16132"/>
                  <a:pt x="19124" y="16148"/>
                </a:cubicBezTo>
                <a:cubicBezTo>
                  <a:pt x="19141" y="16148"/>
                  <a:pt x="19157" y="16148"/>
                  <a:pt x="19174" y="16148"/>
                </a:cubicBezTo>
              </a:path>
              <a:path w="5458" h="3548">
                <a:moveTo>
                  <a:pt x="21208" y="15925"/>
                </a:moveTo>
                <a:cubicBezTo>
                  <a:pt x="21167" y="15925"/>
                  <a:pt x="21118" y="16008"/>
                  <a:pt x="21183" y="16073"/>
                </a:cubicBezTo>
                <a:cubicBezTo>
                  <a:pt x="21245" y="16134"/>
                  <a:pt x="21359" y="16119"/>
                  <a:pt x="21431" y="16098"/>
                </a:cubicBezTo>
                <a:cubicBezTo>
                  <a:pt x="21491" y="16081"/>
                  <a:pt x="21551" y="16014"/>
                  <a:pt x="21605" y="15999"/>
                </a:cubicBezTo>
                <a:cubicBezTo>
                  <a:pt x="21658" y="15985"/>
                  <a:pt x="21713" y="15977"/>
                  <a:pt x="21754" y="15925"/>
                </a:cubicBezTo>
                <a:cubicBezTo>
                  <a:pt x="21797" y="15871"/>
                  <a:pt x="21866" y="15748"/>
                  <a:pt x="21878" y="15677"/>
                </a:cubicBezTo>
                <a:cubicBezTo>
                  <a:pt x="21888" y="15622"/>
                  <a:pt x="21912" y="15504"/>
                  <a:pt x="21903" y="15453"/>
                </a:cubicBezTo>
                <a:cubicBezTo>
                  <a:pt x="21895" y="15408"/>
                  <a:pt x="21891" y="15348"/>
                  <a:pt x="21878" y="15304"/>
                </a:cubicBezTo>
                <a:cubicBezTo>
                  <a:pt x="21854" y="15220"/>
                  <a:pt x="21869" y="15111"/>
                  <a:pt x="21828" y="15032"/>
                </a:cubicBezTo>
                <a:cubicBezTo>
                  <a:pt x="21790" y="14959"/>
                  <a:pt x="21699" y="14918"/>
                  <a:pt x="21630" y="14883"/>
                </a:cubicBezTo>
                <a:cubicBezTo>
                  <a:pt x="21540" y="14838"/>
                  <a:pt x="21468" y="14860"/>
                  <a:pt x="21382" y="14833"/>
                </a:cubicBezTo>
                <a:cubicBezTo>
                  <a:pt x="21325" y="14815"/>
                  <a:pt x="21280" y="14808"/>
                  <a:pt x="21208" y="14808"/>
                </a:cubicBezTo>
                <a:cubicBezTo>
                  <a:pt x="21096" y="14808"/>
                  <a:pt x="21050" y="14901"/>
                  <a:pt x="21034" y="15007"/>
                </a:cubicBezTo>
                <a:cubicBezTo>
                  <a:pt x="21016" y="15122"/>
                  <a:pt x="21018" y="15221"/>
                  <a:pt x="21034" y="15329"/>
                </a:cubicBezTo>
                <a:cubicBezTo>
                  <a:pt x="21044" y="15394"/>
                  <a:pt x="21057" y="15443"/>
                  <a:pt x="21084" y="15503"/>
                </a:cubicBezTo>
              </a:path>
              <a:path w="5458" h="3548">
                <a:moveTo>
                  <a:pt x="23192" y="12675"/>
                </a:moveTo>
                <a:cubicBezTo>
                  <a:pt x="23284" y="12721"/>
                  <a:pt x="23382" y="12761"/>
                  <a:pt x="23465" y="12824"/>
                </a:cubicBezTo>
                <a:cubicBezTo>
                  <a:pt x="23519" y="12865"/>
                  <a:pt x="23563" y="12873"/>
                  <a:pt x="23614" y="12898"/>
                </a:cubicBezTo>
                <a:cubicBezTo>
                  <a:pt x="23642" y="12926"/>
                  <a:pt x="23655" y="12935"/>
                  <a:pt x="23688" y="12923"/>
                </a:cubicBezTo>
              </a:path>
              <a:path w="5458" h="3548">
                <a:moveTo>
                  <a:pt x="22275" y="14883"/>
                </a:moveTo>
                <a:cubicBezTo>
                  <a:pt x="22325" y="14826"/>
                  <a:pt x="22362" y="14775"/>
                  <a:pt x="22399" y="14709"/>
                </a:cubicBezTo>
                <a:cubicBezTo>
                  <a:pt x="22370" y="14744"/>
                  <a:pt x="22244" y="14969"/>
                  <a:pt x="22200" y="15081"/>
                </a:cubicBezTo>
                <a:cubicBezTo>
                  <a:pt x="22116" y="15296"/>
                  <a:pt x="22042" y="15506"/>
                  <a:pt x="21977" y="15726"/>
                </a:cubicBezTo>
                <a:cubicBezTo>
                  <a:pt x="21946" y="15833"/>
                  <a:pt x="21933" y="15942"/>
                  <a:pt x="21903" y="16049"/>
                </a:cubicBezTo>
                <a:cubicBezTo>
                  <a:pt x="21880" y="16116"/>
                  <a:pt x="21875" y="16134"/>
                  <a:pt x="21853" y="161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91160" y="5367240"/>
            <a:ext cx="358920" cy="527040"/>
          </a:xfrm>
          <a:custGeom>
            <a:avLst/>
            <a:gdLst/>
            <a:ahLst/>
            <a:rect l="l" t="t" r="r" b="b"/>
            <a:pathLst>
              <a:path w="993" h="1464">
                <a:moveTo>
                  <a:pt x="18256" y="16049"/>
                </a:moveTo>
                <a:cubicBezTo>
                  <a:pt x="18244" y="16147"/>
                  <a:pt x="18325" y="16213"/>
                  <a:pt x="18405" y="16297"/>
                </a:cubicBezTo>
                <a:cubicBezTo>
                  <a:pt x="18487" y="16382"/>
                  <a:pt x="18576" y="16382"/>
                  <a:pt x="18678" y="16321"/>
                </a:cubicBezTo>
                <a:cubicBezTo>
                  <a:pt x="18753" y="16277"/>
                  <a:pt x="18815" y="16209"/>
                  <a:pt x="18876" y="16148"/>
                </a:cubicBezTo>
                <a:cubicBezTo>
                  <a:pt x="18935" y="16089"/>
                  <a:pt x="18980" y="16059"/>
                  <a:pt x="19000" y="15974"/>
                </a:cubicBezTo>
                <a:cubicBezTo>
                  <a:pt x="19016" y="15908"/>
                  <a:pt x="19025" y="15847"/>
                  <a:pt x="19025" y="15776"/>
                </a:cubicBezTo>
                <a:cubicBezTo>
                  <a:pt x="19025" y="15614"/>
                  <a:pt x="19017" y="15463"/>
                  <a:pt x="19000" y="15304"/>
                </a:cubicBezTo>
                <a:cubicBezTo>
                  <a:pt x="18992" y="15223"/>
                  <a:pt x="18983" y="15073"/>
                  <a:pt x="18926" y="15007"/>
                </a:cubicBezTo>
                <a:cubicBezTo>
                  <a:pt x="18899" y="14976"/>
                  <a:pt x="18794" y="14906"/>
                  <a:pt x="18752" y="14908"/>
                </a:cubicBezTo>
                <a:cubicBezTo>
                  <a:pt x="18676" y="14911"/>
                  <a:pt x="18547" y="14946"/>
                  <a:pt x="18479" y="14982"/>
                </a:cubicBezTo>
                <a:cubicBezTo>
                  <a:pt x="18392" y="15027"/>
                  <a:pt x="18278" y="15085"/>
                  <a:pt x="18207" y="15156"/>
                </a:cubicBezTo>
                <a:cubicBezTo>
                  <a:pt x="18152" y="15211"/>
                  <a:pt x="18073" y="15379"/>
                  <a:pt x="18058" y="15453"/>
                </a:cubicBezTo>
                <a:cubicBezTo>
                  <a:pt x="18040" y="15546"/>
                  <a:pt x="18002" y="15732"/>
                  <a:pt x="18033" y="15825"/>
                </a:cubicBezTo>
                <a:cubicBezTo>
                  <a:pt x="18082" y="15972"/>
                  <a:pt x="18146" y="16053"/>
                  <a:pt x="18256" y="16148"/>
                </a:cubicBezTo>
                <a:cubicBezTo>
                  <a:pt x="18318" y="16209"/>
                  <a:pt x="18343" y="16215"/>
                  <a:pt x="18331" y="162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250040" y="5375160"/>
            <a:ext cx="358920" cy="428760"/>
          </a:xfrm>
          <a:custGeom>
            <a:avLst/>
            <a:gdLst/>
            <a:ahLst/>
            <a:rect l="l" t="t" r="r" b="b"/>
            <a:pathLst>
              <a:path w="994" h="1192">
                <a:moveTo>
                  <a:pt x="20166" y="16073"/>
                </a:moveTo>
                <a:cubicBezTo>
                  <a:pt x="20248" y="16104"/>
                  <a:pt x="20345" y="16123"/>
                  <a:pt x="20464" y="16123"/>
                </a:cubicBezTo>
                <a:cubicBezTo>
                  <a:pt x="20560" y="16123"/>
                  <a:pt x="20652" y="16124"/>
                  <a:pt x="20737" y="16098"/>
                </a:cubicBezTo>
                <a:cubicBezTo>
                  <a:pt x="20812" y="16075"/>
                  <a:pt x="20883" y="16075"/>
                  <a:pt x="20960" y="16049"/>
                </a:cubicBezTo>
                <a:cubicBezTo>
                  <a:pt x="21040" y="16022"/>
                  <a:pt x="21138" y="15947"/>
                  <a:pt x="21134" y="15850"/>
                </a:cubicBezTo>
                <a:cubicBezTo>
                  <a:pt x="21130" y="15754"/>
                  <a:pt x="21109" y="15654"/>
                  <a:pt x="21109" y="15553"/>
                </a:cubicBezTo>
                <a:cubicBezTo>
                  <a:pt x="21109" y="15443"/>
                  <a:pt x="21122" y="15334"/>
                  <a:pt x="21084" y="15230"/>
                </a:cubicBezTo>
                <a:cubicBezTo>
                  <a:pt x="21062" y="15170"/>
                  <a:pt x="20979" y="15071"/>
                  <a:pt x="20935" y="15032"/>
                </a:cubicBezTo>
                <a:cubicBezTo>
                  <a:pt x="20870" y="14974"/>
                  <a:pt x="20767" y="14939"/>
                  <a:pt x="20687" y="14932"/>
                </a:cubicBezTo>
                <a:cubicBezTo>
                  <a:pt x="20614" y="14925"/>
                  <a:pt x="20502" y="14971"/>
                  <a:pt x="20439" y="15007"/>
                </a:cubicBezTo>
                <a:cubicBezTo>
                  <a:pt x="20358" y="15053"/>
                  <a:pt x="20330" y="15097"/>
                  <a:pt x="20290" y="15180"/>
                </a:cubicBezTo>
                <a:cubicBezTo>
                  <a:pt x="20244" y="15276"/>
                  <a:pt x="20218" y="15322"/>
                  <a:pt x="20191" y="15429"/>
                </a:cubicBezTo>
                <a:cubicBezTo>
                  <a:pt x="20171" y="15507"/>
                  <a:pt x="20166" y="15571"/>
                  <a:pt x="20166" y="15652"/>
                </a:cubicBezTo>
                <a:cubicBezTo>
                  <a:pt x="20166" y="15733"/>
                  <a:pt x="20135" y="15826"/>
                  <a:pt x="20141" y="15900"/>
                </a:cubicBezTo>
                <a:cubicBezTo>
                  <a:pt x="20145" y="15953"/>
                  <a:pt x="20182" y="16021"/>
                  <a:pt x="20191" y="16073"/>
                </a:cubicBezTo>
                <a:cubicBezTo>
                  <a:pt x="20204" y="16148"/>
                  <a:pt x="20214" y="16123"/>
                  <a:pt x="20290" y="161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15200" y="5295960"/>
            <a:ext cx="482760" cy="500040"/>
          </a:xfrm>
          <a:custGeom>
            <a:avLst/>
            <a:gdLst/>
            <a:ahLst/>
            <a:rect l="l" t="t" r="r" b="b"/>
            <a:pathLst>
              <a:path w="1341" h="1390">
                <a:moveTo>
                  <a:pt x="22944" y="16024"/>
                </a:moveTo>
                <a:cubicBezTo>
                  <a:pt x="22991" y="16064"/>
                  <a:pt x="23022" y="16110"/>
                  <a:pt x="23093" y="16098"/>
                </a:cubicBezTo>
                <a:cubicBezTo>
                  <a:pt x="23191" y="16081"/>
                  <a:pt x="23237" y="16014"/>
                  <a:pt x="23341" y="15999"/>
                </a:cubicBezTo>
                <a:cubicBezTo>
                  <a:pt x="23397" y="15991"/>
                  <a:pt x="23512" y="15929"/>
                  <a:pt x="23564" y="15949"/>
                </a:cubicBezTo>
                <a:cubicBezTo>
                  <a:pt x="23638" y="15978"/>
                  <a:pt x="23871" y="16113"/>
                  <a:pt x="23937" y="15974"/>
                </a:cubicBezTo>
                <a:cubicBezTo>
                  <a:pt x="23978" y="15889"/>
                  <a:pt x="24002" y="15851"/>
                  <a:pt x="24061" y="15776"/>
                </a:cubicBezTo>
                <a:cubicBezTo>
                  <a:pt x="24126" y="15694"/>
                  <a:pt x="24157" y="15606"/>
                  <a:pt x="24160" y="15503"/>
                </a:cubicBezTo>
                <a:cubicBezTo>
                  <a:pt x="24163" y="15409"/>
                  <a:pt x="24149" y="15342"/>
                  <a:pt x="24135" y="15255"/>
                </a:cubicBezTo>
                <a:cubicBezTo>
                  <a:pt x="24124" y="15183"/>
                  <a:pt x="24100" y="15121"/>
                  <a:pt x="24061" y="15056"/>
                </a:cubicBezTo>
                <a:cubicBezTo>
                  <a:pt x="24036" y="15014"/>
                  <a:pt x="23972" y="14891"/>
                  <a:pt x="23937" y="14858"/>
                </a:cubicBezTo>
                <a:cubicBezTo>
                  <a:pt x="23872" y="14797"/>
                  <a:pt x="23865" y="14732"/>
                  <a:pt x="23763" y="14709"/>
                </a:cubicBezTo>
                <a:cubicBezTo>
                  <a:pt x="23664" y="14687"/>
                  <a:pt x="23556" y="14719"/>
                  <a:pt x="23465" y="14734"/>
                </a:cubicBezTo>
                <a:cubicBezTo>
                  <a:pt x="23396" y="14746"/>
                  <a:pt x="23332" y="14755"/>
                  <a:pt x="23267" y="14784"/>
                </a:cubicBezTo>
                <a:cubicBezTo>
                  <a:pt x="23199" y="14814"/>
                  <a:pt x="23135" y="14817"/>
                  <a:pt x="23068" y="14858"/>
                </a:cubicBezTo>
                <a:cubicBezTo>
                  <a:pt x="23009" y="14894"/>
                  <a:pt x="22954" y="14921"/>
                  <a:pt x="22920" y="14982"/>
                </a:cubicBezTo>
                <a:cubicBezTo>
                  <a:pt x="22880" y="15054"/>
                  <a:pt x="22837" y="15147"/>
                  <a:pt x="22820" y="15230"/>
                </a:cubicBezTo>
                <a:cubicBezTo>
                  <a:pt x="22797" y="15344"/>
                  <a:pt x="22832" y="15468"/>
                  <a:pt x="22845" y="15577"/>
                </a:cubicBezTo>
                <a:cubicBezTo>
                  <a:pt x="22856" y="15672"/>
                  <a:pt x="22867" y="15758"/>
                  <a:pt x="22895" y="15850"/>
                </a:cubicBezTo>
                <a:cubicBezTo>
                  <a:pt x="22914" y="15911"/>
                  <a:pt x="22931" y="15971"/>
                  <a:pt x="22969" y="16024"/>
                </a:cubicBezTo>
                <a:cubicBezTo>
                  <a:pt x="23048" y="16135"/>
                  <a:pt x="23099" y="16025"/>
                  <a:pt x="23192" y="15999"/>
                </a:cubicBezTo>
                <a:cubicBezTo>
                  <a:pt x="23260" y="15980"/>
                  <a:pt x="23298" y="16035"/>
                  <a:pt x="23341" y="160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1880" y="2035080"/>
            <a:ext cx="822240" cy="314280"/>
          </a:xfrm>
          <a:custGeom>
            <a:avLst/>
            <a:gdLst/>
            <a:ahLst/>
            <a:rect l="l" t="t" r="r" b="b"/>
            <a:pathLst>
              <a:path w="2283" h="870">
                <a:moveTo>
                  <a:pt x="2034" y="5879"/>
                </a:moveTo>
                <a:cubicBezTo>
                  <a:pt x="2154" y="5860"/>
                  <a:pt x="2256" y="5814"/>
                  <a:pt x="2381" y="5804"/>
                </a:cubicBezTo>
                <a:cubicBezTo>
                  <a:pt x="2404" y="6044"/>
                  <a:pt x="2348" y="6260"/>
                  <a:pt x="2307" y="6499"/>
                </a:cubicBezTo>
              </a:path>
              <a:path w="2283" h="870">
                <a:moveTo>
                  <a:pt x="2604" y="5804"/>
                </a:moveTo>
                <a:cubicBezTo>
                  <a:pt x="2640" y="6018"/>
                  <a:pt x="2668" y="6232"/>
                  <a:pt x="2679" y="6449"/>
                </a:cubicBezTo>
              </a:path>
              <a:path w="2283" h="870">
                <a:moveTo>
                  <a:pt x="2654" y="6127"/>
                </a:moveTo>
                <a:lnTo>
                  <a:pt x="2654" y="6127"/>
                </a:lnTo>
              </a:path>
              <a:path w="2283" h="870">
                <a:moveTo>
                  <a:pt x="3026" y="5779"/>
                </a:moveTo>
                <a:cubicBezTo>
                  <a:pt x="3130" y="5694"/>
                  <a:pt x="3144" y="5676"/>
                  <a:pt x="3249" y="5705"/>
                </a:cubicBezTo>
                <a:cubicBezTo>
                  <a:pt x="3228" y="5831"/>
                  <a:pt x="3153" y="6003"/>
                  <a:pt x="3125" y="6003"/>
                </a:cubicBezTo>
                <a:cubicBezTo>
                  <a:pt x="3335" y="5981"/>
                  <a:pt x="3530" y="6158"/>
                  <a:pt x="3324" y="6400"/>
                </a:cubicBezTo>
                <a:cubicBezTo>
                  <a:pt x="3157" y="6495"/>
                  <a:pt x="3108" y="6527"/>
                  <a:pt x="2977" y="6524"/>
                </a:cubicBezTo>
              </a:path>
              <a:path w="2283" h="870">
                <a:moveTo>
                  <a:pt x="2456" y="6375"/>
                </a:moveTo>
                <a:cubicBezTo>
                  <a:pt x="2509" y="6269"/>
                  <a:pt x="2628" y="6241"/>
                  <a:pt x="2753" y="6201"/>
                </a:cubicBezTo>
              </a:path>
              <a:path w="2283" h="870">
                <a:moveTo>
                  <a:pt x="3671" y="5904"/>
                </a:moveTo>
                <a:cubicBezTo>
                  <a:pt x="3710" y="6021"/>
                  <a:pt x="3748" y="6138"/>
                  <a:pt x="3795" y="6251"/>
                </a:cubicBezTo>
              </a:path>
              <a:path w="2283" h="870">
                <a:moveTo>
                  <a:pt x="3621" y="6052"/>
                </a:moveTo>
                <a:cubicBezTo>
                  <a:pt x="3794" y="6033"/>
                  <a:pt x="3864" y="5994"/>
                  <a:pt x="4018" y="5904"/>
                </a:cubicBezTo>
              </a:path>
              <a:path w="2283" h="870">
                <a:moveTo>
                  <a:pt x="4142" y="5730"/>
                </a:moveTo>
                <a:cubicBezTo>
                  <a:pt x="4070" y="5960"/>
                  <a:pt x="4024" y="6071"/>
                  <a:pt x="4167" y="6251"/>
                </a:cubicBezTo>
                <a:cubicBezTo>
                  <a:pt x="4302" y="6106"/>
                  <a:pt x="4401" y="5933"/>
                  <a:pt x="4217" y="5755"/>
                </a:cubicBezTo>
                <a:cubicBezTo>
                  <a:pt x="4184" y="5738"/>
                  <a:pt x="4151" y="5722"/>
                  <a:pt x="4118" y="57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14680" y="2089080"/>
            <a:ext cx="44280" cy="117720"/>
          </a:xfrm>
          <a:custGeom>
            <a:avLst/>
            <a:gdLst/>
            <a:ahLst/>
            <a:rect l="l" t="t" r="r" b="b"/>
            <a:pathLst>
              <a:path w="126" h="324">
                <a:moveTo>
                  <a:pt x="4812" y="5804"/>
                </a:moveTo>
                <a:cubicBezTo>
                  <a:pt x="4834" y="5981"/>
                  <a:pt x="4834" y="6027"/>
                  <a:pt x="4887" y="6127"/>
                </a:cubicBezTo>
              </a:path>
              <a:path w="126" h="324">
                <a:moveTo>
                  <a:pt x="4762" y="5978"/>
                </a:moveTo>
                <a:cubicBezTo>
                  <a:pt x="4795" y="5961"/>
                  <a:pt x="4829" y="5945"/>
                  <a:pt x="4862" y="59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19160" y="1795320"/>
            <a:ext cx="1305000" cy="473040"/>
          </a:xfrm>
          <a:custGeom>
            <a:avLst/>
            <a:gdLst/>
            <a:ahLst/>
            <a:rect l="l" t="t" r="r" b="b"/>
            <a:pathLst>
              <a:path w="3622" h="1315">
                <a:moveTo>
                  <a:pt x="5333" y="5581"/>
                </a:moveTo>
                <a:cubicBezTo>
                  <a:pt x="5491" y="5648"/>
                  <a:pt x="5715" y="5808"/>
                  <a:pt x="5507" y="6003"/>
                </a:cubicBezTo>
                <a:cubicBezTo>
                  <a:pt x="5411" y="6093"/>
                  <a:pt x="5376" y="6073"/>
                  <a:pt x="5358" y="6003"/>
                </a:cubicBezTo>
                <a:cubicBezTo>
                  <a:pt x="5454" y="6010"/>
                  <a:pt x="5538" y="6026"/>
                  <a:pt x="5631" y="6052"/>
                </a:cubicBezTo>
              </a:path>
              <a:path w="3622" h="1315">
                <a:moveTo>
                  <a:pt x="5804" y="5705"/>
                </a:moveTo>
                <a:cubicBezTo>
                  <a:pt x="5924" y="5698"/>
                  <a:pt x="6033" y="5679"/>
                  <a:pt x="6152" y="5655"/>
                </a:cubicBezTo>
              </a:path>
              <a:path w="3622" h="1315">
                <a:moveTo>
                  <a:pt x="5953" y="5928"/>
                </a:moveTo>
                <a:cubicBezTo>
                  <a:pt x="6003" y="5920"/>
                  <a:pt x="6052" y="5912"/>
                  <a:pt x="6102" y="5904"/>
                </a:cubicBezTo>
              </a:path>
              <a:path w="3622" h="1315">
                <a:moveTo>
                  <a:pt x="6499" y="5482"/>
                </a:moveTo>
                <a:cubicBezTo>
                  <a:pt x="6519" y="5678"/>
                  <a:pt x="6562" y="5882"/>
                  <a:pt x="6598" y="6077"/>
                </a:cubicBezTo>
                <a:cubicBezTo>
                  <a:pt x="6606" y="6110"/>
                  <a:pt x="6615" y="6143"/>
                  <a:pt x="6623" y="6176"/>
                </a:cubicBezTo>
              </a:path>
              <a:path w="3622" h="1315">
                <a:moveTo>
                  <a:pt x="6970" y="5581"/>
                </a:moveTo>
                <a:cubicBezTo>
                  <a:pt x="7064" y="5447"/>
                  <a:pt x="7220" y="5452"/>
                  <a:pt x="7342" y="5606"/>
                </a:cubicBezTo>
                <a:cubicBezTo>
                  <a:pt x="7464" y="5760"/>
                  <a:pt x="7398" y="6001"/>
                  <a:pt x="7193" y="6028"/>
                </a:cubicBezTo>
                <a:cubicBezTo>
                  <a:pt x="7160" y="6020"/>
                  <a:pt x="7127" y="6011"/>
                  <a:pt x="7094" y="6003"/>
                </a:cubicBezTo>
                <a:cubicBezTo>
                  <a:pt x="7105" y="5891"/>
                  <a:pt x="7182" y="5819"/>
                  <a:pt x="7317" y="5854"/>
                </a:cubicBezTo>
                <a:cubicBezTo>
                  <a:pt x="7389" y="5873"/>
                  <a:pt x="7455" y="5962"/>
                  <a:pt x="7516" y="6003"/>
                </a:cubicBezTo>
              </a:path>
              <a:path w="3622" h="1315">
                <a:moveTo>
                  <a:pt x="6772" y="5730"/>
                </a:moveTo>
                <a:cubicBezTo>
                  <a:pt x="6772" y="5698"/>
                  <a:pt x="6810" y="5875"/>
                  <a:pt x="6821" y="5928"/>
                </a:cubicBezTo>
              </a:path>
              <a:path w="3622" h="1315">
                <a:moveTo>
                  <a:pt x="6697" y="5879"/>
                </a:moveTo>
                <a:cubicBezTo>
                  <a:pt x="6794" y="5839"/>
                  <a:pt x="6875" y="5811"/>
                  <a:pt x="6970" y="5779"/>
                </a:cubicBezTo>
              </a:path>
              <a:path w="3622" h="1315">
                <a:moveTo>
                  <a:pt x="7565" y="5680"/>
                </a:moveTo>
                <a:cubicBezTo>
                  <a:pt x="7633" y="5672"/>
                  <a:pt x="7695" y="5661"/>
                  <a:pt x="7764" y="5655"/>
                </a:cubicBezTo>
              </a:path>
              <a:path w="3622" h="1315">
                <a:moveTo>
                  <a:pt x="7590" y="5829"/>
                </a:moveTo>
                <a:cubicBezTo>
                  <a:pt x="7682" y="5820"/>
                  <a:pt x="7771" y="5798"/>
                  <a:pt x="7863" y="5779"/>
                </a:cubicBezTo>
              </a:path>
              <a:path w="3622" h="1315">
                <a:moveTo>
                  <a:pt x="8210" y="5432"/>
                </a:moveTo>
                <a:cubicBezTo>
                  <a:pt x="8321" y="5393"/>
                  <a:pt x="8573" y="5308"/>
                  <a:pt x="8533" y="5531"/>
                </a:cubicBezTo>
                <a:cubicBezTo>
                  <a:pt x="8481" y="5635"/>
                  <a:pt x="8461" y="5670"/>
                  <a:pt x="8384" y="5705"/>
                </a:cubicBezTo>
                <a:cubicBezTo>
                  <a:pt x="8367" y="5713"/>
                  <a:pt x="8351" y="5722"/>
                  <a:pt x="8334" y="5730"/>
                </a:cubicBezTo>
                <a:cubicBezTo>
                  <a:pt x="8432" y="5632"/>
                  <a:pt x="8570" y="5641"/>
                  <a:pt x="8632" y="5804"/>
                </a:cubicBezTo>
                <a:cubicBezTo>
                  <a:pt x="8720" y="6037"/>
                  <a:pt x="8387" y="6058"/>
                  <a:pt x="8260" y="6028"/>
                </a:cubicBezTo>
                <a:cubicBezTo>
                  <a:pt x="8227" y="6011"/>
                  <a:pt x="8194" y="5995"/>
                  <a:pt x="8161" y="5978"/>
                </a:cubicBezTo>
              </a:path>
              <a:path w="3622" h="1315">
                <a:moveTo>
                  <a:pt x="8062" y="6152"/>
                </a:moveTo>
                <a:cubicBezTo>
                  <a:pt x="8241" y="6280"/>
                  <a:pt x="8367" y="6263"/>
                  <a:pt x="8582" y="6201"/>
                </a:cubicBezTo>
                <a:cubicBezTo>
                  <a:pt x="8787" y="6142"/>
                  <a:pt x="8919" y="6028"/>
                  <a:pt x="8954" y="5804"/>
                </a:cubicBezTo>
                <a:cubicBezTo>
                  <a:pt x="8979" y="5644"/>
                  <a:pt x="8942" y="5387"/>
                  <a:pt x="8830" y="5259"/>
                </a:cubicBezTo>
                <a:cubicBezTo>
                  <a:pt x="8747" y="5164"/>
                  <a:pt x="8578" y="5055"/>
                  <a:pt x="8458" y="5011"/>
                </a:cubicBezTo>
                <a:cubicBezTo>
                  <a:pt x="8297" y="4951"/>
                  <a:pt x="8111" y="4986"/>
                  <a:pt x="7962" y="5060"/>
                </a:cubicBezTo>
                <a:cubicBezTo>
                  <a:pt x="7809" y="5136"/>
                  <a:pt x="7792" y="5227"/>
                  <a:pt x="7789" y="5383"/>
                </a:cubicBezTo>
                <a:cubicBezTo>
                  <a:pt x="7784" y="5629"/>
                  <a:pt x="7786" y="5781"/>
                  <a:pt x="7987" y="5953"/>
                </a:cubicBezTo>
                <a:cubicBezTo>
                  <a:pt x="8096" y="6046"/>
                  <a:pt x="8183" y="6063"/>
                  <a:pt x="8310" y="6102"/>
                </a:cubicBezTo>
              </a:path>
              <a:path w="3622" h="1315">
                <a:moveTo>
                  <a:pt x="8161" y="6300"/>
                </a:moveTo>
                <a:cubicBezTo>
                  <a:pt x="8147" y="6229"/>
                  <a:pt x="8113" y="6203"/>
                  <a:pt x="8062" y="6152"/>
                </a:cubicBezTo>
                <a:cubicBezTo>
                  <a:pt x="8045" y="6135"/>
                  <a:pt x="8029" y="6119"/>
                  <a:pt x="8012" y="6102"/>
                </a:cubicBezTo>
                <a:cubicBezTo>
                  <a:pt x="8095" y="6120"/>
                  <a:pt x="8186" y="6159"/>
                  <a:pt x="8260" y="6201"/>
                </a:cubicBezTo>
                <a:cubicBezTo>
                  <a:pt x="8173" y="6125"/>
                  <a:pt x="8022" y="6074"/>
                  <a:pt x="8086" y="6052"/>
                </a:cubicBezTo>
              </a:path>
              <a:path w="3622" h="1315">
                <a:moveTo>
                  <a:pt x="8384" y="6300"/>
                </a:moveTo>
                <a:cubicBezTo>
                  <a:pt x="8376" y="6292"/>
                  <a:pt x="8367" y="6284"/>
                  <a:pt x="8359" y="62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03840" y="2973240"/>
            <a:ext cx="189000" cy="36720"/>
          </a:xfrm>
          <a:custGeom>
            <a:avLst/>
            <a:gdLst/>
            <a:ahLst/>
            <a:rect l="l" t="t" r="r" b="b"/>
            <a:pathLst>
              <a:path w="522" h="100">
                <a:moveTo>
                  <a:pt x="13444" y="8310"/>
                </a:moveTo>
                <a:cubicBezTo>
                  <a:pt x="13504" y="8265"/>
                  <a:pt x="13641" y="8267"/>
                  <a:pt x="13717" y="8260"/>
                </a:cubicBezTo>
                <a:cubicBezTo>
                  <a:pt x="13791" y="8260"/>
                  <a:pt x="13816" y="8260"/>
                  <a:pt x="13866" y="8260"/>
                </a:cubicBezTo>
                <a:cubicBezTo>
                  <a:pt x="13720" y="8302"/>
                  <a:pt x="13560" y="8297"/>
                  <a:pt x="13419" y="8334"/>
                </a:cubicBezTo>
                <a:cubicBezTo>
                  <a:pt x="13391" y="8363"/>
                  <a:pt x="13378" y="8371"/>
                  <a:pt x="13345" y="83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19720" y="2214720"/>
            <a:ext cx="1662120" cy="465120"/>
          </a:xfrm>
          <a:custGeom>
            <a:avLst/>
            <a:gdLst/>
            <a:ahLst/>
            <a:rect l="l" t="t" r="r" b="b"/>
            <a:pathLst>
              <a:path w="4615" h="1290">
                <a:moveTo>
                  <a:pt x="12675" y="6548"/>
                </a:moveTo>
                <a:cubicBezTo>
                  <a:pt x="12604" y="6508"/>
                  <a:pt x="12568" y="6466"/>
                  <a:pt x="12477" y="6524"/>
                </a:cubicBezTo>
                <a:cubicBezTo>
                  <a:pt x="12396" y="6576"/>
                  <a:pt x="12334" y="6672"/>
                  <a:pt x="12278" y="6747"/>
                </a:cubicBezTo>
                <a:cubicBezTo>
                  <a:pt x="12356" y="6814"/>
                  <a:pt x="12568" y="6896"/>
                  <a:pt x="12601" y="6995"/>
                </a:cubicBezTo>
                <a:cubicBezTo>
                  <a:pt x="12593" y="7020"/>
                  <a:pt x="12584" y="7044"/>
                  <a:pt x="12576" y="7069"/>
                </a:cubicBezTo>
                <a:cubicBezTo>
                  <a:pt x="12379" y="7239"/>
                  <a:pt x="12565" y="6799"/>
                  <a:pt x="12576" y="6772"/>
                </a:cubicBezTo>
                <a:cubicBezTo>
                  <a:pt x="12633" y="6658"/>
                  <a:pt x="12619" y="6608"/>
                  <a:pt x="12700" y="6623"/>
                </a:cubicBezTo>
              </a:path>
              <a:path w="4615" h="1290">
                <a:moveTo>
                  <a:pt x="12973" y="6524"/>
                </a:moveTo>
                <a:cubicBezTo>
                  <a:pt x="13002" y="6666"/>
                  <a:pt x="13032" y="6803"/>
                  <a:pt x="13047" y="6945"/>
                </a:cubicBezTo>
              </a:path>
              <a:path w="4615" h="1290">
                <a:moveTo>
                  <a:pt x="12874" y="6747"/>
                </a:moveTo>
                <a:cubicBezTo>
                  <a:pt x="13001" y="6725"/>
                  <a:pt x="13119" y="6705"/>
                  <a:pt x="13246" y="6697"/>
                </a:cubicBezTo>
              </a:path>
              <a:path w="4615" h="1290">
                <a:moveTo>
                  <a:pt x="13419" y="6548"/>
                </a:moveTo>
                <a:cubicBezTo>
                  <a:pt x="13521" y="6527"/>
                  <a:pt x="13615" y="6507"/>
                  <a:pt x="13717" y="6499"/>
                </a:cubicBezTo>
                <a:cubicBezTo>
                  <a:pt x="13732" y="6693"/>
                  <a:pt x="13637" y="6859"/>
                  <a:pt x="13568" y="7045"/>
                </a:cubicBezTo>
                <a:cubicBezTo>
                  <a:pt x="13568" y="7053"/>
                  <a:pt x="13568" y="7061"/>
                  <a:pt x="13568" y="7069"/>
                </a:cubicBezTo>
              </a:path>
              <a:path w="4615" h="1290">
                <a:moveTo>
                  <a:pt x="14039" y="6896"/>
                </a:moveTo>
                <a:cubicBezTo>
                  <a:pt x="14099" y="6866"/>
                  <a:pt x="14166" y="6850"/>
                  <a:pt x="14238" y="6821"/>
                </a:cubicBezTo>
              </a:path>
              <a:path w="4615" h="1290">
                <a:moveTo>
                  <a:pt x="14139" y="7020"/>
                </a:moveTo>
                <a:cubicBezTo>
                  <a:pt x="14248" y="6992"/>
                  <a:pt x="14291" y="6980"/>
                  <a:pt x="14362" y="6945"/>
                </a:cubicBezTo>
              </a:path>
              <a:path w="4615" h="1290">
                <a:moveTo>
                  <a:pt x="14635" y="6548"/>
                </a:moveTo>
                <a:cubicBezTo>
                  <a:pt x="14518" y="6492"/>
                  <a:pt x="14585" y="6880"/>
                  <a:pt x="14585" y="6945"/>
                </a:cubicBezTo>
                <a:cubicBezTo>
                  <a:pt x="14585" y="6986"/>
                  <a:pt x="14585" y="7028"/>
                  <a:pt x="14585" y="7069"/>
                </a:cubicBezTo>
              </a:path>
              <a:path w="4615" h="1290">
                <a:moveTo>
                  <a:pt x="15230" y="6499"/>
                </a:moveTo>
                <a:cubicBezTo>
                  <a:pt x="15136" y="6499"/>
                  <a:pt x="15068" y="6491"/>
                  <a:pt x="14982" y="6474"/>
                </a:cubicBezTo>
                <a:cubicBezTo>
                  <a:pt x="14966" y="6571"/>
                  <a:pt x="14972" y="6629"/>
                  <a:pt x="15007" y="6722"/>
                </a:cubicBezTo>
                <a:cubicBezTo>
                  <a:pt x="15067" y="6674"/>
                  <a:pt x="15124" y="6656"/>
                  <a:pt x="15205" y="6672"/>
                </a:cubicBezTo>
                <a:cubicBezTo>
                  <a:pt x="15291" y="6689"/>
                  <a:pt x="15388" y="6800"/>
                  <a:pt x="15354" y="6896"/>
                </a:cubicBezTo>
                <a:cubicBezTo>
                  <a:pt x="15311" y="7020"/>
                  <a:pt x="15216" y="7049"/>
                  <a:pt x="15106" y="7020"/>
                </a:cubicBezTo>
                <a:cubicBezTo>
                  <a:pt x="15046" y="7000"/>
                  <a:pt x="15031" y="7001"/>
                  <a:pt x="15007" y="6970"/>
                </a:cubicBezTo>
              </a:path>
              <a:path w="4615" h="1290">
                <a:moveTo>
                  <a:pt x="14784" y="6747"/>
                </a:moveTo>
                <a:cubicBezTo>
                  <a:pt x="14784" y="6821"/>
                  <a:pt x="14784" y="6830"/>
                  <a:pt x="14784" y="6871"/>
                </a:cubicBezTo>
              </a:path>
              <a:path w="4615" h="1290">
                <a:moveTo>
                  <a:pt x="14734" y="6821"/>
                </a:moveTo>
                <a:cubicBezTo>
                  <a:pt x="14802" y="6813"/>
                  <a:pt x="14862" y="6796"/>
                  <a:pt x="14932" y="6796"/>
                </a:cubicBezTo>
              </a:path>
              <a:path w="4615" h="1290">
                <a:moveTo>
                  <a:pt x="15453" y="6747"/>
                </a:moveTo>
                <a:cubicBezTo>
                  <a:pt x="15522" y="6741"/>
                  <a:pt x="15584" y="6730"/>
                  <a:pt x="15652" y="6722"/>
                </a:cubicBezTo>
              </a:path>
              <a:path w="4615" h="1290">
                <a:moveTo>
                  <a:pt x="15577" y="6871"/>
                </a:moveTo>
                <a:cubicBezTo>
                  <a:pt x="15645" y="6863"/>
                  <a:pt x="15707" y="6852"/>
                  <a:pt x="15776" y="6846"/>
                </a:cubicBezTo>
              </a:path>
              <a:path w="4615" h="1290">
                <a:moveTo>
                  <a:pt x="16148" y="6524"/>
                </a:moveTo>
                <a:cubicBezTo>
                  <a:pt x="16138" y="6600"/>
                  <a:pt x="16089" y="6628"/>
                  <a:pt x="16073" y="6697"/>
                </a:cubicBezTo>
                <a:cubicBezTo>
                  <a:pt x="16059" y="6757"/>
                  <a:pt x="16065" y="6808"/>
                  <a:pt x="16049" y="6871"/>
                </a:cubicBezTo>
                <a:cubicBezTo>
                  <a:pt x="16033" y="6935"/>
                  <a:pt x="16018" y="6978"/>
                  <a:pt x="16049" y="7045"/>
                </a:cubicBezTo>
                <a:cubicBezTo>
                  <a:pt x="16070" y="7092"/>
                  <a:pt x="16155" y="7116"/>
                  <a:pt x="16197" y="7119"/>
                </a:cubicBezTo>
                <a:cubicBezTo>
                  <a:pt x="16281" y="7124"/>
                  <a:pt x="16301" y="7105"/>
                  <a:pt x="16371" y="7069"/>
                </a:cubicBezTo>
                <a:cubicBezTo>
                  <a:pt x="16437" y="7035"/>
                  <a:pt x="16521" y="6947"/>
                  <a:pt x="16446" y="6871"/>
                </a:cubicBezTo>
                <a:cubicBezTo>
                  <a:pt x="16374" y="6799"/>
                  <a:pt x="16316" y="6822"/>
                  <a:pt x="16272" y="6896"/>
                </a:cubicBezTo>
                <a:cubicBezTo>
                  <a:pt x="16230" y="6967"/>
                  <a:pt x="16245" y="7023"/>
                  <a:pt x="16272" y="7094"/>
                </a:cubicBezTo>
              </a:path>
              <a:path w="4615" h="1290">
                <a:moveTo>
                  <a:pt x="15999" y="7342"/>
                </a:moveTo>
                <a:cubicBezTo>
                  <a:pt x="16068" y="7412"/>
                  <a:pt x="16138" y="7392"/>
                  <a:pt x="16247" y="7392"/>
                </a:cubicBezTo>
                <a:cubicBezTo>
                  <a:pt x="16348" y="7392"/>
                  <a:pt x="16429" y="7391"/>
                  <a:pt x="16520" y="7342"/>
                </a:cubicBezTo>
                <a:cubicBezTo>
                  <a:pt x="16580" y="7310"/>
                  <a:pt x="16637" y="7257"/>
                  <a:pt x="16694" y="7218"/>
                </a:cubicBezTo>
                <a:cubicBezTo>
                  <a:pt x="16778" y="7161"/>
                  <a:pt x="16835" y="7096"/>
                  <a:pt x="16867" y="6995"/>
                </a:cubicBezTo>
                <a:cubicBezTo>
                  <a:pt x="16896" y="6902"/>
                  <a:pt x="16892" y="6796"/>
                  <a:pt x="16892" y="6697"/>
                </a:cubicBezTo>
                <a:cubicBezTo>
                  <a:pt x="16892" y="6604"/>
                  <a:pt x="16871" y="6538"/>
                  <a:pt x="16842" y="6449"/>
                </a:cubicBezTo>
                <a:cubicBezTo>
                  <a:pt x="16812" y="6358"/>
                  <a:pt x="16796" y="6326"/>
                  <a:pt x="16718" y="6276"/>
                </a:cubicBezTo>
                <a:cubicBezTo>
                  <a:pt x="16659" y="6237"/>
                  <a:pt x="16632" y="6207"/>
                  <a:pt x="16570" y="6176"/>
                </a:cubicBezTo>
                <a:cubicBezTo>
                  <a:pt x="16498" y="6141"/>
                  <a:pt x="16425" y="6152"/>
                  <a:pt x="16346" y="6152"/>
                </a:cubicBezTo>
                <a:cubicBezTo>
                  <a:pt x="16262" y="6152"/>
                  <a:pt x="16219" y="6187"/>
                  <a:pt x="16148" y="6226"/>
                </a:cubicBezTo>
                <a:cubicBezTo>
                  <a:pt x="16075" y="6266"/>
                  <a:pt x="16021" y="6312"/>
                  <a:pt x="15974" y="6375"/>
                </a:cubicBezTo>
                <a:cubicBezTo>
                  <a:pt x="15921" y="6447"/>
                  <a:pt x="15905" y="6498"/>
                  <a:pt x="15875" y="6573"/>
                </a:cubicBezTo>
                <a:cubicBezTo>
                  <a:pt x="15847" y="6644"/>
                  <a:pt x="15841" y="6696"/>
                  <a:pt x="15825" y="6772"/>
                </a:cubicBezTo>
                <a:cubicBezTo>
                  <a:pt x="15815" y="6818"/>
                  <a:pt x="15801" y="6862"/>
                  <a:pt x="15801" y="6921"/>
                </a:cubicBezTo>
                <a:cubicBezTo>
                  <a:pt x="15801" y="7018"/>
                  <a:pt x="15810" y="7102"/>
                  <a:pt x="15825" y="7193"/>
                </a:cubicBezTo>
                <a:cubicBezTo>
                  <a:pt x="15833" y="7245"/>
                  <a:pt x="15852" y="7356"/>
                  <a:pt x="15900" y="7392"/>
                </a:cubicBezTo>
                <a:cubicBezTo>
                  <a:pt x="15938" y="7421"/>
                  <a:pt x="16000" y="7430"/>
                  <a:pt x="16049" y="74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Unit 2 </a:t>
            </a:r>
            <a:r>
              <a:rPr b="1" lang="en-US" sz="4000" spc="-1" strike="noStrike">
                <a:solidFill>
                  <a:srgbClr val="f6fcac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533160" y="3124080"/>
            <a:ext cx="6553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September 28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Objective:  Students will use Prime Factorization to identify factors of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Objective:  Students will use Prime Factorization to identify factors of numbers</a:t>
            </a:r>
            <a:endParaRPr b="1" lang="en-US" sz="2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Vocabul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000" spc="-1" strike="noStrike" u="sng">
                <a:solidFill>
                  <a:srgbClr val="ff6600"/>
                </a:solidFill>
                <a:uFillTx/>
                <a:latin typeface="Arial"/>
              </a:rPr>
              <a:t>Factorization</a:t>
            </a: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 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000" spc="-1" strike="noStrike" u="sng">
                <a:solidFill>
                  <a:srgbClr val="ff6600"/>
                </a:solidFill>
                <a:uFillTx/>
                <a:latin typeface="Arial"/>
              </a:rPr>
              <a:t>Exponent</a:t>
            </a: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 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cc66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3399ff"/>
                </a:solidFill>
                <a:uFillTx/>
                <a:latin typeface="Arial"/>
              </a:rPr>
              <a:t>True or False?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  EVERY number (except for 0 and 1, but you know how they can be) is created by multiplying ONLY prime numbers.</a:t>
            </a: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2743200"/>
            <a:ext cx="1204920" cy="339840"/>
          </a:xfrm>
          <a:custGeom>
            <a:avLst/>
            <a:gdLst/>
            <a:ahLst/>
            <a:rect l="l" t="t" r="r" b="b"/>
            <a:pathLst>
              <a:path w="3349" h="944">
                <a:moveTo>
                  <a:pt x="8434" y="8781"/>
                </a:moveTo>
                <a:cubicBezTo>
                  <a:pt x="8297" y="8815"/>
                  <a:pt x="8405" y="9157"/>
                  <a:pt x="8409" y="9252"/>
                </a:cubicBezTo>
                <a:cubicBezTo>
                  <a:pt x="8409" y="9376"/>
                  <a:pt x="8409" y="9401"/>
                  <a:pt x="8409" y="9475"/>
                </a:cubicBezTo>
                <a:cubicBezTo>
                  <a:pt x="8383" y="9338"/>
                  <a:pt x="8360" y="9150"/>
                  <a:pt x="8533" y="9079"/>
                </a:cubicBezTo>
                <a:cubicBezTo>
                  <a:pt x="8715" y="9005"/>
                  <a:pt x="8741" y="9194"/>
                  <a:pt x="8781" y="9302"/>
                </a:cubicBezTo>
                <a:cubicBezTo>
                  <a:pt x="8612" y="9459"/>
                  <a:pt x="8518" y="9463"/>
                  <a:pt x="8285" y="9426"/>
                </a:cubicBezTo>
              </a:path>
              <a:path w="3349" h="944">
                <a:moveTo>
                  <a:pt x="8806" y="9178"/>
                </a:moveTo>
                <a:cubicBezTo>
                  <a:pt x="8851" y="9291"/>
                  <a:pt x="8867" y="9321"/>
                  <a:pt x="8855" y="9401"/>
                </a:cubicBezTo>
                <a:cubicBezTo>
                  <a:pt x="8809" y="9243"/>
                  <a:pt x="8793" y="9091"/>
                  <a:pt x="9004" y="9054"/>
                </a:cubicBezTo>
                <a:cubicBezTo>
                  <a:pt x="9045" y="9054"/>
                  <a:pt x="9087" y="9054"/>
                  <a:pt x="9128" y="9054"/>
                </a:cubicBezTo>
              </a:path>
              <a:path w="3349" h="944">
                <a:moveTo>
                  <a:pt x="9327" y="9227"/>
                </a:moveTo>
                <a:cubicBezTo>
                  <a:pt x="9421" y="9221"/>
                  <a:pt x="9465" y="9216"/>
                  <a:pt x="9550" y="9178"/>
                </a:cubicBezTo>
                <a:cubicBezTo>
                  <a:pt x="9479" y="9059"/>
                  <a:pt x="9405" y="9059"/>
                  <a:pt x="9277" y="9153"/>
                </a:cubicBezTo>
                <a:cubicBezTo>
                  <a:pt x="9189" y="9218"/>
                  <a:pt x="9141" y="9424"/>
                  <a:pt x="9277" y="9475"/>
                </a:cubicBezTo>
                <a:cubicBezTo>
                  <a:pt x="9310" y="9475"/>
                  <a:pt x="9343" y="9475"/>
                  <a:pt x="9376" y="9475"/>
                </a:cubicBezTo>
              </a:path>
              <a:path w="3349" h="944">
                <a:moveTo>
                  <a:pt x="9748" y="9252"/>
                </a:moveTo>
                <a:cubicBezTo>
                  <a:pt x="9770" y="9164"/>
                  <a:pt x="9707" y="9070"/>
                  <a:pt x="9599" y="9153"/>
                </a:cubicBezTo>
                <a:cubicBezTo>
                  <a:pt x="9486" y="9240"/>
                  <a:pt x="9537" y="9563"/>
                  <a:pt x="9723" y="9426"/>
                </a:cubicBezTo>
                <a:cubicBezTo>
                  <a:pt x="9775" y="9322"/>
                  <a:pt x="9793" y="9284"/>
                  <a:pt x="9798" y="9203"/>
                </a:cubicBezTo>
                <a:cubicBezTo>
                  <a:pt x="9841" y="9330"/>
                  <a:pt x="9834" y="9340"/>
                  <a:pt x="9947" y="9401"/>
                </a:cubicBezTo>
              </a:path>
              <a:path w="3349" h="944">
                <a:moveTo>
                  <a:pt x="9996" y="8756"/>
                </a:moveTo>
                <a:cubicBezTo>
                  <a:pt x="10059" y="8958"/>
                  <a:pt x="10129" y="9140"/>
                  <a:pt x="10145" y="9351"/>
                </a:cubicBezTo>
              </a:path>
              <a:path w="3349" h="944">
                <a:moveTo>
                  <a:pt x="10269" y="9029"/>
                </a:moveTo>
                <a:cubicBezTo>
                  <a:pt x="10182" y="9094"/>
                  <a:pt x="10164" y="9114"/>
                  <a:pt x="10096" y="9128"/>
                </a:cubicBezTo>
                <a:cubicBezTo>
                  <a:pt x="10168" y="8984"/>
                  <a:pt x="10317" y="9012"/>
                  <a:pt x="10418" y="9153"/>
                </a:cubicBezTo>
                <a:cubicBezTo>
                  <a:pt x="10464" y="9267"/>
                  <a:pt x="10478" y="9298"/>
                  <a:pt x="10492" y="9376"/>
                </a:cubicBezTo>
              </a:path>
              <a:path w="3349" h="944">
                <a:moveTo>
                  <a:pt x="10716" y="9227"/>
                </a:moveTo>
                <a:cubicBezTo>
                  <a:pt x="10716" y="9343"/>
                  <a:pt x="10716" y="9360"/>
                  <a:pt x="10716" y="9426"/>
                </a:cubicBezTo>
              </a:path>
              <a:path w="3349" h="944">
                <a:moveTo>
                  <a:pt x="10641" y="8979"/>
                </a:moveTo>
                <a:lnTo>
                  <a:pt x="10641" y="8979"/>
                </a:lnTo>
              </a:path>
              <a:path w="3349" h="944">
                <a:moveTo>
                  <a:pt x="10864" y="9178"/>
                </a:moveTo>
                <a:cubicBezTo>
                  <a:pt x="10904" y="9262"/>
                  <a:pt x="10935" y="9338"/>
                  <a:pt x="10964" y="9426"/>
                </a:cubicBezTo>
                <a:cubicBezTo>
                  <a:pt x="10941" y="9321"/>
                  <a:pt x="10857" y="9062"/>
                  <a:pt x="11088" y="9103"/>
                </a:cubicBezTo>
                <a:cubicBezTo>
                  <a:pt x="11249" y="9132"/>
                  <a:pt x="11250" y="9325"/>
                  <a:pt x="11261" y="9451"/>
                </a:cubicBezTo>
              </a:path>
              <a:path w="3349" h="944">
                <a:moveTo>
                  <a:pt x="11559" y="9054"/>
                </a:moveTo>
                <a:cubicBezTo>
                  <a:pt x="11478" y="9095"/>
                  <a:pt x="11173" y="9309"/>
                  <a:pt x="11410" y="9401"/>
                </a:cubicBezTo>
                <a:cubicBezTo>
                  <a:pt x="11533" y="9449"/>
                  <a:pt x="11568" y="9205"/>
                  <a:pt x="11584" y="9153"/>
                </a:cubicBezTo>
                <a:cubicBezTo>
                  <a:pt x="11636" y="9323"/>
                  <a:pt x="11696" y="9572"/>
                  <a:pt x="11485" y="9674"/>
                </a:cubicBezTo>
                <a:cubicBezTo>
                  <a:pt x="11419" y="9682"/>
                  <a:pt x="11352" y="9691"/>
                  <a:pt x="11286" y="9699"/>
                </a:cubicBezTo>
              </a:path>
              <a:path w="3349" h="944">
                <a:moveTo>
                  <a:pt x="10244" y="9029"/>
                </a:moveTo>
                <a:cubicBezTo>
                  <a:pt x="10295" y="8938"/>
                  <a:pt x="10346" y="8850"/>
                  <a:pt x="10393" y="87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2743200"/>
            <a:ext cx="642960" cy="214200"/>
          </a:xfrm>
          <a:custGeom>
            <a:avLst/>
            <a:gdLst/>
            <a:ahLst/>
            <a:rect l="l" t="t" r="r" b="b"/>
            <a:pathLst>
              <a:path w="1787" h="596">
                <a:moveTo>
                  <a:pt x="12601" y="9252"/>
                </a:moveTo>
                <a:cubicBezTo>
                  <a:pt x="12587" y="9160"/>
                  <a:pt x="12534" y="8949"/>
                  <a:pt x="12378" y="9029"/>
                </a:cubicBezTo>
                <a:cubicBezTo>
                  <a:pt x="12229" y="9105"/>
                  <a:pt x="12246" y="9223"/>
                  <a:pt x="12254" y="9351"/>
                </a:cubicBezTo>
                <a:cubicBezTo>
                  <a:pt x="12404" y="9376"/>
                  <a:pt x="12456" y="9384"/>
                  <a:pt x="12551" y="9327"/>
                </a:cubicBezTo>
              </a:path>
              <a:path w="1787" h="596">
                <a:moveTo>
                  <a:pt x="12502" y="8781"/>
                </a:moveTo>
                <a:cubicBezTo>
                  <a:pt x="12532" y="8948"/>
                  <a:pt x="12610" y="9111"/>
                  <a:pt x="12650" y="9277"/>
                </a:cubicBezTo>
                <a:cubicBezTo>
                  <a:pt x="12650" y="9294"/>
                  <a:pt x="12650" y="9310"/>
                  <a:pt x="12650" y="9327"/>
                </a:cubicBezTo>
              </a:path>
              <a:path w="1787" h="596">
                <a:moveTo>
                  <a:pt x="12824" y="8979"/>
                </a:moveTo>
                <a:cubicBezTo>
                  <a:pt x="12711" y="9117"/>
                  <a:pt x="12659" y="9195"/>
                  <a:pt x="12725" y="9351"/>
                </a:cubicBezTo>
                <a:cubicBezTo>
                  <a:pt x="12851" y="9293"/>
                  <a:pt x="13018" y="9167"/>
                  <a:pt x="12874" y="9004"/>
                </a:cubicBezTo>
                <a:cubicBezTo>
                  <a:pt x="12857" y="9004"/>
                  <a:pt x="12841" y="9004"/>
                  <a:pt x="12824" y="9004"/>
                </a:cubicBezTo>
              </a:path>
              <a:path w="1787" h="596">
                <a:moveTo>
                  <a:pt x="13072" y="9004"/>
                </a:moveTo>
                <a:cubicBezTo>
                  <a:pt x="13077" y="9092"/>
                  <a:pt x="13057" y="9376"/>
                  <a:pt x="13221" y="9351"/>
                </a:cubicBezTo>
                <a:cubicBezTo>
                  <a:pt x="13314" y="9289"/>
                  <a:pt x="13346" y="9251"/>
                  <a:pt x="13345" y="9153"/>
                </a:cubicBezTo>
                <a:cubicBezTo>
                  <a:pt x="13422" y="8964"/>
                  <a:pt x="13254" y="9344"/>
                  <a:pt x="13444" y="9351"/>
                </a:cubicBezTo>
                <a:cubicBezTo>
                  <a:pt x="13617" y="9357"/>
                  <a:pt x="13627" y="9089"/>
                  <a:pt x="13543" y="9004"/>
                </a:cubicBezTo>
                <a:cubicBezTo>
                  <a:pt x="13518" y="8987"/>
                  <a:pt x="13494" y="8971"/>
                  <a:pt x="13469" y="8954"/>
                </a:cubicBezTo>
              </a:path>
              <a:path w="1787" h="596">
                <a:moveTo>
                  <a:pt x="13692" y="9103"/>
                </a:moveTo>
                <a:cubicBezTo>
                  <a:pt x="13712" y="9202"/>
                  <a:pt x="13720" y="9218"/>
                  <a:pt x="13717" y="9277"/>
                </a:cubicBezTo>
                <a:cubicBezTo>
                  <a:pt x="13699" y="9122"/>
                  <a:pt x="13702" y="9105"/>
                  <a:pt x="13791" y="8979"/>
                </a:cubicBezTo>
                <a:cubicBezTo>
                  <a:pt x="13995" y="8995"/>
                  <a:pt x="13996" y="9127"/>
                  <a:pt x="14015" y="93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2819520"/>
            <a:ext cx="133200" cy="134640"/>
          </a:xfrm>
          <a:custGeom>
            <a:avLst/>
            <a:gdLst/>
            <a:ahLst/>
            <a:rect l="l" t="t" r="r" b="b"/>
            <a:pathLst>
              <a:path w="373" h="373">
                <a:moveTo>
                  <a:pt x="15081" y="9153"/>
                </a:moveTo>
                <a:cubicBezTo>
                  <a:pt x="14963" y="9005"/>
                  <a:pt x="14849" y="8894"/>
                  <a:pt x="14734" y="9153"/>
                </a:cubicBezTo>
                <a:cubicBezTo>
                  <a:pt x="14726" y="9203"/>
                  <a:pt x="14717" y="9252"/>
                  <a:pt x="14709" y="9302"/>
                </a:cubicBezTo>
                <a:cubicBezTo>
                  <a:pt x="14726" y="9318"/>
                  <a:pt x="14742" y="9335"/>
                  <a:pt x="14759" y="9351"/>
                </a:cubicBezTo>
                <a:cubicBezTo>
                  <a:pt x="14919" y="9234"/>
                  <a:pt x="14918" y="9053"/>
                  <a:pt x="15007" y="9178"/>
                </a:cubicBezTo>
                <a:cubicBezTo>
                  <a:pt x="15032" y="9211"/>
                  <a:pt x="15056" y="9244"/>
                  <a:pt x="15081" y="92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743200"/>
            <a:ext cx="973080" cy="250920"/>
          </a:xfrm>
          <a:custGeom>
            <a:avLst/>
            <a:gdLst/>
            <a:ahLst/>
            <a:rect l="l" t="t" r="r" b="b"/>
            <a:pathLst>
              <a:path w="2704" h="695">
                <a:moveTo>
                  <a:pt x="15776" y="8930"/>
                </a:moveTo>
                <a:cubicBezTo>
                  <a:pt x="15784" y="9029"/>
                  <a:pt x="15795" y="9127"/>
                  <a:pt x="15801" y="9227"/>
                </a:cubicBezTo>
                <a:cubicBezTo>
                  <a:pt x="15789" y="9105"/>
                  <a:pt x="15744" y="8790"/>
                  <a:pt x="15999" y="8905"/>
                </a:cubicBezTo>
                <a:cubicBezTo>
                  <a:pt x="16135" y="8966"/>
                  <a:pt x="16134" y="9109"/>
                  <a:pt x="16148" y="9227"/>
                </a:cubicBezTo>
              </a:path>
              <a:path w="2704" h="695">
                <a:moveTo>
                  <a:pt x="16346" y="8806"/>
                </a:moveTo>
                <a:cubicBezTo>
                  <a:pt x="16346" y="8926"/>
                  <a:pt x="16345" y="9040"/>
                  <a:pt x="16371" y="9153"/>
                </a:cubicBezTo>
                <a:cubicBezTo>
                  <a:pt x="16581" y="9171"/>
                  <a:pt x="16509" y="9035"/>
                  <a:pt x="16619" y="8905"/>
                </a:cubicBezTo>
                <a:cubicBezTo>
                  <a:pt x="16680" y="8834"/>
                  <a:pt x="16639" y="9089"/>
                  <a:pt x="16669" y="9178"/>
                </a:cubicBezTo>
              </a:path>
              <a:path w="2704" h="695">
                <a:moveTo>
                  <a:pt x="16842" y="8855"/>
                </a:moveTo>
                <a:cubicBezTo>
                  <a:pt x="16837" y="8957"/>
                  <a:pt x="16827" y="9052"/>
                  <a:pt x="16818" y="9153"/>
                </a:cubicBezTo>
                <a:cubicBezTo>
                  <a:pt x="16820" y="9127"/>
                  <a:pt x="16873" y="8797"/>
                  <a:pt x="16917" y="8855"/>
                </a:cubicBezTo>
                <a:cubicBezTo>
                  <a:pt x="16974" y="8929"/>
                  <a:pt x="17019" y="9064"/>
                  <a:pt x="17041" y="9153"/>
                </a:cubicBezTo>
                <a:cubicBezTo>
                  <a:pt x="17053" y="9043"/>
                  <a:pt x="17130" y="8669"/>
                  <a:pt x="17214" y="9029"/>
                </a:cubicBezTo>
                <a:cubicBezTo>
                  <a:pt x="17214" y="9145"/>
                  <a:pt x="17214" y="9161"/>
                  <a:pt x="17214" y="9227"/>
                </a:cubicBezTo>
              </a:path>
              <a:path w="2704" h="695">
                <a:moveTo>
                  <a:pt x="17363" y="8533"/>
                </a:moveTo>
                <a:cubicBezTo>
                  <a:pt x="17369" y="8726"/>
                  <a:pt x="17395" y="8912"/>
                  <a:pt x="17413" y="9103"/>
                </a:cubicBezTo>
                <a:cubicBezTo>
                  <a:pt x="17426" y="8988"/>
                  <a:pt x="17453" y="8907"/>
                  <a:pt x="17537" y="8855"/>
                </a:cubicBezTo>
                <a:cubicBezTo>
                  <a:pt x="17624" y="8975"/>
                  <a:pt x="17762" y="9159"/>
                  <a:pt x="17537" y="9227"/>
                </a:cubicBezTo>
                <a:cubicBezTo>
                  <a:pt x="17441" y="9227"/>
                  <a:pt x="17410" y="9230"/>
                  <a:pt x="17388" y="9153"/>
                </a:cubicBezTo>
              </a:path>
              <a:path w="2704" h="695">
                <a:moveTo>
                  <a:pt x="17859" y="8979"/>
                </a:moveTo>
                <a:cubicBezTo>
                  <a:pt x="17925" y="8942"/>
                  <a:pt x="17976" y="8905"/>
                  <a:pt x="18033" y="8855"/>
                </a:cubicBezTo>
                <a:cubicBezTo>
                  <a:pt x="18012" y="8729"/>
                  <a:pt x="17871" y="8853"/>
                  <a:pt x="17835" y="8930"/>
                </a:cubicBezTo>
                <a:cubicBezTo>
                  <a:pt x="17745" y="9119"/>
                  <a:pt x="17857" y="9123"/>
                  <a:pt x="17983" y="9153"/>
                </a:cubicBezTo>
              </a:path>
              <a:path w="2704" h="695">
                <a:moveTo>
                  <a:pt x="18231" y="8855"/>
                </a:moveTo>
                <a:cubicBezTo>
                  <a:pt x="18231" y="8893"/>
                  <a:pt x="18231" y="9159"/>
                  <a:pt x="18231" y="9029"/>
                </a:cubicBezTo>
                <a:cubicBezTo>
                  <a:pt x="18231" y="8859"/>
                  <a:pt x="18355" y="8811"/>
                  <a:pt x="18479" y="87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2743200"/>
            <a:ext cx="277920" cy="260280"/>
          </a:xfrm>
          <a:custGeom>
            <a:avLst/>
            <a:gdLst/>
            <a:ahLst/>
            <a:rect l="l" t="t" r="r" b="b"/>
            <a:pathLst>
              <a:path w="770" h="720">
                <a:moveTo>
                  <a:pt x="19447" y="8384"/>
                </a:moveTo>
                <a:cubicBezTo>
                  <a:pt x="19453" y="8624"/>
                  <a:pt x="19472" y="8863"/>
                  <a:pt x="19472" y="9103"/>
                </a:cubicBezTo>
              </a:path>
              <a:path w="770" h="720">
                <a:moveTo>
                  <a:pt x="19224" y="8781"/>
                </a:moveTo>
                <a:cubicBezTo>
                  <a:pt x="19399" y="8772"/>
                  <a:pt x="19570" y="8741"/>
                  <a:pt x="19745" y="8731"/>
                </a:cubicBezTo>
                <a:cubicBezTo>
                  <a:pt x="19699" y="8848"/>
                  <a:pt x="19607" y="9052"/>
                  <a:pt x="19844" y="9004"/>
                </a:cubicBezTo>
                <a:cubicBezTo>
                  <a:pt x="20079" y="8956"/>
                  <a:pt x="19958" y="8830"/>
                  <a:pt x="19844" y="87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238880" y="2743200"/>
            <a:ext cx="347760" cy="231840"/>
          </a:xfrm>
          <a:custGeom>
            <a:avLst/>
            <a:gdLst/>
            <a:ahLst/>
            <a:rect l="l" t="t" r="r" b="b"/>
            <a:pathLst>
              <a:path w="968" h="646">
                <a:moveTo>
                  <a:pt x="20588" y="8706"/>
                </a:moveTo>
                <a:cubicBezTo>
                  <a:pt x="20610" y="8823"/>
                  <a:pt x="20630" y="8935"/>
                  <a:pt x="20638" y="9054"/>
                </a:cubicBezTo>
              </a:path>
              <a:path w="968" h="646">
                <a:moveTo>
                  <a:pt x="20613" y="8558"/>
                </a:moveTo>
                <a:lnTo>
                  <a:pt x="20613" y="8558"/>
                </a:lnTo>
              </a:path>
              <a:path w="968" h="646">
                <a:moveTo>
                  <a:pt x="20910" y="8409"/>
                </a:moveTo>
                <a:cubicBezTo>
                  <a:pt x="20962" y="8588"/>
                  <a:pt x="20987" y="8791"/>
                  <a:pt x="21010" y="8979"/>
                </a:cubicBezTo>
                <a:cubicBezTo>
                  <a:pt x="21010" y="8996"/>
                  <a:pt x="21010" y="9012"/>
                  <a:pt x="21010" y="9029"/>
                </a:cubicBezTo>
              </a:path>
              <a:path w="968" h="646">
                <a:moveTo>
                  <a:pt x="20861" y="8682"/>
                </a:moveTo>
                <a:cubicBezTo>
                  <a:pt x="21010" y="8682"/>
                  <a:pt x="21060" y="8682"/>
                  <a:pt x="21158" y="8657"/>
                </a:cubicBezTo>
              </a:path>
              <a:path w="968" h="646">
                <a:moveTo>
                  <a:pt x="21382" y="8657"/>
                </a:moveTo>
                <a:cubicBezTo>
                  <a:pt x="21297" y="8657"/>
                  <a:pt x="21277" y="8650"/>
                  <a:pt x="21233" y="8682"/>
                </a:cubicBezTo>
                <a:cubicBezTo>
                  <a:pt x="21385" y="8729"/>
                  <a:pt x="21505" y="8727"/>
                  <a:pt x="21555" y="8880"/>
                </a:cubicBezTo>
                <a:cubicBezTo>
                  <a:pt x="21430" y="8955"/>
                  <a:pt x="21387" y="8979"/>
                  <a:pt x="21282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772400" y="2743200"/>
            <a:ext cx="777960" cy="330120"/>
          </a:xfrm>
          <a:custGeom>
            <a:avLst/>
            <a:gdLst/>
            <a:ahLst/>
            <a:rect l="l" t="t" r="r" b="b"/>
            <a:pathLst>
              <a:path w="2159" h="919">
                <a:moveTo>
                  <a:pt x="22126" y="8830"/>
                </a:moveTo>
                <a:cubicBezTo>
                  <a:pt x="22182" y="9009"/>
                  <a:pt x="22216" y="9140"/>
                  <a:pt x="22225" y="9327"/>
                </a:cubicBezTo>
              </a:path>
              <a:path w="2159" h="919">
                <a:moveTo>
                  <a:pt x="22027" y="8508"/>
                </a:moveTo>
                <a:cubicBezTo>
                  <a:pt x="22242" y="8541"/>
                  <a:pt x="22355" y="8559"/>
                  <a:pt x="22473" y="8756"/>
                </a:cubicBezTo>
                <a:cubicBezTo>
                  <a:pt x="22354" y="8839"/>
                  <a:pt x="22296" y="8819"/>
                  <a:pt x="22151" y="8806"/>
                </a:cubicBezTo>
              </a:path>
              <a:path w="2159" h="919">
                <a:moveTo>
                  <a:pt x="22572" y="8632"/>
                </a:moveTo>
                <a:cubicBezTo>
                  <a:pt x="22593" y="8716"/>
                  <a:pt x="22595" y="8735"/>
                  <a:pt x="22622" y="8781"/>
                </a:cubicBezTo>
                <a:cubicBezTo>
                  <a:pt x="22653" y="8617"/>
                  <a:pt x="22688" y="8573"/>
                  <a:pt x="22845" y="8508"/>
                </a:cubicBezTo>
              </a:path>
              <a:path w="2159" h="919">
                <a:moveTo>
                  <a:pt x="23019" y="8731"/>
                </a:moveTo>
                <a:cubicBezTo>
                  <a:pt x="23027" y="8764"/>
                  <a:pt x="23036" y="8797"/>
                  <a:pt x="23044" y="8830"/>
                </a:cubicBezTo>
              </a:path>
              <a:path w="2159" h="919">
                <a:moveTo>
                  <a:pt x="23068" y="8409"/>
                </a:moveTo>
                <a:lnTo>
                  <a:pt x="23068" y="8409"/>
                </a:lnTo>
              </a:path>
              <a:path w="2159" h="919">
                <a:moveTo>
                  <a:pt x="23316" y="8806"/>
                </a:moveTo>
                <a:cubicBezTo>
                  <a:pt x="23339" y="8873"/>
                  <a:pt x="23381" y="8679"/>
                  <a:pt x="23465" y="8607"/>
                </a:cubicBezTo>
                <a:cubicBezTo>
                  <a:pt x="23596" y="8494"/>
                  <a:pt x="23632" y="8818"/>
                  <a:pt x="23639" y="8880"/>
                </a:cubicBezTo>
                <a:cubicBezTo>
                  <a:pt x="23639" y="8702"/>
                  <a:pt x="23639" y="8685"/>
                  <a:pt x="23738" y="8533"/>
                </a:cubicBezTo>
                <a:cubicBezTo>
                  <a:pt x="23814" y="8620"/>
                  <a:pt x="23814" y="8701"/>
                  <a:pt x="23837" y="8830"/>
                </a:cubicBezTo>
              </a:path>
              <a:path w="2159" h="919">
                <a:moveTo>
                  <a:pt x="24085" y="8706"/>
                </a:moveTo>
                <a:cubicBezTo>
                  <a:pt x="24163" y="8651"/>
                  <a:pt x="24183" y="8623"/>
                  <a:pt x="24160" y="8533"/>
                </a:cubicBezTo>
                <a:cubicBezTo>
                  <a:pt x="24060" y="8596"/>
                  <a:pt x="23942" y="8759"/>
                  <a:pt x="24085" y="8880"/>
                </a:cubicBezTo>
                <a:cubicBezTo>
                  <a:pt x="24118" y="8888"/>
                  <a:pt x="24152" y="8897"/>
                  <a:pt x="24185" y="8905"/>
                </a:cubicBezTo>
              </a:path>
              <a:path w="2159" h="919">
                <a:moveTo>
                  <a:pt x="22771" y="9128"/>
                </a:moveTo>
                <a:cubicBezTo>
                  <a:pt x="23138" y="9128"/>
                  <a:pt x="23496" y="9097"/>
                  <a:pt x="23862" y="9079"/>
                </a:cubicBezTo>
                <a:cubicBezTo>
                  <a:pt x="23986" y="9079"/>
                  <a:pt x="23995" y="9079"/>
                  <a:pt x="24061" y="90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24680" y="3048120"/>
            <a:ext cx="955800" cy="258480"/>
          </a:xfrm>
          <a:custGeom>
            <a:avLst/>
            <a:gdLst/>
            <a:ahLst/>
            <a:rect l="l" t="t" r="r" b="b"/>
            <a:pathLst>
              <a:path w="2655" h="720">
                <a:moveTo>
                  <a:pt x="20886" y="9252"/>
                </a:moveTo>
                <a:cubicBezTo>
                  <a:pt x="20824" y="9154"/>
                  <a:pt x="20705" y="9057"/>
                  <a:pt x="20588" y="9178"/>
                </a:cubicBezTo>
                <a:cubicBezTo>
                  <a:pt x="20421" y="9350"/>
                  <a:pt x="20583" y="9606"/>
                  <a:pt x="20613" y="9798"/>
                </a:cubicBezTo>
                <a:cubicBezTo>
                  <a:pt x="20613" y="9814"/>
                  <a:pt x="20613" y="9831"/>
                  <a:pt x="20613" y="9847"/>
                </a:cubicBezTo>
              </a:path>
              <a:path w="2655" h="720">
                <a:moveTo>
                  <a:pt x="20439" y="9475"/>
                </a:moveTo>
                <a:cubicBezTo>
                  <a:pt x="20488" y="9477"/>
                  <a:pt x="21083" y="9480"/>
                  <a:pt x="21084" y="9525"/>
                </a:cubicBezTo>
                <a:cubicBezTo>
                  <a:pt x="21086" y="9642"/>
                  <a:pt x="20911" y="9642"/>
                  <a:pt x="20861" y="9748"/>
                </a:cubicBezTo>
                <a:cubicBezTo>
                  <a:pt x="21018" y="9837"/>
                  <a:pt x="21060" y="9691"/>
                  <a:pt x="21134" y="9550"/>
                </a:cubicBezTo>
                <a:cubicBezTo>
                  <a:pt x="21157" y="9725"/>
                  <a:pt x="21223" y="9801"/>
                  <a:pt x="21357" y="9624"/>
                </a:cubicBezTo>
                <a:cubicBezTo>
                  <a:pt x="21420" y="9519"/>
                  <a:pt x="21465" y="9485"/>
                  <a:pt x="21357" y="9475"/>
                </a:cubicBezTo>
                <a:cubicBezTo>
                  <a:pt x="21324" y="9516"/>
                  <a:pt x="21291" y="9558"/>
                  <a:pt x="21258" y="9599"/>
                </a:cubicBezTo>
                <a:cubicBezTo>
                  <a:pt x="21354" y="9779"/>
                  <a:pt x="21527" y="9769"/>
                  <a:pt x="21704" y="9624"/>
                </a:cubicBezTo>
                <a:cubicBezTo>
                  <a:pt x="21840" y="9512"/>
                  <a:pt x="21820" y="9424"/>
                  <a:pt x="21803" y="9277"/>
                </a:cubicBezTo>
                <a:cubicBezTo>
                  <a:pt x="21812" y="9433"/>
                  <a:pt x="21816" y="9601"/>
                  <a:pt x="21853" y="9748"/>
                </a:cubicBezTo>
              </a:path>
              <a:path w="2655" h="720">
                <a:moveTo>
                  <a:pt x="21555" y="9401"/>
                </a:moveTo>
                <a:cubicBezTo>
                  <a:pt x="21761" y="9425"/>
                  <a:pt x="21925" y="9430"/>
                  <a:pt x="22126" y="9376"/>
                </a:cubicBezTo>
                <a:cubicBezTo>
                  <a:pt x="21996" y="9535"/>
                  <a:pt x="21970" y="9583"/>
                  <a:pt x="22076" y="9748"/>
                </a:cubicBezTo>
                <a:cubicBezTo>
                  <a:pt x="22240" y="9721"/>
                  <a:pt x="22374" y="9631"/>
                  <a:pt x="22250" y="9426"/>
                </a:cubicBezTo>
                <a:cubicBezTo>
                  <a:pt x="22225" y="9409"/>
                  <a:pt x="22200" y="9393"/>
                  <a:pt x="22175" y="9376"/>
                </a:cubicBezTo>
              </a:path>
              <a:path w="2655" h="720">
                <a:moveTo>
                  <a:pt x="22473" y="9599"/>
                </a:moveTo>
                <a:cubicBezTo>
                  <a:pt x="22473" y="9649"/>
                  <a:pt x="22473" y="9666"/>
                  <a:pt x="22473" y="9699"/>
                </a:cubicBezTo>
                <a:cubicBezTo>
                  <a:pt x="22495" y="9577"/>
                  <a:pt x="22536" y="9428"/>
                  <a:pt x="22647" y="9351"/>
                </a:cubicBezTo>
                <a:cubicBezTo>
                  <a:pt x="22740" y="9287"/>
                  <a:pt x="22851" y="9384"/>
                  <a:pt x="22944" y="9401"/>
                </a:cubicBezTo>
                <a:cubicBezTo>
                  <a:pt x="22961" y="9401"/>
                  <a:pt x="22977" y="9401"/>
                  <a:pt x="22994" y="9401"/>
                </a:cubicBezTo>
                <a:cubicBezTo>
                  <a:pt x="22825" y="9367"/>
                  <a:pt x="22777" y="9389"/>
                  <a:pt x="22944" y="9525"/>
                </a:cubicBezTo>
                <a:cubicBezTo>
                  <a:pt x="23103" y="9655"/>
                  <a:pt x="23132" y="9661"/>
                  <a:pt x="22920" y="97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3200400"/>
            <a:ext cx="1171800" cy="287280"/>
          </a:xfrm>
          <a:custGeom>
            <a:avLst/>
            <a:gdLst/>
            <a:ahLst/>
            <a:rect l="l" t="t" r="r" b="b"/>
            <a:pathLst>
              <a:path w="3251" h="795">
                <a:moveTo>
                  <a:pt x="8756" y="9971"/>
                </a:moveTo>
                <a:cubicBezTo>
                  <a:pt x="8833" y="9939"/>
                  <a:pt x="8925" y="9967"/>
                  <a:pt x="9004" y="9922"/>
                </a:cubicBezTo>
                <a:cubicBezTo>
                  <a:pt x="9034" y="9892"/>
                  <a:pt x="9048" y="9887"/>
                  <a:pt x="9079" y="9922"/>
                </a:cubicBezTo>
              </a:path>
              <a:path w="3251" h="795">
                <a:moveTo>
                  <a:pt x="8756" y="9798"/>
                </a:moveTo>
                <a:cubicBezTo>
                  <a:pt x="8771" y="9885"/>
                  <a:pt x="8792" y="9921"/>
                  <a:pt x="8731" y="9996"/>
                </a:cubicBezTo>
                <a:cubicBezTo>
                  <a:pt x="8723" y="10004"/>
                  <a:pt x="8714" y="10013"/>
                  <a:pt x="8706" y="10021"/>
                </a:cubicBezTo>
                <a:cubicBezTo>
                  <a:pt x="8775" y="10073"/>
                  <a:pt x="8848" y="10099"/>
                  <a:pt x="8930" y="10145"/>
                </a:cubicBezTo>
              </a:path>
              <a:path w="3251" h="795">
                <a:moveTo>
                  <a:pt x="9401" y="9922"/>
                </a:moveTo>
                <a:cubicBezTo>
                  <a:pt x="9468" y="9899"/>
                  <a:pt x="9486" y="9894"/>
                  <a:pt x="9525" y="9872"/>
                </a:cubicBezTo>
                <a:cubicBezTo>
                  <a:pt x="9456" y="9813"/>
                  <a:pt x="9400" y="9788"/>
                  <a:pt x="9327" y="9872"/>
                </a:cubicBezTo>
                <a:cubicBezTo>
                  <a:pt x="9279" y="9927"/>
                  <a:pt x="9322" y="10033"/>
                  <a:pt x="9376" y="10071"/>
                </a:cubicBezTo>
                <a:cubicBezTo>
                  <a:pt x="9471" y="10139"/>
                  <a:pt x="9560" y="10058"/>
                  <a:pt x="9649" y="10021"/>
                </a:cubicBezTo>
              </a:path>
              <a:path w="3251" h="795">
                <a:moveTo>
                  <a:pt x="9699" y="9823"/>
                </a:moveTo>
                <a:cubicBezTo>
                  <a:pt x="9764" y="9872"/>
                  <a:pt x="9802" y="9950"/>
                  <a:pt x="9872" y="9996"/>
                </a:cubicBezTo>
                <a:cubicBezTo>
                  <a:pt x="9889" y="10004"/>
                  <a:pt x="9905" y="10013"/>
                  <a:pt x="9922" y="10021"/>
                </a:cubicBezTo>
              </a:path>
              <a:path w="3251" h="795">
                <a:moveTo>
                  <a:pt x="9947" y="9773"/>
                </a:moveTo>
                <a:cubicBezTo>
                  <a:pt x="9816" y="9860"/>
                  <a:pt x="9775" y="9950"/>
                  <a:pt x="9723" y="10096"/>
                </a:cubicBezTo>
              </a:path>
              <a:path w="3251" h="795">
                <a:moveTo>
                  <a:pt x="9971" y="9897"/>
                </a:moveTo>
                <a:cubicBezTo>
                  <a:pt x="10074" y="10026"/>
                  <a:pt x="10100" y="10135"/>
                  <a:pt x="10145" y="10294"/>
                </a:cubicBezTo>
              </a:path>
              <a:path w="3251" h="795">
                <a:moveTo>
                  <a:pt x="10021" y="9847"/>
                </a:moveTo>
                <a:cubicBezTo>
                  <a:pt x="10121" y="9829"/>
                  <a:pt x="10280" y="9775"/>
                  <a:pt x="10269" y="9947"/>
                </a:cubicBezTo>
                <a:cubicBezTo>
                  <a:pt x="10264" y="10016"/>
                  <a:pt x="10158" y="10014"/>
                  <a:pt x="10120" y="10021"/>
                </a:cubicBezTo>
              </a:path>
              <a:path w="3251" h="795">
                <a:moveTo>
                  <a:pt x="10418" y="9847"/>
                </a:moveTo>
                <a:cubicBezTo>
                  <a:pt x="10370" y="9951"/>
                  <a:pt x="10346" y="9970"/>
                  <a:pt x="10368" y="10071"/>
                </a:cubicBezTo>
                <a:cubicBezTo>
                  <a:pt x="10458" y="10081"/>
                  <a:pt x="10567" y="10032"/>
                  <a:pt x="10517" y="9897"/>
                </a:cubicBezTo>
                <a:cubicBezTo>
                  <a:pt x="10473" y="9852"/>
                  <a:pt x="10463" y="9835"/>
                  <a:pt x="10418" y="9847"/>
                </a:cubicBezTo>
              </a:path>
              <a:path w="3251" h="795">
                <a:moveTo>
                  <a:pt x="10666" y="9947"/>
                </a:moveTo>
                <a:cubicBezTo>
                  <a:pt x="10695" y="9975"/>
                  <a:pt x="10703" y="9988"/>
                  <a:pt x="10691" y="10021"/>
                </a:cubicBezTo>
                <a:cubicBezTo>
                  <a:pt x="10664" y="9985"/>
                  <a:pt x="10591" y="9866"/>
                  <a:pt x="10716" y="9872"/>
                </a:cubicBezTo>
                <a:cubicBezTo>
                  <a:pt x="10810" y="9876"/>
                  <a:pt x="10847" y="10001"/>
                  <a:pt x="10864" y="10071"/>
                </a:cubicBezTo>
              </a:path>
              <a:path w="3251" h="795">
                <a:moveTo>
                  <a:pt x="10939" y="9971"/>
                </a:moveTo>
                <a:cubicBezTo>
                  <a:pt x="11026" y="9963"/>
                  <a:pt x="11068" y="9952"/>
                  <a:pt x="11137" y="9897"/>
                </a:cubicBezTo>
                <a:cubicBezTo>
                  <a:pt x="11087" y="9878"/>
                  <a:pt x="10964" y="9841"/>
                  <a:pt x="10964" y="9947"/>
                </a:cubicBezTo>
                <a:cubicBezTo>
                  <a:pt x="10964" y="10027"/>
                  <a:pt x="11077" y="10152"/>
                  <a:pt x="11162" y="10120"/>
                </a:cubicBezTo>
                <a:cubicBezTo>
                  <a:pt x="11179" y="10104"/>
                  <a:pt x="11195" y="10087"/>
                  <a:pt x="11212" y="10071"/>
                </a:cubicBezTo>
              </a:path>
              <a:path w="3251" h="795">
                <a:moveTo>
                  <a:pt x="11311" y="9897"/>
                </a:moveTo>
                <a:cubicBezTo>
                  <a:pt x="11336" y="9947"/>
                  <a:pt x="11344" y="9963"/>
                  <a:pt x="11361" y="9996"/>
                </a:cubicBezTo>
                <a:cubicBezTo>
                  <a:pt x="11309" y="9902"/>
                  <a:pt x="11273" y="9850"/>
                  <a:pt x="11410" y="9823"/>
                </a:cubicBezTo>
                <a:cubicBezTo>
                  <a:pt x="11511" y="9803"/>
                  <a:pt x="11528" y="9928"/>
                  <a:pt x="11559" y="9996"/>
                </a:cubicBezTo>
              </a:path>
              <a:path w="3251" h="795">
                <a:moveTo>
                  <a:pt x="11658" y="9500"/>
                </a:moveTo>
                <a:cubicBezTo>
                  <a:pt x="11741" y="9630"/>
                  <a:pt x="11805" y="9764"/>
                  <a:pt x="11881" y="9897"/>
                </a:cubicBezTo>
              </a:path>
              <a:path w="3251" h="795">
                <a:moveTo>
                  <a:pt x="11683" y="9798"/>
                </a:moveTo>
                <a:cubicBezTo>
                  <a:pt x="11780" y="9783"/>
                  <a:pt x="11858" y="9773"/>
                  <a:pt x="11956" y="97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3276720"/>
            <a:ext cx="1349640" cy="617400"/>
          </a:xfrm>
          <a:custGeom>
            <a:avLst/>
            <a:gdLst/>
            <a:ahLst/>
            <a:rect l="l" t="t" r="r" b="b"/>
            <a:pathLst>
              <a:path w="3746" h="1713">
                <a:moveTo>
                  <a:pt x="7243" y="10294"/>
                </a:moveTo>
                <a:cubicBezTo>
                  <a:pt x="7243" y="10208"/>
                  <a:pt x="7234" y="10187"/>
                  <a:pt x="7293" y="10120"/>
                </a:cubicBezTo>
                <a:cubicBezTo>
                  <a:pt x="7340" y="10067"/>
                  <a:pt x="7461" y="9976"/>
                  <a:pt x="7541" y="10021"/>
                </a:cubicBezTo>
                <a:cubicBezTo>
                  <a:pt x="7626" y="10069"/>
                  <a:pt x="7631" y="10211"/>
                  <a:pt x="7615" y="10294"/>
                </a:cubicBezTo>
                <a:cubicBezTo>
                  <a:pt x="7595" y="10402"/>
                  <a:pt x="7477" y="10483"/>
                  <a:pt x="7392" y="10542"/>
                </a:cubicBezTo>
                <a:cubicBezTo>
                  <a:pt x="7375" y="10550"/>
                  <a:pt x="7359" y="10559"/>
                  <a:pt x="7342" y="10567"/>
                </a:cubicBezTo>
                <a:cubicBezTo>
                  <a:pt x="7381" y="10450"/>
                  <a:pt x="7437" y="10402"/>
                  <a:pt x="7565" y="10443"/>
                </a:cubicBezTo>
                <a:cubicBezTo>
                  <a:pt x="7673" y="10478"/>
                  <a:pt x="7702" y="10618"/>
                  <a:pt x="7689" y="10716"/>
                </a:cubicBezTo>
                <a:cubicBezTo>
                  <a:pt x="7673" y="10836"/>
                  <a:pt x="7573" y="10928"/>
                  <a:pt x="7466" y="10964"/>
                </a:cubicBezTo>
                <a:cubicBezTo>
                  <a:pt x="7352" y="11003"/>
                  <a:pt x="7292" y="10964"/>
                  <a:pt x="7193" y="10914"/>
                </a:cubicBezTo>
                <a:cubicBezTo>
                  <a:pt x="7177" y="10906"/>
                  <a:pt x="7160" y="10897"/>
                  <a:pt x="7144" y="10889"/>
                </a:cubicBezTo>
              </a:path>
              <a:path w="3746" h="1713">
                <a:moveTo>
                  <a:pt x="7888" y="9798"/>
                </a:moveTo>
                <a:cubicBezTo>
                  <a:pt x="7913" y="9897"/>
                  <a:pt x="7901" y="9933"/>
                  <a:pt x="7888" y="10021"/>
                </a:cubicBezTo>
                <a:cubicBezTo>
                  <a:pt x="7963" y="9996"/>
                  <a:pt x="8048" y="9977"/>
                  <a:pt x="8111" y="9947"/>
                </a:cubicBezTo>
              </a:path>
              <a:path w="3746" h="1713">
                <a:moveTo>
                  <a:pt x="8161" y="9649"/>
                </a:moveTo>
                <a:cubicBezTo>
                  <a:pt x="8177" y="9773"/>
                  <a:pt x="8197" y="9897"/>
                  <a:pt x="8210" y="10021"/>
                </a:cubicBezTo>
                <a:cubicBezTo>
                  <a:pt x="8210" y="10038"/>
                  <a:pt x="8210" y="10054"/>
                  <a:pt x="8210" y="10071"/>
                </a:cubicBezTo>
              </a:path>
              <a:path w="3746" h="1713">
                <a:moveTo>
                  <a:pt x="8012" y="10889"/>
                </a:moveTo>
                <a:cubicBezTo>
                  <a:pt x="8170" y="10998"/>
                  <a:pt x="8243" y="11013"/>
                  <a:pt x="8434" y="11013"/>
                </a:cubicBezTo>
                <a:cubicBezTo>
                  <a:pt x="8442" y="11013"/>
                  <a:pt x="8450" y="11013"/>
                  <a:pt x="8458" y="11013"/>
                </a:cubicBezTo>
              </a:path>
              <a:path w="3746" h="1713">
                <a:moveTo>
                  <a:pt x="7962" y="10939"/>
                </a:moveTo>
                <a:cubicBezTo>
                  <a:pt x="7962" y="10997"/>
                  <a:pt x="7962" y="11005"/>
                  <a:pt x="7962" y="11038"/>
                </a:cubicBezTo>
                <a:cubicBezTo>
                  <a:pt x="8064" y="11091"/>
                  <a:pt x="7927" y="10893"/>
                  <a:pt x="7888" y="10815"/>
                </a:cubicBezTo>
                <a:cubicBezTo>
                  <a:pt x="8004" y="10808"/>
                  <a:pt x="8097" y="10778"/>
                  <a:pt x="8210" y="10765"/>
                </a:cubicBezTo>
              </a:path>
              <a:path w="3746" h="1713">
                <a:moveTo>
                  <a:pt x="8706" y="10840"/>
                </a:moveTo>
                <a:cubicBezTo>
                  <a:pt x="8773" y="10961"/>
                  <a:pt x="8775" y="11093"/>
                  <a:pt x="8756" y="11237"/>
                </a:cubicBezTo>
                <a:cubicBezTo>
                  <a:pt x="8756" y="11146"/>
                  <a:pt x="8730" y="11037"/>
                  <a:pt x="8830" y="10988"/>
                </a:cubicBezTo>
                <a:cubicBezTo>
                  <a:pt x="8966" y="10921"/>
                  <a:pt x="9043" y="11069"/>
                  <a:pt x="9029" y="11187"/>
                </a:cubicBezTo>
                <a:cubicBezTo>
                  <a:pt x="9015" y="11305"/>
                  <a:pt x="8846" y="11256"/>
                  <a:pt x="8781" y="11237"/>
                </a:cubicBezTo>
              </a:path>
              <a:path w="3746" h="1713">
                <a:moveTo>
                  <a:pt x="9376" y="10988"/>
                </a:moveTo>
                <a:cubicBezTo>
                  <a:pt x="9321" y="10988"/>
                  <a:pt x="9251" y="10950"/>
                  <a:pt x="9203" y="10964"/>
                </a:cubicBezTo>
                <a:cubicBezTo>
                  <a:pt x="9110" y="10992"/>
                  <a:pt x="9088" y="11234"/>
                  <a:pt x="9227" y="11212"/>
                </a:cubicBezTo>
                <a:cubicBezTo>
                  <a:pt x="9335" y="11195"/>
                  <a:pt x="9327" y="11089"/>
                  <a:pt x="9327" y="11013"/>
                </a:cubicBezTo>
                <a:cubicBezTo>
                  <a:pt x="9354" y="11088"/>
                  <a:pt x="9377" y="11150"/>
                  <a:pt x="9426" y="11212"/>
                </a:cubicBezTo>
              </a:path>
              <a:path w="3746" h="1713">
                <a:moveTo>
                  <a:pt x="9599" y="10889"/>
                </a:moveTo>
                <a:cubicBezTo>
                  <a:pt x="9583" y="10906"/>
                  <a:pt x="9566" y="10922"/>
                  <a:pt x="9550" y="10939"/>
                </a:cubicBezTo>
                <a:cubicBezTo>
                  <a:pt x="9667" y="10966"/>
                  <a:pt x="9777" y="10939"/>
                  <a:pt x="9723" y="11088"/>
                </a:cubicBezTo>
                <a:cubicBezTo>
                  <a:pt x="9695" y="11165"/>
                  <a:pt x="9644" y="11154"/>
                  <a:pt x="9575" y="11162"/>
                </a:cubicBezTo>
              </a:path>
              <a:path w="3746" h="1713">
                <a:moveTo>
                  <a:pt x="9897" y="11013"/>
                </a:moveTo>
                <a:cubicBezTo>
                  <a:pt x="10009" y="10987"/>
                  <a:pt x="9996" y="11012"/>
                  <a:pt x="10046" y="10939"/>
                </a:cubicBezTo>
                <a:cubicBezTo>
                  <a:pt x="10017" y="10910"/>
                  <a:pt x="9938" y="10851"/>
                  <a:pt x="9897" y="10864"/>
                </a:cubicBezTo>
                <a:cubicBezTo>
                  <a:pt x="9778" y="10901"/>
                  <a:pt x="9782" y="11030"/>
                  <a:pt x="9847" y="11112"/>
                </a:cubicBezTo>
                <a:cubicBezTo>
                  <a:pt x="9951" y="11244"/>
                  <a:pt x="10002" y="11235"/>
                  <a:pt x="10145" y="11187"/>
                </a:cubicBezTo>
              </a:path>
              <a:path w="3746" h="1713">
                <a:moveTo>
                  <a:pt x="6945" y="10914"/>
                </a:moveTo>
                <a:cubicBezTo>
                  <a:pt x="6897" y="11011"/>
                  <a:pt x="6691" y="11068"/>
                  <a:pt x="6548" y="11137"/>
                </a:cubicBezTo>
                <a:cubicBezTo>
                  <a:pt x="6540" y="11145"/>
                  <a:pt x="6532" y="11154"/>
                  <a:pt x="6524" y="11162"/>
                </a:cubicBezTo>
              </a:path>
              <a:path w="3746" h="1713">
                <a:moveTo>
                  <a:pt x="6672" y="10864"/>
                </a:moveTo>
                <a:cubicBezTo>
                  <a:pt x="6607" y="11007"/>
                  <a:pt x="6525" y="11090"/>
                  <a:pt x="6400" y="11187"/>
                </a:cubicBezTo>
                <a:cubicBezTo>
                  <a:pt x="6515" y="11242"/>
                  <a:pt x="6622" y="11288"/>
                  <a:pt x="6722" y="113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68920" y="3821040"/>
            <a:ext cx="687240" cy="179640"/>
          </a:xfrm>
          <a:custGeom>
            <a:avLst/>
            <a:gdLst/>
            <a:ahLst/>
            <a:rect l="l" t="t" r="r" b="b"/>
            <a:pathLst>
              <a:path w="1911" h="497">
                <a:moveTo>
                  <a:pt x="13444" y="10616"/>
                </a:moveTo>
                <a:cubicBezTo>
                  <a:pt x="13474" y="10781"/>
                  <a:pt x="13505" y="10946"/>
                  <a:pt x="13519" y="11112"/>
                </a:cubicBezTo>
              </a:path>
              <a:path w="1911" h="497">
                <a:moveTo>
                  <a:pt x="13246" y="10914"/>
                </a:moveTo>
                <a:cubicBezTo>
                  <a:pt x="13382" y="10892"/>
                  <a:pt x="13591" y="10839"/>
                  <a:pt x="13717" y="10914"/>
                </a:cubicBezTo>
                <a:cubicBezTo>
                  <a:pt x="13777" y="10950"/>
                  <a:pt x="13783" y="11029"/>
                  <a:pt x="13791" y="11088"/>
                </a:cubicBezTo>
              </a:path>
              <a:path w="1911" h="497">
                <a:moveTo>
                  <a:pt x="13692" y="10765"/>
                </a:moveTo>
                <a:lnTo>
                  <a:pt x="13692" y="10765"/>
                </a:lnTo>
              </a:path>
              <a:path w="1911" h="497">
                <a:moveTo>
                  <a:pt x="14089" y="10988"/>
                </a:moveTo>
                <a:cubicBezTo>
                  <a:pt x="14097" y="11005"/>
                  <a:pt x="14106" y="11021"/>
                  <a:pt x="14114" y="11038"/>
                </a:cubicBezTo>
                <a:cubicBezTo>
                  <a:pt x="14109" y="10987"/>
                  <a:pt x="14046" y="10783"/>
                  <a:pt x="14139" y="10790"/>
                </a:cubicBezTo>
                <a:cubicBezTo>
                  <a:pt x="14280" y="10800"/>
                  <a:pt x="14313" y="10859"/>
                  <a:pt x="14387" y="10964"/>
                </a:cubicBezTo>
                <a:cubicBezTo>
                  <a:pt x="14339" y="10757"/>
                  <a:pt x="14462" y="10746"/>
                  <a:pt x="14536" y="10939"/>
                </a:cubicBezTo>
                <a:cubicBezTo>
                  <a:pt x="14536" y="10972"/>
                  <a:pt x="14536" y="11005"/>
                  <a:pt x="14536" y="11038"/>
                </a:cubicBezTo>
              </a:path>
              <a:path w="1911" h="497">
                <a:moveTo>
                  <a:pt x="14635" y="10889"/>
                </a:moveTo>
                <a:cubicBezTo>
                  <a:pt x="14746" y="10889"/>
                  <a:pt x="14793" y="10905"/>
                  <a:pt x="14858" y="10815"/>
                </a:cubicBezTo>
                <a:cubicBezTo>
                  <a:pt x="14794" y="10739"/>
                  <a:pt x="14678" y="10680"/>
                  <a:pt x="14610" y="10815"/>
                </a:cubicBezTo>
                <a:cubicBezTo>
                  <a:pt x="14502" y="11031"/>
                  <a:pt x="14688" y="11071"/>
                  <a:pt x="14833" y="11063"/>
                </a:cubicBezTo>
              </a:path>
              <a:path w="1911" h="497">
                <a:moveTo>
                  <a:pt x="15032" y="10765"/>
                </a:moveTo>
                <a:cubicBezTo>
                  <a:pt x="15015" y="10782"/>
                  <a:pt x="14999" y="10798"/>
                  <a:pt x="14982" y="10815"/>
                </a:cubicBezTo>
                <a:cubicBezTo>
                  <a:pt x="15043" y="10850"/>
                  <a:pt x="15217" y="10901"/>
                  <a:pt x="15156" y="11013"/>
                </a:cubicBezTo>
                <a:cubicBezTo>
                  <a:pt x="15077" y="11092"/>
                  <a:pt x="15046" y="11117"/>
                  <a:pt x="14957" y="110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3884760"/>
            <a:ext cx="152280" cy="115920"/>
          </a:xfrm>
          <a:custGeom>
            <a:avLst/>
            <a:gdLst/>
            <a:ahLst/>
            <a:rect l="l" t="t" r="r" b="b"/>
            <a:pathLst>
              <a:path w="423" h="323">
                <a:moveTo>
                  <a:pt x="16173" y="10889"/>
                </a:moveTo>
                <a:cubicBezTo>
                  <a:pt x="16085" y="10824"/>
                  <a:pt x="16067" y="10804"/>
                  <a:pt x="15999" y="10790"/>
                </a:cubicBezTo>
                <a:cubicBezTo>
                  <a:pt x="15932" y="10882"/>
                  <a:pt x="15762" y="11197"/>
                  <a:pt x="16049" y="11112"/>
                </a:cubicBezTo>
                <a:cubicBezTo>
                  <a:pt x="16232" y="11058"/>
                  <a:pt x="16121" y="10865"/>
                  <a:pt x="16148" y="10939"/>
                </a:cubicBezTo>
                <a:cubicBezTo>
                  <a:pt x="16197" y="11038"/>
                  <a:pt x="16214" y="11072"/>
                  <a:pt x="16297" y="110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27840" y="3768840"/>
            <a:ext cx="812520" cy="204840"/>
          </a:xfrm>
          <a:custGeom>
            <a:avLst/>
            <a:gdLst/>
            <a:ahLst/>
            <a:rect l="l" t="t" r="r" b="b"/>
            <a:pathLst>
              <a:path w="2258" h="571">
                <a:moveTo>
                  <a:pt x="16743" y="10815"/>
                </a:moveTo>
                <a:cubicBezTo>
                  <a:pt x="16743" y="10853"/>
                  <a:pt x="16743" y="11132"/>
                  <a:pt x="16743" y="10939"/>
                </a:cubicBezTo>
                <a:cubicBezTo>
                  <a:pt x="16743" y="10838"/>
                  <a:pt x="16723" y="10807"/>
                  <a:pt x="16793" y="10790"/>
                </a:cubicBezTo>
                <a:cubicBezTo>
                  <a:pt x="16950" y="10790"/>
                  <a:pt x="16969" y="10889"/>
                  <a:pt x="17016" y="11038"/>
                </a:cubicBezTo>
              </a:path>
              <a:path w="2258" h="571">
                <a:moveTo>
                  <a:pt x="17115" y="10740"/>
                </a:moveTo>
                <a:cubicBezTo>
                  <a:pt x="17154" y="10836"/>
                  <a:pt x="17156" y="10969"/>
                  <a:pt x="17264" y="10988"/>
                </a:cubicBezTo>
                <a:cubicBezTo>
                  <a:pt x="17409" y="11013"/>
                  <a:pt x="17377" y="10884"/>
                  <a:pt x="17388" y="10790"/>
                </a:cubicBezTo>
                <a:cubicBezTo>
                  <a:pt x="17409" y="10917"/>
                  <a:pt x="17409" y="10965"/>
                  <a:pt x="17537" y="10939"/>
                </a:cubicBezTo>
              </a:path>
              <a:path w="2258" h="571">
                <a:moveTo>
                  <a:pt x="17562" y="10716"/>
                </a:moveTo>
                <a:cubicBezTo>
                  <a:pt x="17562" y="10799"/>
                  <a:pt x="17564" y="10833"/>
                  <a:pt x="17587" y="10889"/>
                </a:cubicBezTo>
                <a:cubicBezTo>
                  <a:pt x="17642" y="10890"/>
                  <a:pt x="17589" y="10707"/>
                  <a:pt x="17661" y="10716"/>
                </a:cubicBezTo>
                <a:cubicBezTo>
                  <a:pt x="17776" y="10730"/>
                  <a:pt x="17793" y="10829"/>
                  <a:pt x="17835" y="10914"/>
                </a:cubicBezTo>
                <a:cubicBezTo>
                  <a:pt x="17755" y="10742"/>
                  <a:pt x="17855" y="10665"/>
                  <a:pt x="17909" y="10864"/>
                </a:cubicBezTo>
                <a:cubicBezTo>
                  <a:pt x="17909" y="10947"/>
                  <a:pt x="17909" y="10963"/>
                  <a:pt x="17909" y="11013"/>
                </a:cubicBezTo>
              </a:path>
              <a:path w="2258" h="571">
                <a:moveTo>
                  <a:pt x="17983" y="10468"/>
                </a:moveTo>
                <a:cubicBezTo>
                  <a:pt x="18032" y="10626"/>
                  <a:pt x="18078" y="10783"/>
                  <a:pt x="18132" y="10939"/>
                </a:cubicBezTo>
                <a:cubicBezTo>
                  <a:pt x="18132" y="10973"/>
                  <a:pt x="18157" y="10782"/>
                  <a:pt x="18256" y="10691"/>
                </a:cubicBezTo>
                <a:cubicBezTo>
                  <a:pt x="18365" y="10792"/>
                  <a:pt x="18503" y="10950"/>
                  <a:pt x="18256" y="11013"/>
                </a:cubicBezTo>
                <a:cubicBezTo>
                  <a:pt x="18215" y="11013"/>
                  <a:pt x="18173" y="11013"/>
                  <a:pt x="18132" y="11013"/>
                </a:cubicBezTo>
              </a:path>
              <a:path w="2258" h="571">
                <a:moveTo>
                  <a:pt x="18479" y="10864"/>
                </a:moveTo>
                <a:cubicBezTo>
                  <a:pt x="18523" y="10857"/>
                  <a:pt x="18723" y="10818"/>
                  <a:pt x="18653" y="10716"/>
                </a:cubicBezTo>
                <a:cubicBezTo>
                  <a:pt x="18637" y="10708"/>
                  <a:pt x="18620" y="10699"/>
                  <a:pt x="18604" y="10691"/>
                </a:cubicBezTo>
                <a:cubicBezTo>
                  <a:pt x="18467" y="10769"/>
                  <a:pt x="18474" y="10771"/>
                  <a:pt x="18455" y="10939"/>
                </a:cubicBezTo>
                <a:cubicBezTo>
                  <a:pt x="18646" y="11077"/>
                  <a:pt x="18697" y="10935"/>
                  <a:pt x="18802" y="10765"/>
                </a:cubicBezTo>
                <a:cubicBezTo>
                  <a:pt x="18858" y="10674"/>
                  <a:pt x="18827" y="10858"/>
                  <a:pt x="18827" y="10889"/>
                </a:cubicBezTo>
                <a:cubicBezTo>
                  <a:pt x="18844" y="10709"/>
                  <a:pt x="18819" y="10666"/>
                  <a:pt x="19000" y="106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18200" y="3759120"/>
            <a:ext cx="250920" cy="162000"/>
          </a:xfrm>
          <a:custGeom>
            <a:avLst/>
            <a:gdLst/>
            <a:ahLst/>
            <a:rect l="l" t="t" r="r" b="b"/>
            <a:pathLst>
              <a:path w="696" h="447">
                <a:moveTo>
                  <a:pt x="19496" y="10691"/>
                </a:moveTo>
                <a:cubicBezTo>
                  <a:pt x="19525" y="10749"/>
                  <a:pt x="19583" y="10826"/>
                  <a:pt x="19621" y="10889"/>
                </a:cubicBezTo>
              </a:path>
              <a:path w="696" h="447">
                <a:moveTo>
                  <a:pt x="19596" y="10443"/>
                </a:moveTo>
                <a:lnTo>
                  <a:pt x="19596" y="10443"/>
                </a:lnTo>
              </a:path>
              <a:path w="696" h="447">
                <a:moveTo>
                  <a:pt x="20042" y="10542"/>
                </a:moveTo>
                <a:cubicBezTo>
                  <a:pt x="20009" y="10567"/>
                  <a:pt x="19976" y="10591"/>
                  <a:pt x="19943" y="10616"/>
                </a:cubicBezTo>
                <a:cubicBezTo>
                  <a:pt x="20039" y="10656"/>
                  <a:pt x="20123" y="10682"/>
                  <a:pt x="20191" y="10740"/>
                </a:cubicBezTo>
                <a:cubicBezTo>
                  <a:pt x="20142" y="10865"/>
                  <a:pt x="20125" y="10832"/>
                  <a:pt x="19968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3581280"/>
            <a:ext cx="955800" cy="216000"/>
          </a:xfrm>
          <a:custGeom>
            <a:avLst/>
            <a:gdLst/>
            <a:ahLst/>
            <a:rect l="l" t="t" r="r" b="b"/>
            <a:pathLst>
              <a:path w="2655" h="597">
                <a:moveTo>
                  <a:pt x="9575" y="10120"/>
                </a:moveTo>
                <a:cubicBezTo>
                  <a:pt x="9489" y="10183"/>
                  <a:pt x="9399" y="10283"/>
                  <a:pt x="9426" y="10418"/>
                </a:cubicBezTo>
                <a:cubicBezTo>
                  <a:pt x="9448" y="10526"/>
                  <a:pt x="9546" y="10441"/>
                  <a:pt x="9599" y="10418"/>
                </a:cubicBezTo>
              </a:path>
              <a:path w="2655" h="597">
                <a:moveTo>
                  <a:pt x="9748" y="10344"/>
                </a:moveTo>
                <a:cubicBezTo>
                  <a:pt x="9812" y="10419"/>
                  <a:pt x="9861" y="10491"/>
                  <a:pt x="9922" y="10567"/>
                </a:cubicBezTo>
              </a:path>
              <a:path w="2655" h="597">
                <a:moveTo>
                  <a:pt x="9773" y="10344"/>
                </a:moveTo>
                <a:cubicBezTo>
                  <a:pt x="9839" y="10255"/>
                  <a:pt x="9950" y="10294"/>
                  <a:pt x="10046" y="10344"/>
                </a:cubicBezTo>
                <a:cubicBezTo>
                  <a:pt x="10071" y="10368"/>
                  <a:pt x="10080" y="10376"/>
                  <a:pt x="10096" y="10393"/>
                </a:cubicBezTo>
                <a:cubicBezTo>
                  <a:pt x="10020" y="10401"/>
                  <a:pt x="9948" y="10412"/>
                  <a:pt x="9872" y="10418"/>
                </a:cubicBezTo>
              </a:path>
              <a:path w="2655" h="597">
                <a:moveTo>
                  <a:pt x="10319" y="10393"/>
                </a:moveTo>
                <a:cubicBezTo>
                  <a:pt x="10262" y="10365"/>
                  <a:pt x="10239" y="10359"/>
                  <a:pt x="10195" y="10393"/>
                </a:cubicBezTo>
                <a:cubicBezTo>
                  <a:pt x="10235" y="10433"/>
                  <a:pt x="10424" y="10443"/>
                  <a:pt x="10344" y="10344"/>
                </a:cubicBezTo>
                <a:cubicBezTo>
                  <a:pt x="10336" y="10336"/>
                  <a:pt x="10327" y="10327"/>
                  <a:pt x="10319" y="10319"/>
                </a:cubicBezTo>
              </a:path>
              <a:path w="2655" h="597">
                <a:moveTo>
                  <a:pt x="10492" y="10319"/>
                </a:moveTo>
                <a:cubicBezTo>
                  <a:pt x="10515" y="10338"/>
                  <a:pt x="10644" y="10455"/>
                  <a:pt x="10666" y="10443"/>
                </a:cubicBezTo>
                <a:cubicBezTo>
                  <a:pt x="10709" y="10378"/>
                  <a:pt x="10721" y="10364"/>
                  <a:pt x="10740" y="10319"/>
                </a:cubicBezTo>
                <a:cubicBezTo>
                  <a:pt x="10768" y="10368"/>
                  <a:pt x="10868" y="10451"/>
                  <a:pt x="10939" y="10368"/>
                </a:cubicBezTo>
                <a:cubicBezTo>
                  <a:pt x="10987" y="10312"/>
                  <a:pt x="10949" y="10288"/>
                  <a:pt x="10914" y="10244"/>
                </a:cubicBezTo>
              </a:path>
              <a:path w="2655" h="597">
                <a:moveTo>
                  <a:pt x="11237" y="10368"/>
                </a:moveTo>
                <a:cubicBezTo>
                  <a:pt x="11262" y="10368"/>
                  <a:pt x="11286" y="10368"/>
                  <a:pt x="11311" y="10368"/>
                </a:cubicBezTo>
                <a:cubicBezTo>
                  <a:pt x="11305" y="10346"/>
                  <a:pt x="11246" y="10200"/>
                  <a:pt x="11187" y="10269"/>
                </a:cubicBezTo>
                <a:cubicBezTo>
                  <a:pt x="11145" y="10352"/>
                  <a:pt x="11120" y="10368"/>
                  <a:pt x="11162" y="10418"/>
                </a:cubicBezTo>
                <a:cubicBezTo>
                  <a:pt x="11271" y="10459"/>
                  <a:pt x="11270" y="10428"/>
                  <a:pt x="11361" y="10368"/>
                </a:cubicBezTo>
                <a:cubicBezTo>
                  <a:pt x="11377" y="10360"/>
                  <a:pt x="11394" y="10352"/>
                  <a:pt x="11410" y="10344"/>
                </a:cubicBezTo>
              </a:path>
              <a:path w="2655" h="597">
                <a:moveTo>
                  <a:pt x="11509" y="10244"/>
                </a:moveTo>
                <a:cubicBezTo>
                  <a:pt x="11556" y="10291"/>
                  <a:pt x="11570" y="10303"/>
                  <a:pt x="11584" y="10344"/>
                </a:cubicBezTo>
                <a:cubicBezTo>
                  <a:pt x="11577" y="10302"/>
                  <a:pt x="11522" y="10180"/>
                  <a:pt x="11584" y="10145"/>
                </a:cubicBezTo>
                <a:cubicBezTo>
                  <a:pt x="11617" y="10137"/>
                  <a:pt x="11650" y="10128"/>
                  <a:pt x="11683" y="10120"/>
                </a:cubicBezTo>
              </a:path>
              <a:path w="2655" h="597">
                <a:moveTo>
                  <a:pt x="11733" y="9971"/>
                </a:moveTo>
                <a:cubicBezTo>
                  <a:pt x="11920" y="10028"/>
                  <a:pt x="12074" y="10087"/>
                  <a:pt x="12080" y="10319"/>
                </a:cubicBezTo>
                <a:cubicBezTo>
                  <a:pt x="12059" y="10403"/>
                  <a:pt x="12064" y="10429"/>
                  <a:pt x="12005" y="104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49840" y="3527280"/>
            <a:ext cx="644400" cy="268560"/>
          </a:xfrm>
          <a:custGeom>
            <a:avLst/>
            <a:gdLst/>
            <a:ahLst/>
            <a:rect l="l" t="t" r="r" b="b"/>
            <a:pathLst>
              <a:path w="1787" h="745">
                <a:moveTo>
                  <a:pt x="13395" y="9897"/>
                </a:moveTo>
                <a:cubicBezTo>
                  <a:pt x="13415" y="10062"/>
                  <a:pt x="13454" y="10227"/>
                  <a:pt x="13469" y="10393"/>
                </a:cubicBezTo>
                <a:cubicBezTo>
                  <a:pt x="13469" y="10426"/>
                  <a:pt x="13469" y="10459"/>
                  <a:pt x="13469" y="10492"/>
                </a:cubicBezTo>
              </a:path>
              <a:path w="1787" h="745">
                <a:moveTo>
                  <a:pt x="13196" y="10244"/>
                </a:moveTo>
                <a:cubicBezTo>
                  <a:pt x="13330" y="10244"/>
                  <a:pt x="13461" y="10270"/>
                  <a:pt x="13593" y="10294"/>
                </a:cubicBezTo>
                <a:cubicBezTo>
                  <a:pt x="13694" y="10314"/>
                  <a:pt x="13724" y="10301"/>
                  <a:pt x="13742" y="10368"/>
                </a:cubicBezTo>
              </a:path>
              <a:path w="1787" h="745">
                <a:moveTo>
                  <a:pt x="13866" y="10344"/>
                </a:moveTo>
                <a:cubicBezTo>
                  <a:pt x="13966" y="10324"/>
                  <a:pt x="14038" y="10311"/>
                  <a:pt x="14064" y="10220"/>
                </a:cubicBezTo>
                <a:cubicBezTo>
                  <a:pt x="13899" y="10181"/>
                  <a:pt x="13768" y="10178"/>
                  <a:pt x="13742" y="10393"/>
                </a:cubicBezTo>
                <a:cubicBezTo>
                  <a:pt x="13707" y="10678"/>
                  <a:pt x="14019" y="10442"/>
                  <a:pt x="14089" y="10393"/>
                </a:cubicBezTo>
              </a:path>
              <a:path w="1787" h="745">
                <a:moveTo>
                  <a:pt x="14114" y="9872"/>
                </a:moveTo>
                <a:cubicBezTo>
                  <a:pt x="14190" y="9998"/>
                  <a:pt x="14197" y="10174"/>
                  <a:pt x="14238" y="10319"/>
                </a:cubicBezTo>
                <a:cubicBezTo>
                  <a:pt x="14246" y="10335"/>
                  <a:pt x="14255" y="10352"/>
                  <a:pt x="14263" y="10368"/>
                </a:cubicBezTo>
              </a:path>
              <a:path w="1787" h="745">
                <a:moveTo>
                  <a:pt x="14362" y="9798"/>
                </a:moveTo>
                <a:cubicBezTo>
                  <a:pt x="14413" y="9987"/>
                  <a:pt x="14483" y="10177"/>
                  <a:pt x="14536" y="10368"/>
                </a:cubicBezTo>
                <a:cubicBezTo>
                  <a:pt x="14544" y="10401"/>
                  <a:pt x="14552" y="10435"/>
                  <a:pt x="14560" y="10468"/>
                </a:cubicBezTo>
              </a:path>
              <a:path w="1787" h="745">
                <a:moveTo>
                  <a:pt x="14883" y="10046"/>
                </a:moveTo>
                <a:cubicBezTo>
                  <a:pt x="14792" y="10066"/>
                  <a:pt x="14737" y="10096"/>
                  <a:pt x="14684" y="10170"/>
                </a:cubicBezTo>
                <a:cubicBezTo>
                  <a:pt x="14807" y="10215"/>
                  <a:pt x="14968" y="10186"/>
                  <a:pt x="14982" y="10344"/>
                </a:cubicBezTo>
                <a:cubicBezTo>
                  <a:pt x="14992" y="10455"/>
                  <a:pt x="14766" y="10373"/>
                  <a:pt x="14734" y="103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62720" y="3554280"/>
            <a:ext cx="1349280" cy="241560"/>
          </a:xfrm>
          <a:custGeom>
            <a:avLst/>
            <a:gdLst/>
            <a:ahLst/>
            <a:rect l="l" t="t" r="r" b="b"/>
            <a:pathLst>
              <a:path w="3747" h="671">
                <a:moveTo>
                  <a:pt x="15453" y="9872"/>
                </a:moveTo>
                <a:cubicBezTo>
                  <a:pt x="15531" y="10035"/>
                  <a:pt x="15587" y="10201"/>
                  <a:pt x="15652" y="10368"/>
                </a:cubicBezTo>
                <a:cubicBezTo>
                  <a:pt x="15652" y="10256"/>
                  <a:pt x="15609" y="10023"/>
                  <a:pt x="15801" y="10046"/>
                </a:cubicBezTo>
                <a:cubicBezTo>
                  <a:pt x="15962" y="10065"/>
                  <a:pt x="16017" y="10242"/>
                  <a:pt x="16049" y="10368"/>
                </a:cubicBezTo>
                <a:cubicBezTo>
                  <a:pt x="16049" y="10376"/>
                  <a:pt x="16049" y="10385"/>
                  <a:pt x="16049" y="10393"/>
                </a:cubicBezTo>
              </a:path>
              <a:path w="3747" h="671">
                <a:moveTo>
                  <a:pt x="16247" y="10096"/>
                </a:moveTo>
                <a:cubicBezTo>
                  <a:pt x="16160" y="10217"/>
                  <a:pt x="16156" y="10272"/>
                  <a:pt x="16222" y="10393"/>
                </a:cubicBezTo>
                <a:cubicBezTo>
                  <a:pt x="16346" y="10340"/>
                  <a:pt x="16534" y="10277"/>
                  <a:pt x="16396" y="10120"/>
                </a:cubicBezTo>
                <a:cubicBezTo>
                  <a:pt x="16371" y="10104"/>
                  <a:pt x="16346" y="10087"/>
                  <a:pt x="16321" y="10071"/>
                </a:cubicBezTo>
              </a:path>
              <a:path w="3747" h="671">
                <a:moveTo>
                  <a:pt x="16545" y="10071"/>
                </a:moveTo>
                <a:cubicBezTo>
                  <a:pt x="16551" y="10178"/>
                  <a:pt x="16516" y="10395"/>
                  <a:pt x="16669" y="10344"/>
                </a:cubicBezTo>
                <a:cubicBezTo>
                  <a:pt x="16768" y="10311"/>
                  <a:pt x="16738" y="10201"/>
                  <a:pt x="16743" y="10120"/>
                </a:cubicBezTo>
                <a:cubicBezTo>
                  <a:pt x="16735" y="10153"/>
                  <a:pt x="16726" y="10187"/>
                  <a:pt x="16718" y="10220"/>
                </a:cubicBezTo>
                <a:cubicBezTo>
                  <a:pt x="16770" y="10295"/>
                  <a:pt x="16960" y="10456"/>
                  <a:pt x="17016" y="10244"/>
                </a:cubicBezTo>
                <a:cubicBezTo>
                  <a:pt x="17045" y="10136"/>
                  <a:pt x="16906" y="10069"/>
                  <a:pt x="16842" y="10021"/>
                </a:cubicBezTo>
              </a:path>
              <a:path w="3747" h="671">
                <a:moveTo>
                  <a:pt x="17338" y="10046"/>
                </a:moveTo>
                <a:cubicBezTo>
                  <a:pt x="17345" y="10149"/>
                  <a:pt x="17364" y="10243"/>
                  <a:pt x="17388" y="10344"/>
                </a:cubicBezTo>
                <a:cubicBezTo>
                  <a:pt x="17384" y="10295"/>
                  <a:pt x="17322" y="9947"/>
                  <a:pt x="17512" y="10096"/>
                </a:cubicBezTo>
                <a:cubicBezTo>
                  <a:pt x="17584" y="10191"/>
                  <a:pt x="17607" y="10220"/>
                  <a:pt x="17636" y="10294"/>
                </a:cubicBezTo>
                <a:cubicBezTo>
                  <a:pt x="17591" y="10206"/>
                  <a:pt x="17588" y="10057"/>
                  <a:pt x="17686" y="10071"/>
                </a:cubicBezTo>
                <a:cubicBezTo>
                  <a:pt x="17810" y="10089"/>
                  <a:pt x="17800" y="10236"/>
                  <a:pt x="17810" y="10319"/>
                </a:cubicBezTo>
              </a:path>
              <a:path w="3747" h="671">
                <a:moveTo>
                  <a:pt x="18157" y="10145"/>
                </a:moveTo>
                <a:cubicBezTo>
                  <a:pt x="18106" y="10085"/>
                  <a:pt x="17990" y="10019"/>
                  <a:pt x="17934" y="10145"/>
                </a:cubicBezTo>
                <a:cubicBezTo>
                  <a:pt x="17861" y="10309"/>
                  <a:pt x="17988" y="10490"/>
                  <a:pt x="18132" y="10319"/>
                </a:cubicBezTo>
                <a:cubicBezTo>
                  <a:pt x="18149" y="10278"/>
                  <a:pt x="18165" y="10236"/>
                  <a:pt x="18182" y="10195"/>
                </a:cubicBezTo>
                <a:cubicBezTo>
                  <a:pt x="18182" y="10167"/>
                  <a:pt x="18267" y="10297"/>
                  <a:pt x="18405" y="10319"/>
                </a:cubicBezTo>
              </a:path>
              <a:path w="3747" h="671">
                <a:moveTo>
                  <a:pt x="18455" y="10220"/>
                </a:moveTo>
                <a:cubicBezTo>
                  <a:pt x="18455" y="10330"/>
                  <a:pt x="18483" y="10054"/>
                  <a:pt x="18504" y="9996"/>
                </a:cubicBezTo>
                <a:cubicBezTo>
                  <a:pt x="18653" y="10046"/>
                  <a:pt x="18672" y="10138"/>
                  <a:pt x="18728" y="10294"/>
                </a:cubicBezTo>
              </a:path>
              <a:path w="3747" h="671">
                <a:moveTo>
                  <a:pt x="18852" y="10071"/>
                </a:moveTo>
                <a:cubicBezTo>
                  <a:pt x="18894" y="10169"/>
                  <a:pt x="19004" y="10321"/>
                  <a:pt x="19075" y="10120"/>
                </a:cubicBezTo>
                <a:cubicBezTo>
                  <a:pt x="19083" y="10070"/>
                  <a:pt x="19092" y="10021"/>
                  <a:pt x="19100" y="9971"/>
                </a:cubicBezTo>
                <a:cubicBezTo>
                  <a:pt x="19100" y="9938"/>
                  <a:pt x="19100" y="9905"/>
                  <a:pt x="19100" y="9872"/>
                </a:cubicBezTo>
                <a:cubicBezTo>
                  <a:pt x="19155" y="10052"/>
                  <a:pt x="19305" y="10338"/>
                  <a:pt x="19124" y="10492"/>
                </a:cubicBezTo>
                <a:cubicBezTo>
                  <a:pt x="18988" y="10547"/>
                  <a:pt x="18933" y="10564"/>
                  <a:pt x="18827" y="105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4038480"/>
            <a:ext cx="1581120" cy="303480"/>
          </a:xfrm>
          <a:custGeom>
            <a:avLst/>
            <a:gdLst/>
            <a:ahLst/>
            <a:rect l="l" t="t" r="r" b="b"/>
            <a:pathLst>
              <a:path w="4391" h="844">
                <a:moveTo>
                  <a:pt x="2555" y="12328"/>
                </a:moveTo>
                <a:cubicBezTo>
                  <a:pt x="2662" y="12385"/>
                  <a:pt x="2774" y="12442"/>
                  <a:pt x="2877" y="12502"/>
                </a:cubicBezTo>
                <a:cubicBezTo>
                  <a:pt x="2981" y="12563"/>
                  <a:pt x="2997" y="12522"/>
                  <a:pt x="3101" y="12452"/>
                </a:cubicBezTo>
                <a:cubicBezTo>
                  <a:pt x="3182" y="12398"/>
                  <a:pt x="3230" y="12397"/>
                  <a:pt x="3299" y="12328"/>
                </a:cubicBezTo>
              </a:path>
              <a:path w="4391" h="844">
                <a:moveTo>
                  <a:pt x="3026" y="12923"/>
                </a:moveTo>
                <a:cubicBezTo>
                  <a:pt x="3009" y="12880"/>
                  <a:pt x="2954" y="12813"/>
                  <a:pt x="2902" y="12799"/>
                </a:cubicBezTo>
                <a:cubicBezTo>
                  <a:pt x="2835" y="12781"/>
                  <a:pt x="2717" y="12835"/>
                  <a:pt x="2704" y="12898"/>
                </a:cubicBezTo>
                <a:cubicBezTo>
                  <a:pt x="2677" y="13034"/>
                  <a:pt x="2826" y="12934"/>
                  <a:pt x="2877" y="12923"/>
                </a:cubicBezTo>
                <a:cubicBezTo>
                  <a:pt x="2894" y="12923"/>
                  <a:pt x="2910" y="12923"/>
                  <a:pt x="2927" y="12923"/>
                </a:cubicBezTo>
                <a:cubicBezTo>
                  <a:pt x="2933" y="13004"/>
                  <a:pt x="2952" y="13067"/>
                  <a:pt x="2952" y="13146"/>
                </a:cubicBezTo>
              </a:path>
              <a:path w="4391" h="844">
                <a:moveTo>
                  <a:pt x="3249" y="12849"/>
                </a:moveTo>
                <a:cubicBezTo>
                  <a:pt x="3424" y="12810"/>
                  <a:pt x="3595" y="12799"/>
                  <a:pt x="3770" y="12774"/>
                </a:cubicBezTo>
                <a:cubicBezTo>
                  <a:pt x="3886" y="12758"/>
                  <a:pt x="4003" y="12766"/>
                  <a:pt x="4118" y="12750"/>
                </a:cubicBezTo>
                <a:cubicBezTo>
                  <a:pt x="4193" y="12739"/>
                  <a:pt x="4299" y="12788"/>
                  <a:pt x="4341" y="12725"/>
                </a:cubicBezTo>
                <a:cubicBezTo>
                  <a:pt x="4395" y="12644"/>
                  <a:pt x="4400" y="12518"/>
                  <a:pt x="4415" y="12427"/>
                </a:cubicBezTo>
                <a:cubicBezTo>
                  <a:pt x="4415" y="12419"/>
                  <a:pt x="4415" y="12410"/>
                  <a:pt x="4415" y="12402"/>
                </a:cubicBezTo>
              </a:path>
              <a:path w="4391" h="844">
                <a:moveTo>
                  <a:pt x="4589" y="12650"/>
                </a:moveTo>
                <a:lnTo>
                  <a:pt x="4589" y="12650"/>
                </a:lnTo>
              </a:path>
              <a:path w="4391" h="844">
                <a:moveTo>
                  <a:pt x="4539" y="12725"/>
                </a:moveTo>
                <a:cubicBezTo>
                  <a:pt x="4564" y="12708"/>
                  <a:pt x="4589" y="12692"/>
                  <a:pt x="4614" y="12675"/>
                </a:cubicBezTo>
                <a:cubicBezTo>
                  <a:pt x="4613" y="12787"/>
                  <a:pt x="4603" y="12785"/>
                  <a:pt x="4514" y="12874"/>
                </a:cubicBezTo>
                <a:cubicBezTo>
                  <a:pt x="4599" y="12901"/>
                  <a:pt x="4624" y="12895"/>
                  <a:pt x="4713" y="12874"/>
                </a:cubicBezTo>
              </a:path>
              <a:path w="4391" h="844">
                <a:moveTo>
                  <a:pt x="4837" y="12675"/>
                </a:moveTo>
                <a:cubicBezTo>
                  <a:pt x="4837" y="12648"/>
                  <a:pt x="4957" y="12650"/>
                  <a:pt x="5035" y="12650"/>
                </a:cubicBezTo>
                <a:cubicBezTo>
                  <a:pt x="5012" y="12727"/>
                  <a:pt x="4972" y="12796"/>
                  <a:pt x="4936" y="12874"/>
                </a:cubicBezTo>
              </a:path>
              <a:path w="4391" h="844">
                <a:moveTo>
                  <a:pt x="5432" y="12675"/>
                </a:moveTo>
                <a:cubicBezTo>
                  <a:pt x="5593" y="12668"/>
                  <a:pt x="5778" y="12672"/>
                  <a:pt x="5928" y="12601"/>
                </a:cubicBezTo>
                <a:cubicBezTo>
                  <a:pt x="5936" y="12593"/>
                  <a:pt x="5945" y="12584"/>
                  <a:pt x="5953" y="12576"/>
                </a:cubicBezTo>
                <a:cubicBezTo>
                  <a:pt x="5930" y="12506"/>
                  <a:pt x="5892" y="12416"/>
                  <a:pt x="5879" y="12353"/>
                </a:cubicBezTo>
                <a:cubicBezTo>
                  <a:pt x="5879" y="12336"/>
                  <a:pt x="5879" y="12320"/>
                  <a:pt x="5879" y="12303"/>
                </a:cubicBezTo>
              </a:path>
              <a:path w="4391" h="844">
                <a:moveTo>
                  <a:pt x="6449" y="12427"/>
                </a:moveTo>
                <a:cubicBezTo>
                  <a:pt x="6457" y="12419"/>
                  <a:pt x="6466" y="12410"/>
                  <a:pt x="6474" y="12402"/>
                </a:cubicBezTo>
              </a:path>
              <a:path w="4391" h="844">
                <a:moveTo>
                  <a:pt x="6548" y="12427"/>
                </a:moveTo>
                <a:cubicBezTo>
                  <a:pt x="6512" y="12422"/>
                  <a:pt x="6412" y="12374"/>
                  <a:pt x="6375" y="12402"/>
                </a:cubicBezTo>
                <a:cubicBezTo>
                  <a:pt x="6353" y="12446"/>
                  <a:pt x="6350" y="12458"/>
                  <a:pt x="6325" y="12477"/>
                </a:cubicBezTo>
                <a:cubicBezTo>
                  <a:pt x="6417" y="12548"/>
                  <a:pt x="6534" y="12539"/>
                  <a:pt x="6573" y="12650"/>
                </a:cubicBezTo>
                <a:cubicBezTo>
                  <a:pt x="6573" y="12667"/>
                  <a:pt x="6573" y="12683"/>
                  <a:pt x="6573" y="12700"/>
                </a:cubicBezTo>
                <a:cubicBezTo>
                  <a:pt x="6453" y="12741"/>
                  <a:pt x="6430" y="12736"/>
                  <a:pt x="6375" y="12626"/>
                </a:cubicBezTo>
                <a:cubicBezTo>
                  <a:pt x="6426" y="12574"/>
                  <a:pt x="6488" y="12540"/>
                  <a:pt x="6548" y="12502"/>
                </a:cubicBezTo>
                <a:cubicBezTo>
                  <a:pt x="6589" y="12482"/>
                  <a:pt x="6605" y="12484"/>
                  <a:pt x="6598" y="12452"/>
                </a:cubicBezTo>
              </a:path>
              <a:path w="4391" h="844">
                <a:moveTo>
                  <a:pt x="6921" y="12427"/>
                </a:moveTo>
                <a:cubicBezTo>
                  <a:pt x="6947" y="12535"/>
                  <a:pt x="6942" y="12596"/>
                  <a:pt x="6921" y="12700"/>
                </a:cubicBezTo>
                <a:cubicBezTo>
                  <a:pt x="6921" y="12708"/>
                  <a:pt x="6921" y="12717"/>
                  <a:pt x="6921" y="127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3886200"/>
            <a:ext cx="492120" cy="339840"/>
          </a:xfrm>
          <a:custGeom>
            <a:avLst/>
            <a:gdLst/>
            <a:ahLst/>
            <a:rect l="l" t="t" r="r" b="b"/>
            <a:pathLst>
              <a:path w="1366" h="943">
                <a:moveTo>
                  <a:pt x="8334" y="12005"/>
                </a:moveTo>
                <a:cubicBezTo>
                  <a:pt x="8404" y="11979"/>
                  <a:pt x="8597" y="11884"/>
                  <a:pt x="8632" y="12005"/>
                </a:cubicBezTo>
                <a:cubicBezTo>
                  <a:pt x="8662" y="12110"/>
                  <a:pt x="8573" y="12150"/>
                  <a:pt x="8508" y="12204"/>
                </a:cubicBezTo>
                <a:cubicBezTo>
                  <a:pt x="8500" y="12212"/>
                  <a:pt x="8491" y="12221"/>
                  <a:pt x="8483" y="12229"/>
                </a:cubicBezTo>
                <a:cubicBezTo>
                  <a:pt x="8637" y="12174"/>
                  <a:pt x="8793" y="12135"/>
                  <a:pt x="8880" y="12328"/>
                </a:cubicBezTo>
                <a:cubicBezTo>
                  <a:pt x="8945" y="12472"/>
                  <a:pt x="8690" y="12530"/>
                  <a:pt x="8607" y="12526"/>
                </a:cubicBezTo>
                <a:cubicBezTo>
                  <a:pt x="8574" y="12518"/>
                  <a:pt x="8541" y="12510"/>
                  <a:pt x="8508" y="12502"/>
                </a:cubicBezTo>
              </a:path>
              <a:path w="1366" h="943">
                <a:moveTo>
                  <a:pt x="8830" y="11609"/>
                </a:moveTo>
                <a:cubicBezTo>
                  <a:pt x="8827" y="11634"/>
                  <a:pt x="8779" y="11785"/>
                  <a:pt x="8806" y="11807"/>
                </a:cubicBezTo>
                <a:cubicBezTo>
                  <a:pt x="8879" y="11866"/>
                  <a:pt x="8960" y="11810"/>
                  <a:pt x="9029" y="11782"/>
                </a:cubicBezTo>
              </a:path>
              <a:path w="1366" h="943">
                <a:moveTo>
                  <a:pt x="8979" y="11584"/>
                </a:moveTo>
                <a:cubicBezTo>
                  <a:pt x="8979" y="11707"/>
                  <a:pt x="8964" y="11864"/>
                  <a:pt x="9004" y="11981"/>
                </a:cubicBezTo>
                <a:cubicBezTo>
                  <a:pt x="9012" y="11989"/>
                  <a:pt x="9021" y="11997"/>
                  <a:pt x="9029" y="12005"/>
                </a:cubicBezTo>
              </a:path>
              <a:path w="1366" h="943">
                <a:moveTo>
                  <a:pt x="9426" y="11981"/>
                </a:moveTo>
                <a:cubicBezTo>
                  <a:pt x="9523" y="11948"/>
                  <a:pt x="9578" y="11960"/>
                  <a:pt x="9674" y="11981"/>
                </a:cubicBezTo>
                <a:cubicBezTo>
                  <a:pt x="9682" y="11981"/>
                  <a:pt x="9691" y="11981"/>
                  <a:pt x="9699" y="11981"/>
                </a:cubicBezTo>
              </a:path>
              <a:path w="1366" h="943">
                <a:moveTo>
                  <a:pt x="9426" y="12129"/>
                </a:moveTo>
                <a:cubicBezTo>
                  <a:pt x="9525" y="12129"/>
                  <a:pt x="9558" y="12129"/>
                  <a:pt x="9624" y="121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3962520"/>
            <a:ext cx="304560" cy="223560"/>
          </a:xfrm>
          <a:custGeom>
            <a:avLst/>
            <a:gdLst/>
            <a:ahLst/>
            <a:rect l="l" t="t" r="r" b="b"/>
            <a:pathLst>
              <a:path w="844" h="621">
                <a:moveTo>
                  <a:pt x="10592" y="11782"/>
                </a:moveTo>
                <a:cubicBezTo>
                  <a:pt x="10471" y="11731"/>
                  <a:pt x="10428" y="11734"/>
                  <a:pt x="10294" y="11757"/>
                </a:cubicBezTo>
                <a:cubicBezTo>
                  <a:pt x="10403" y="11903"/>
                  <a:pt x="10702" y="12012"/>
                  <a:pt x="10765" y="12179"/>
                </a:cubicBezTo>
                <a:cubicBezTo>
                  <a:pt x="10757" y="12212"/>
                  <a:pt x="10748" y="12245"/>
                  <a:pt x="10740" y="12278"/>
                </a:cubicBezTo>
                <a:cubicBezTo>
                  <a:pt x="10685" y="12295"/>
                  <a:pt x="10312" y="12403"/>
                  <a:pt x="10344" y="12204"/>
                </a:cubicBezTo>
                <a:cubicBezTo>
                  <a:pt x="10365" y="12073"/>
                  <a:pt x="10590" y="11970"/>
                  <a:pt x="10666" y="11857"/>
                </a:cubicBezTo>
              </a:path>
              <a:path w="844" h="621">
                <a:moveTo>
                  <a:pt x="10939" y="11782"/>
                </a:moveTo>
                <a:cubicBezTo>
                  <a:pt x="11026" y="11949"/>
                  <a:pt x="11047" y="12121"/>
                  <a:pt x="11112" y="12303"/>
                </a:cubicBezTo>
                <a:cubicBezTo>
                  <a:pt x="11120" y="12320"/>
                  <a:pt x="11129" y="12336"/>
                  <a:pt x="11137" y="123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30840" y="4017960"/>
            <a:ext cx="1768320" cy="295200"/>
          </a:xfrm>
          <a:custGeom>
            <a:avLst/>
            <a:gdLst/>
            <a:ahLst/>
            <a:rect l="l" t="t" r="r" b="b"/>
            <a:pathLst>
              <a:path w="4913" h="820">
                <a:moveTo>
                  <a:pt x="13419" y="11286"/>
                </a:moveTo>
                <a:cubicBezTo>
                  <a:pt x="13458" y="11392"/>
                  <a:pt x="13470" y="11512"/>
                  <a:pt x="13519" y="11609"/>
                </a:cubicBezTo>
                <a:cubicBezTo>
                  <a:pt x="13529" y="11533"/>
                  <a:pt x="13523" y="11381"/>
                  <a:pt x="13618" y="11385"/>
                </a:cubicBezTo>
                <a:cubicBezTo>
                  <a:pt x="13740" y="11391"/>
                  <a:pt x="13795" y="11565"/>
                  <a:pt x="13816" y="11658"/>
                </a:cubicBezTo>
                <a:cubicBezTo>
                  <a:pt x="13823" y="11578"/>
                  <a:pt x="13839" y="11510"/>
                  <a:pt x="13866" y="11435"/>
                </a:cubicBezTo>
                <a:cubicBezTo>
                  <a:pt x="13942" y="11506"/>
                  <a:pt x="13987" y="11563"/>
                  <a:pt x="14039" y="11658"/>
                </a:cubicBezTo>
              </a:path>
              <a:path w="4913" h="820">
                <a:moveTo>
                  <a:pt x="14238" y="11410"/>
                </a:moveTo>
                <a:cubicBezTo>
                  <a:pt x="14246" y="11487"/>
                  <a:pt x="14250" y="11645"/>
                  <a:pt x="14362" y="11658"/>
                </a:cubicBezTo>
                <a:cubicBezTo>
                  <a:pt x="14476" y="11671"/>
                  <a:pt x="14472" y="11499"/>
                  <a:pt x="14486" y="11435"/>
                </a:cubicBezTo>
                <a:cubicBezTo>
                  <a:pt x="14439" y="11457"/>
                  <a:pt x="14507" y="11569"/>
                  <a:pt x="14585" y="11609"/>
                </a:cubicBezTo>
              </a:path>
              <a:path w="4913" h="820">
                <a:moveTo>
                  <a:pt x="14684" y="11237"/>
                </a:moveTo>
                <a:cubicBezTo>
                  <a:pt x="14703" y="11388"/>
                  <a:pt x="14750" y="11534"/>
                  <a:pt x="14784" y="11683"/>
                </a:cubicBezTo>
              </a:path>
              <a:path w="4913" h="820">
                <a:moveTo>
                  <a:pt x="14883" y="11237"/>
                </a:moveTo>
                <a:cubicBezTo>
                  <a:pt x="14973" y="11387"/>
                  <a:pt x="15012" y="11516"/>
                  <a:pt x="15056" y="11683"/>
                </a:cubicBezTo>
              </a:path>
              <a:path w="4913" h="820">
                <a:moveTo>
                  <a:pt x="14908" y="11410"/>
                </a:moveTo>
                <a:cubicBezTo>
                  <a:pt x="15025" y="11447"/>
                  <a:pt x="15155" y="11460"/>
                  <a:pt x="15255" y="11534"/>
                </a:cubicBezTo>
                <a:cubicBezTo>
                  <a:pt x="15271" y="11551"/>
                  <a:pt x="15288" y="11567"/>
                  <a:pt x="15304" y="11584"/>
                </a:cubicBezTo>
              </a:path>
              <a:path w="4913" h="820">
                <a:moveTo>
                  <a:pt x="15280" y="11286"/>
                </a:moveTo>
                <a:lnTo>
                  <a:pt x="15280" y="11286"/>
                </a:lnTo>
              </a:path>
              <a:path w="4913" h="820">
                <a:moveTo>
                  <a:pt x="15553" y="11509"/>
                </a:moveTo>
                <a:cubicBezTo>
                  <a:pt x="15581" y="11645"/>
                  <a:pt x="15615" y="11772"/>
                  <a:pt x="15652" y="11906"/>
                </a:cubicBezTo>
              </a:path>
              <a:path w="4913" h="820">
                <a:moveTo>
                  <a:pt x="15478" y="11410"/>
                </a:moveTo>
                <a:cubicBezTo>
                  <a:pt x="15618" y="11369"/>
                  <a:pt x="15872" y="11360"/>
                  <a:pt x="15801" y="11609"/>
                </a:cubicBezTo>
                <a:cubicBezTo>
                  <a:pt x="15730" y="11702"/>
                  <a:pt x="15713" y="11733"/>
                  <a:pt x="15627" y="11733"/>
                </a:cubicBezTo>
              </a:path>
              <a:path w="4913" h="820">
                <a:moveTo>
                  <a:pt x="15900" y="11162"/>
                </a:moveTo>
                <a:cubicBezTo>
                  <a:pt x="15965" y="11336"/>
                  <a:pt x="16026" y="11503"/>
                  <a:pt x="16073" y="11683"/>
                </a:cubicBezTo>
              </a:path>
              <a:path w="4913" h="820">
                <a:moveTo>
                  <a:pt x="16197" y="11460"/>
                </a:moveTo>
                <a:cubicBezTo>
                  <a:pt x="16238" y="11561"/>
                  <a:pt x="16272" y="11658"/>
                  <a:pt x="16321" y="11757"/>
                </a:cubicBezTo>
              </a:path>
              <a:path w="4913" h="820">
                <a:moveTo>
                  <a:pt x="16222" y="11361"/>
                </a:moveTo>
                <a:lnTo>
                  <a:pt x="16222" y="11361"/>
                </a:lnTo>
              </a:path>
              <a:path w="4913" h="820">
                <a:moveTo>
                  <a:pt x="16470" y="11584"/>
                </a:moveTo>
                <a:cubicBezTo>
                  <a:pt x="16596" y="11567"/>
                  <a:pt x="16652" y="11570"/>
                  <a:pt x="16669" y="11435"/>
                </a:cubicBezTo>
                <a:cubicBezTo>
                  <a:pt x="16501" y="11393"/>
                  <a:pt x="16461" y="11403"/>
                  <a:pt x="16446" y="11584"/>
                </a:cubicBezTo>
                <a:cubicBezTo>
                  <a:pt x="16434" y="11730"/>
                  <a:pt x="16476" y="11715"/>
                  <a:pt x="16594" y="11757"/>
                </a:cubicBezTo>
              </a:path>
              <a:path w="4913" h="820">
                <a:moveTo>
                  <a:pt x="16966" y="11385"/>
                </a:moveTo>
                <a:cubicBezTo>
                  <a:pt x="16820" y="11418"/>
                  <a:pt x="16794" y="11498"/>
                  <a:pt x="16743" y="11633"/>
                </a:cubicBezTo>
                <a:cubicBezTo>
                  <a:pt x="16906" y="11706"/>
                  <a:pt x="16938" y="11664"/>
                  <a:pt x="17041" y="11534"/>
                </a:cubicBezTo>
              </a:path>
              <a:path w="4913" h="820">
                <a:moveTo>
                  <a:pt x="16991" y="11311"/>
                </a:moveTo>
                <a:cubicBezTo>
                  <a:pt x="17035" y="11486"/>
                  <a:pt x="17043" y="11530"/>
                  <a:pt x="17090" y="11633"/>
                </a:cubicBezTo>
              </a:path>
              <a:path w="4913" h="820">
                <a:moveTo>
                  <a:pt x="17487" y="11162"/>
                </a:moveTo>
                <a:cubicBezTo>
                  <a:pt x="17552" y="11269"/>
                  <a:pt x="17603" y="11394"/>
                  <a:pt x="17661" y="11509"/>
                </a:cubicBezTo>
                <a:cubicBezTo>
                  <a:pt x="17718" y="11436"/>
                  <a:pt x="17749" y="11389"/>
                  <a:pt x="17810" y="11485"/>
                </a:cubicBezTo>
                <a:cubicBezTo>
                  <a:pt x="17830" y="11525"/>
                  <a:pt x="17839" y="11531"/>
                  <a:pt x="17835" y="11559"/>
                </a:cubicBezTo>
                <a:cubicBezTo>
                  <a:pt x="17724" y="11596"/>
                  <a:pt x="17703" y="11600"/>
                  <a:pt x="17587" y="11584"/>
                </a:cubicBezTo>
              </a:path>
              <a:path w="4913" h="820">
                <a:moveTo>
                  <a:pt x="18008" y="11361"/>
                </a:moveTo>
                <a:cubicBezTo>
                  <a:pt x="18014" y="11451"/>
                  <a:pt x="17994" y="11633"/>
                  <a:pt x="18132" y="11633"/>
                </a:cubicBezTo>
                <a:cubicBezTo>
                  <a:pt x="18274" y="11633"/>
                  <a:pt x="18297" y="11504"/>
                  <a:pt x="18256" y="11410"/>
                </a:cubicBezTo>
                <a:cubicBezTo>
                  <a:pt x="18305" y="11594"/>
                  <a:pt x="18410" y="11799"/>
                  <a:pt x="18207" y="11931"/>
                </a:cubicBezTo>
                <a:cubicBezTo>
                  <a:pt x="18058" y="11981"/>
                  <a:pt x="18008" y="11998"/>
                  <a:pt x="17909" y="119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96080" y="3938760"/>
            <a:ext cx="714240" cy="222120"/>
          </a:xfrm>
          <a:custGeom>
            <a:avLst/>
            <a:gdLst/>
            <a:ahLst/>
            <a:rect l="l" t="t" r="r" b="b"/>
            <a:pathLst>
              <a:path w="1986" h="621">
                <a:moveTo>
                  <a:pt x="18876" y="11286"/>
                </a:moveTo>
                <a:cubicBezTo>
                  <a:pt x="18898" y="11379"/>
                  <a:pt x="18919" y="11470"/>
                  <a:pt x="18951" y="11559"/>
                </a:cubicBezTo>
              </a:path>
              <a:path w="1986" h="621">
                <a:moveTo>
                  <a:pt x="18876" y="11137"/>
                </a:moveTo>
                <a:lnTo>
                  <a:pt x="18876" y="11137"/>
                </a:lnTo>
              </a:path>
              <a:path w="1986" h="621">
                <a:moveTo>
                  <a:pt x="19149" y="11013"/>
                </a:moveTo>
                <a:cubicBezTo>
                  <a:pt x="19223" y="11174"/>
                  <a:pt x="19282" y="11308"/>
                  <a:pt x="19298" y="11485"/>
                </a:cubicBezTo>
              </a:path>
              <a:path w="1986" h="621">
                <a:moveTo>
                  <a:pt x="19075" y="11286"/>
                </a:moveTo>
                <a:cubicBezTo>
                  <a:pt x="19178" y="11286"/>
                  <a:pt x="19269" y="11249"/>
                  <a:pt x="19372" y="11237"/>
                </a:cubicBezTo>
              </a:path>
              <a:path w="1986" h="621">
                <a:moveTo>
                  <a:pt x="19596" y="11237"/>
                </a:moveTo>
                <a:cubicBezTo>
                  <a:pt x="19457" y="11229"/>
                  <a:pt x="19463" y="11203"/>
                  <a:pt x="19348" y="11286"/>
                </a:cubicBezTo>
                <a:cubicBezTo>
                  <a:pt x="19527" y="11329"/>
                  <a:pt x="19671" y="11321"/>
                  <a:pt x="19670" y="11509"/>
                </a:cubicBezTo>
                <a:cubicBezTo>
                  <a:pt x="19593" y="11561"/>
                  <a:pt x="19565" y="11578"/>
                  <a:pt x="19496" y="11559"/>
                </a:cubicBezTo>
              </a:path>
              <a:path w="1986" h="621">
                <a:moveTo>
                  <a:pt x="19844" y="11261"/>
                </a:moveTo>
                <a:cubicBezTo>
                  <a:pt x="19941" y="11261"/>
                  <a:pt x="19947" y="11268"/>
                  <a:pt x="19993" y="11187"/>
                </a:cubicBezTo>
                <a:cubicBezTo>
                  <a:pt x="19860" y="11111"/>
                  <a:pt x="19742" y="11163"/>
                  <a:pt x="19720" y="11336"/>
                </a:cubicBezTo>
                <a:cubicBezTo>
                  <a:pt x="19698" y="11506"/>
                  <a:pt x="19867" y="11493"/>
                  <a:pt x="19968" y="11509"/>
                </a:cubicBezTo>
              </a:path>
              <a:path w="1986" h="621">
                <a:moveTo>
                  <a:pt x="20141" y="10964"/>
                </a:moveTo>
                <a:cubicBezTo>
                  <a:pt x="20157" y="11133"/>
                  <a:pt x="20208" y="11288"/>
                  <a:pt x="20216" y="11460"/>
                </a:cubicBezTo>
                <a:cubicBezTo>
                  <a:pt x="20216" y="11468"/>
                  <a:pt x="20216" y="11477"/>
                  <a:pt x="20216" y="11485"/>
                </a:cubicBezTo>
              </a:path>
              <a:path w="1986" h="621">
                <a:moveTo>
                  <a:pt x="20786" y="11063"/>
                </a:moveTo>
                <a:cubicBezTo>
                  <a:pt x="20752" y="11017"/>
                  <a:pt x="20611" y="10854"/>
                  <a:pt x="20563" y="10988"/>
                </a:cubicBezTo>
                <a:cubicBezTo>
                  <a:pt x="20512" y="11130"/>
                  <a:pt x="20638" y="11323"/>
                  <a:pt x="20662" y="11460"/>
                </a:cubicBezTo>
                <a:cubicBezTo>
                  <a:pt x="20662" y="11476"/>
                  <a:pt x="20662" y="11493"/>
                  <a:pt x="20662" y="11509"/>
                </a:cubicBezTo>
              </a:path>
              <a:path w="1986" h="621">
                <a:moveTo>
                  <a:pt x="20439" y="11311"/>
                </a:moveTo>
                <a:cubicBezTo>
                  <a:pt x="20556" y="11284"/>
                  <a:pt x="20665" y="11286"/>
                  <a:pt x="20786" y="11286"/>
                </a:cubicBezTo>
                <a:cubicBezTo>
                  <a:pt x="20828" y="11286"/>
                  <a:pt x="20836" y="11286"/>
                  <a:pt x="20861" y="112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3886200"/>
            <a:ext cx="1411560" cy="241200"/>
          </a:xfrm>
          <a:custGeom>
            <a:avLst/>
            <a:gdLst/>
            <a:ahLst/>
            <a:rect l="l" t="t" r="r" b="b"/>
            <a:pathLst>
              <a:path w="3920" h="670">
                <a:moveTo>
                  <a:pt x="2108" y="11658"/>
                </a:moveTo>
                <a:cubicBezTo>
                  <a:pt x="2233" y="11601"/>
                  <a:pt x="2231" y="11601"/>
                  <a:pt x="2356" y="11658"/>
                </a:cubicBezTo>
                <a:cubicBezTo>
                  <a:pt x="2339" y="11783"/>
                  <a:pt x="2309" y="11814"/>
                  <a:pt x="2208" y="11881"/>
                </a:cubicBezTo>
                <a:cubicBezTo>
                  <a:pt x="2311" y="11919"/>
                  <a:pt x="2515" y="11934"/>
                  <a:pt x="2456" y="12105"/>
                </a:cubicBezTo>
                <a:cubicBezTo>
                  <a:pt x="2395" y="12281"/>
                  <a:pt x="2110" y="12296"/>
                  <a:pt x="1960" y="12278"/>
                </a:cubicBezTo>
                <a:cubicBezTo>
                  <a:pt x="1943" y="12270"/>
                  <a:pt x="1927" y="12262"/>
                  <a:pt x="1910" y="12254"/>
                </a:cubicBezTo>
              </a:path>
              <a:path w="3920" h="670">
                <a:moveTo>
                  <a:pt x="2778" y="11708"/>
                </a:moveTo>
                <a:cubicBezTo>
                  <a:pt x="2810" y="11835"/>
                  <a:pt x="2858" y="11955"/>
                  <a:pt x="2877" y="12080"/>
                </a:cubicBezTo>
              </a:path>
              <a:path w="3920" h="670">
                <a:moveTo>
                  <a:pt x="3125" y="11782"/>
                </a:moveTo>
                <a:cubicBezTo>
                  <a:pt x="2991" y="11868"/>
                  <a:pt x="2897" y="11979"/>
                  <a:pt x="2778" y="12080"/>
                </a:cubicBezTo>
              </a:path>
              <a:path w="3920" h="670">
                <a:moveTo>
                  <a:pt x="3373" y="11658"/>
                </a:moveTo>
                <a:cubicBezTo>
                  <a:pt x="3443" y="11635"/>
                  <a:pt x="3527" y="11601"/>
                  <a:pt x="3547" y="11708"/>
                </a:cubicBezTo>
                <a:cubicBezTo>
                  <a:pt x="3568" y="11823"/>
                  <a:pt x="3502" y="11838"/>
                  <a:pt x="3423" y="11881"/>
                </a:cubicBezTo>
                <a:cubicBezTo>
                  <a:pt x="3532" y="11922"/>
                  <a:pt x="3746" y="11984"/>
                  <a:pt x="3621" y="12129"/>
                </a:cubicBezTo>
                <a:cubicBezTo>
                  <a:pt x="3538" y="12225"/>
                  <a:pt x="3385" y="12204"/>
                  <a:pt x="3274" y="12204"/>
                </a:cubicBezTo>
              </a:path>
              <a:path w="3920" h="670">
                <a:moveTo>
                  <a:pt x="3845" y="11757"/>
                </a:moveTo>
                <a:cubicBezTo>
                  <a:pt x="3894" y="11856"/>
                  <a:pt x="3934" y="11916"/>
                  <a:pt x="3994" y="12005"/>
                </a:cubicBezTo>
              </a:path>
              <a:path w="3920" h="670">
                <a:moveTo>
                  <a:pt x="4118" y="11733"/>
                </a:moveTo>
                <a:cubicBezTo>
                  <a:pt x="4038" y="11839"/>
                  <a:pt x="3966" y="11943"/>
                  <a:pt x="3894" y="12055"/>
                </a:cubicBezTo>
              </a:path>
              <a:path w="3920" h="670">
                <a:moveTo>
                  <a:pt x="4390" y="11683"/>
                </a:moveTo>
                <a:cubicBezTo>
                  <a:pt x="4480" y="11641"/>
                  <a:pt x="4656" y="11578"/>
                  <a:pt x="4663" y="11757"/>
                </a:cubicBezTo>
                <a:cubicBezTo>
                  <a:pt x="4668" y="11897"/>
                  <a:pt x="4514" y="11921"/>
                  <a:pt x="4415" y="11931"/>
                </a:cubicBezTo>
                <a:cubicBezTo>
                  <a:pt x="4521" y="11913"/>
                  <a:pt x="4614" y="11901"/>
                  <a:pt x="4663" y="12030"/>
                </a:cubicBezTo>
                <a:cubicBezTo>
                  <a:pt x="4725" y="12193"/>
                  <a:pt x="4491" y="12238"/>
                  <a:pt x="4390" y="12229"/>
                </a:cubicBezTo>
                <a:cubicBezTo>
                  <a:pt x="4330" y="12209"/>
                  <a:pt x="4315" y="12210"/>
                  <a:pt x="4291" y="12179"/>
                </a:cubicBezTo>
              </a:path>
              <a:path w="3920" h="670">
                <a:moveTo>
                  <a:pt x="5035" y="11906"/>
                </a:moveTo>
                <a:cubicBezTo>
                  <a:pt x="5079" y="11966"/>
                  <a:pt x="5121" y="12018"/>
                  <a:pt x="5159" y="12080"/>
                </a:cubicBezTo>
              </a:path>
              <a:path w="3920" h="670">
                <a:moveTo>
                  <a:pt x="5159" y="11832"/>
                </a:moveTo>
                <a:cubicBezTo>
                  <a:pt x="5088" y="11896"/>
                  <a:pt x="5040" y="11971"/>
                  <a:pt x="4986" y="12055"/>
                </a:cubicBezTo>
              </a:path>
              <a:path w="3920" h="670">
                <a:moveTo>
                  <a:pt x="5482" y="11633"/>
                </a:moveTo>
                <a:cubicBezTo>
                  <a:pt x="5574" y="11609"/>
                  <a:pt x="5737" y="11581"/>
                  <a:pt x="5755" y="11733"/>
                </a:cubicBezTo>
                <a:cubicBezTo>
                  <a:pt x="5769" y="11851"/>
                  <a:pt x="5603" y="11859"/>
                  <a:pt x="5531" y="11881"/>
                </a:cubicBezTo>
                <a:cubicBezTo>
                  <a:pt x="5640" y="11865"/>
                  <a:pt x="5788" y="11862"/>
                  <a:pt x="5829" y="12005"/>
                </a:cubicBezTo>
                <a:cubicBezTo>
                  <a:pt x="5890" y="12216"/>
                  <a:pt x="5639" y="12164"/>
                  <a:pt x="5531" y="12154"/>
                </a:cubicBezTo>
              </a:path>
              <a:path w="3920" h="670">
                <a:moveTo>
                  <a:pt x="4887" y="11807"/>
                </a:moveTo>
                <a:cubicBezTo>
                  <a:pt x="4931" y="11807"/>
                  <a:pt x="4945" y="11804"/>
                  <a:pt x="4961" y="118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Objective:  Students will use Prime Factorization to identify factors of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Prime factorization requires you to factor a number into the primes  that create it. </a:t>
            </a: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75"/>
              </a:spcBef>
              <a:buClr>
                <a:srgbClr val="cc99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 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n-US" sz="2700" spc="-1" strike="noStrike" u="sng">
                <a:solidFill>
                  <a:srgbClr val="ff6600"/>
                </a:solidFill>
                <a:uFillTx/>
                <a:latin typeface="Arial"/>
              </a:rPr>
              <a:t>Examp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 algn="ctr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3399ff"/>
                </a:solidFill>
                <a:uFillTx/>
                <a:latin typeface="Arial"/>
              </a:rPr>
              <a:t>Way 1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 u="sng">
                <a:solidFill>
                  <a:srgbClr val="3399ff"/>
                </a:solidFill>
                <a:uFillTx/>
                <a:latin typeface="Arial"/>
              </a:rPr>
              <a:t>Way 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 2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89000" y="2963880"/>
            <a:ext cx="3706920" cy="3144960"/>
          </a:xfrm>
          <a:custGeom>
            <a:avLst/>
            <a:gdLst/>
            <a:ahLst/>
            <a:rect l="l" t="t" r="r" b="b"/>
            <a:pathLst>
              <a:path w="10295" h="8732">
                <a:moveTo>
                  <a:pt x="11584" y="8235"/>
                </a:moveTo>
                <a:cubicBezTo>
                  <a:pt x="11423" y="8348"/>
                  <a:pt x="11298" y="8437"/>
                  <a:pt x="11187" y="8607"/>
                </a:cubicBezTo>
                <a:cubicBezTo>
                  <a:pt x="10968" y="8943"/>
                  <a:pt x="10977" y="9320"/>
                  <a:pt x="11162" y="9674"/>
                </a:cubicBezTo>
                <a:cubicBezTo>
                  <a:pt x="11341" y="10016"/>
                  <a:pt x="11625" y="10308"/>
                  <a:pt x="11906" y="10567"/>
                </a:cubicBezTo>
                <a:cubicBezTo>
                  <a:pt x="12197" y="10835"/>
                  <a:pt x="12433" y="11095"/>
                  <a:pt x="12477" y="11509"/>
                </a:cubicBezTo>
                <a:cubicBezTo>
                  <a:pt x="12509" y="11813"/>
                  <a:pt x="12473" y="12149"/>
                  <a:pt x="12452" y="12452"/>
                </a:cubicBezTo>
                <a:cubicBezTo>
                  <a:pt x="12421" y="12904"/>
                  <a:pt x="12409" y="13314"/>
                  <a:pt x="12452" y="13767"/>
                </a:cubicBezTo>
                <a:cubicBezTo>
                  <a:pt x="12491" y="14181"/>
                  <a:pt x="12452" y="14720"/>
                  <a:pt x="12626" y="15106"/>
                </a:cubicBezTo>
                <a:cubicBezTo>
                  <a:pt x="12711" y="15295"/>
                  <a:pt x="12912" y="15470"/>
                  <a:pt x="13022" y="15652"/>
                </a:cubicBezTo>
                <a:cubicBezTo>
                  <a:pt x="13167" y="15891"/>
                  <a:pt x="13228" y="16199"/>
                  <a:pt x="13271" y="16470"/>
                </a:cubicBezTo>
                <a:cubicBezTo>
                  <a:pt x="13296" y="16631"/>
                  <a:pt x="13312" y="16780"/>
                  <a:pt x="13320" y="16942"/>
                </a:cubicBezTo>
                <a:cubicBezTo>
                  <a:pt x="13320" y="16950"/>
                  <a:pt x="13320" y="16958"/>
                  <a:pt x="13320" y="16966"/>
                </a:cubicBezTo>
              </a:path>
              <a:path w="10295" h="8732">
                <a:moveTo>
                  <a:pt x="5358" y="14114"/>
                </a:moveTo>
                <a:cubicBezTo>
                  <a:pt x="5318" y="14214"/>
                  <a:pt x="5313" y="14232"/>
                  <a:pt x="5283" y="14288"/>
                </a:cubicBezTo>
                <a:cubicBezTo>
                  <a:pt x="5383" y="14312"/>
                  <a:pt x="5455" y="14308"/>
                  <a:pt x="5556" y="14288"/>
                </a:cubicBezTo>
              </a:path>
              <a:path w="10295" h="8732">
                <a:moveTo>
                  <a:pt x="5581" y="14039"/>
                </a:moveTo>
                <a:cubicBezTo>
                  <a:pt x="5581" y="14188"/>
                  <a:pt x="5581" y="14337"/>
                  <a:pt x="5581" y="14486"/>
                </a:cubicBezTo>
              </a:path>
              <a:path w="10295" h="8732">
                <a:moveTo>
                  <a:pt x="6648" y="13915"/>
                </a:moveTo>
                <a:cubicBezTo>
                  <a:pt x="6744" y="13873"/>
                  <a:pt x="6826" y="13823"/>
                  <a:pt x="6896" y="13915"/>
                </a:cubicBezTo>
                <a:cubicBezTo>
                  <a:pt x="6990" y="14040"/>
                  <a:pt x="6804" y="14082"/>
                  <a:pt x="6722" y="14114"/>
                </a:cubicBezTo>
                <a:cubicBezTo>
                  <a:pt x="6831" y="14082"/>
                  <a:pt x="7014" y="14022"/>
                  <a:pt x="6995" y="14213"/>
                </a:cubicBezTo>
                <a:cubicBezTo>
                  <a:pt x="6979" y="14380"/>
                  <a:pt x="6824" y="14385"/>
                  <a:pt x="6697" y="14362"/>
                </a:cubicBezTo>
              </a:path>
              <a:path w="10295" h="8732">
                <a:moveTo>
                  <a:pt x="6524" y="14436"/>
                </a:moveTo>
                <a:cubicBezTo>
                  <a:pt x="6592" y="14482"/>
                  <a:pt x="6686" y="14553"/>
                  <a:pt x="6772" y="14585"/>
                </a:cubicBezTo>
                <a:cubicBezTo>
                  <a:pt x="6891" y="14630"/>
                  <a:pt x="7026" y="14620"/>
                  <a:pt x="7144" y="14585"/>
                </a:cubicBezTo>
                <a:cubicBezTo>
                  <a:pt x="7258" y="14551"/>
                  <a:pt x="7305" y="14539"/>
                  <a:pt x="7367" y="14436"/>
                </a:cubicBezTo>
                <a:cubicBezTo>
                  <a:pt x="7411" y="14364"/>
                  <a:pt x="7454" y="14246"/>
                  <a:pt x="7466" y="14163"/>
                </a:cubicBezTo>
                <a:cubicBezTo>
                  <a:pt x="7477" y="14087"/>
                  <a:pt x="7465" y="14023"/>
                  <a:pt x="7417" y="13965"/>
                </a:cubicBezTo>
                <a:cubicBezTo>
                  <a:pt x="7373" y="13911"/>
                  <a:pt x="7303" y="13873"/>
                  <a:pt x="7243" y="13841"/>
                </a:cubicBezTo>
                <a:cubicBezTo>
                  <a:pt x="7178" y="13806"/>
                  <a:pt x="7139" y="13791"/>
                  <a:pt x="7069" y="13767"/>
                </a:cubicBezTo>
                <a:cubicBezTo>
                  <a:pt x="7003" y="13744"/>
                  <a:pt x="6943" y="13742"/>
                  <a:pt x="6871" y="13742"/>
                </a:cubicBezTo>
                <a:cubicBezTo>
                  <a:pt x="6818" y="13742"/>
                  <a:pt x="6743" y="13746"/>
                  <a:pt x="6697" y="13767"/>
                </a:cubicBezTo>
                <a:cubicBezTo>
                  <a:pt x="6637" y="13794"/>
                  <a:pt x="6572" y="13846"/>
                  <a:pt x="6524" y="13891"/>
                </a:cubicBezTo>
                <a:cubicBezTo>
                  <a:pt x="6446" y="13964"/>
                  <a:pt x="6420" y="14020"/>
                  <a:pt x="6375" y="14114"/>
                </a:cubicBezTo>
                <a:cubicBezTo>
                  <a:pt x="6351" y="14164"/>
                  <a:pt x="6332" y="14255"/>
                  <a:pt x="6350" y="14312"/>
                </a:cubicBezTo>
                <a:cubicBezTo>
                  <a:pt x="6368" y="14370"/>
                  <a:pt x="6405" y="14438"/>
                  <a:pt x="6449" y="14486"/>
                </a:cubicBezTo>
                <a:cubicBezTo>
                  <a:pt x="6498" y="14538"/>
                  <a:pt x="6575" y="14598"/>
                  <a:pt x="6648" y="14610"/>
                </a:cubicBezTo>
                <a:cubicBezTo>
                  <a:pt x="6681" y="14610"/>
                  <a:pt x="6697" y="14610"/>
                  <a:pt x="6722" y="14610"/>
                </a:cubicBezTo>
              </a:path>
              <a:path w="10295" h="8732">
                <a:moveTo>
                  <a:pt x="5259" y="14635"/>
                </a:moveTo>
                <a:cubicBezTo>
                  <a:pt x="5217" y="14822"/>
                  <a:pt x="5123" y="14921"/>
                  <a:pt x="5035" y="15081"/>
                </a:cubicBezTo>
                <a:cubicBezTo>
                  <a:pt x="5027" y="15106"/>
                  <a:pt x="5019" y="15131"/>
                  <a:pt x="5011" y="15156"/>
                </a:cubicBezTo>
              </a:path>
              <a:path w="10295" h="8732">
                <a:moveTo>
                  <a:pt x="5358" y="14560"/>
                </a:moveTo>
                <a:cubicBezTo>
                  <a:pt x="5431" y="14706"/>
                  <a:pt x="5492" y="14857"/>
                  <a:pt x="5556" y="15007"/>
                </a:cubicBezTo>
                <a:cubicBezTo>
                  <a:pt x="5601" y="15113"/>
                  <a:pt x="5608" y="15133"/>
                  <a:pt x="5680" y="15205"/>
                </a:cubicBezTo>
              </a:path>
              <a:path w="10295" h="8732">
                <a:moveTo>
                  <a:pt x="4614" y="15304"/>
                </a:moveTo>
                <a:cubicBezTo>
                  <a:pt x="4630" y="15288"/>
                  <a:pt x="4647" y="15271"/>
                  <a:pt x="4663" y="15255"/>
                </a:cubicBezTo>
                <a:cubicBezTo>
                  <a:pt x="4749" y="15389"/>
                  <a:pt x="4785" y="15518"/>
                  <a:pt x="4663" y="15652"/>
                </a:cubicBezTo>
                <a:cubicBezTo>
                  <a:pt x="4582" y="15741"/>
                  <a:pt x="4485" y="15748"/>
                  <a:pt x="4390" y="15701"/>
                </a:cubicBezTo>
                <a:cubicBezTo>
                  <a:pt x="4407" y="15541"/>
                  <a:pt x="4560" y="15591"/>
                  <a:pt x="4713" y="15652"/>
                </a:cubicBezTo>
                <a:cubicBezTo>
                  <a:pt x="4766" y="15679"/>
                  <a:pt x="4786" y="15691"/>
                  <a:pt x="4812" y="15726"/>
                </a:cubicBezTo>
              </a:path>
              <a:path w="10295" h="8732">
                <a:moveTo>
                  <a:pt x="5978" y="15280"/>
                </a:moveTo>
                <a:cubicBezTo>
                  <a:pt x="5857" y="15379"/>
                  <a:pt x="5998" y="15253"/>
                  <a:pt x="6077" y="15255"/>
                </a:cubicBezTo>
                <a:cubicBezTo>
                  <a:pt x="6332" y="15263"/>
                  <a:pt x="6197" y="15551"/>
                  <a:pt x="6102" y="15652"/>
                </a:cubicBezTo>
                <a:cubicBezTo>
                  <a:pt x="6019" y="15740"/>
                  <a:pt x="5982" y="15726"/>
                  <a:pt x="5879" y="15726"/>
                </a:cubicBezTo>
                <a:cubicBezTo>
                  <a:pt x="5930" y="15586"/>
                  <a:pt x="6042" y="15572"/>
                  <a:pt x="6201" y="15677"/>
                </a:cubicBezTo>
                <a:cubicBezTo>
                  <a:pt x="6231" y="15706"/>
                  <a:pt x="6243" y="15720"/>
                  <a:pt x="6251" y="15751"/>
                </a:cubicBezTo>
              </a:path>
              <a:path w="10295" h="8732">
                <a:moveTo>
                  <a:pt x="5755" y="15875"/>
                </a:moveTo>
                <a:cubicBezTo>
                  <a:pt x="5838" y="15939"/>
                  <a:pt x="5893" y="15987"/>
                  <a:pt x="6028" y="15974"/>
                </a:cubicBezTo>
                <a:cubicBezTo>
                  <a:pt x="6221" y="15955"/>
                  <a:pt x="6411" y="15863"/>
                  <a:pt x="6548" y="15726"/>
                </a:cubicBezTo>
                <a:cubicBezTo>
                  <a:pt x="6638" y="15636"/>
                  <a:pt x="6668" y="15501"/>
                  <a:pt x="6648" y="15379"/>
                </a:cubicBezTo>
                <a:cubicBezTo>
                  <a:pt x="6631" y="15277"/>
                  <a:pt x="6610" y="15212"/>
                  <a:pt x="6548" y="15131"/>
                </a:cubicBezTo>
                <a:cubicBezTo>
                  <a:pt x="6501" y="15069"/>
                  <a:pt x="6426" y="15021"/>
                  <a:pt x="6350" y="15007"/>
                </a:cubicBezTo>
                <a:cubicBezTo>
                  <a:pt x="6223" y="14983"/>
                  <a:pt x="6050" y="15001"/>
                  <a:pt x="5928" y="15032"/>
                </a:cubicBezTo>
                <a:cubicBezTo>
                  <a:pt x="5846" y="15053"/>
                  <a:pt x="5686" y="15085"/>
                  <a:pt x="5631" y="15156"/>
                </a:cubicBezTo>
                <a:cubicBezTo>
                  <a:pt x="5564" y="15243"/>
                  <a:pt x="5568" y="15429"/>
                  <a:pt x="5581" y="15528"/>
                </a:cubicBezTo>
                <a:cubicBezTo>
                  <a:pt x="5597" y="15651"/>
                  <a:pt x="5643" y="15765"/>
                  <a:pt x="5755" y="15825"/>
                </a:cubicBezTo>
                <a:cubicBezTo>
                  <a:pt x="5838" y="15870"/>
                  <a:pt x="5884" y="15875"/>
                  <a:pt x="5978" y="15875"/>
                </a:cubicBezTo>
                <a:cubicBezTo>
                  <a:pt x="5986" y="15875"/>
                  <a:pt x="5995" y="15875"/>
                  <a:pt x="6003" y="15875"/>
                </a:cubicBezTo>
              </a:path>
              <a:path w="10295" h="8732">
                <a:moveTo>
                  <a:pt x="4142" y="15726"/>
                </a:moveTo>
                <a:cubicBezTo>
                  <a:pt x="4229" y="15845"/>
                  <a:pt x="4314" y="15897"/>
                  <a:pt x="4440" y="15974"/>
                </a:cubicBezTo>
                <a:cubicBezTo>
                  <a:pt x="4568" y="16053"/>
                  <a:pt x="4718" y="16035"/>
                  <a:pt x="4862" y="15999"/>
                </a:cubicBezTo>
                <a:cubicBezTo>
                  <a:pt x="4976" y="15970"/>
                  <a:pt x="5055" y="15934"/>
                  <a:pt x="5110" y="15825"/>
                </a:cubicBezTo>
                <a:cubicBezTo>
                  <a:pt x="5161" y="15724"/>
                  <a:pt x="5142" y="15603"/>
                  <a:pt x="5135" y="15503"/>
                </a:cubicBezTo>
                <a:cubicBezTo>
                  <a:pt x="5128" y="15409"/>
                  <a:pt x="5139" y="15381"/>
                  <a:pt x="5085" y="15304"/>
                </a:cubicBezTo>
                <a:cubicBezTo>
                  <a:pt x="5016" y="15206"/>
                  <a:pt x="4952" y="15188"/>
                  <a:pt x="4837" y="15156"/>
                </a:cubicBezTo>
                <a:cubicBezTo>
                  <a:pt x="4712" y="15121"/>
                  <a:pt x="4636" y="15151"/>
                  <a:pt x="4514" y="15156"/>
                </a:cubicBezTo>
                <a:cubicBezTo>
                  <a:pt x="4444" y="15159"/>
                  <a:pt x="4343" y="15159"/>
                  <a:pt x="4291" y="15205"/>
                </a:cubicBezTo>
                <a:cubicBezTo>
                  <a:pt x="4219" y="15268"/>
                  <a:pt x="4141" y="15356"/>
                  <a:pt x="4118" y="15453"/>
                </a:cubicBezTo>
                <a:cubicBezTo>
                  <a:pt x="4096" y="15545"/>
                  <a:pt x="4130" y="15639"/>
                  <a:pt x="4142" y="15726"/>
                </a:cubicBezTo>
                <a:cubicBezTo>
                  <a:pt x="4157" y="15836"/>
                  <a:pt x="4226" y="15867"/>
                  <a:pt x="4316" y="15925"/>
                </a:cubicBezTo>
                <a:cubicBezTo>
                  <a:pt x="4379" y="15966"/>
                  <a:pt x="4411" y="15967"/>
                  <a:pt x="4465" y="15999"/>
                </a:cubicBezTo>
              </a:path>
              <a:path w="10295" h="8732">
                <a:moveTo>
                  <a:pt x="7367" y="11038"/>
                </a:moveTo>
                <a:cubicBezTo>
                  <a:pt x="7488" y="10989"/>
                  <a:pt x="7526" y="10973"/>
                  <a:pt x="7615" y="10988"/>
                </a:cubicBezTo>
                <a:cubicBezTo>
                  <a:pt x="7707" y="11265"/>
                  <a:pt x="7675" y="11485"/>
                  <a:pt x="7367" y="11633"/>
                </a:cubicBezTo>
                <a:cubicBezTo>
                  <a:pt x="7233" y="11655"/>
                  <a:pt x="7195" y="11675"/>
                  <a:pt x="7144" y="11584"/>
                </a:cubicBezTo>
                <a:cubicBezTo>
                  <a:pt x="7224" y="11405"/>
                  <a:pt x="7354" y="11273"/>
                  <a:pt x="7565" y="11435"/>
                </a:cubicBezTo>
                <a:cubicBezTo>
                  <a:pt x="7656" y="11504"/>
                  <a:pt x="7673" y="11589"/>
                  <a:pt x="7714" y="11683"/>
                </a:cubicBezTo>
              </a:path>
              <a:path w="10295" h="8732">
                <a:moveTo>
                  <a:pt x="3026" y="12452"/>
                </a:moveTo>
                <a:cubicBezTo>
                  <a:pt x="3072" y="12498"/>
                  <a:pt x="3087" y="12510"/>
                  <a:pt x="3101" y="12551"/>
                </a:cubicBezTo>
                <a:cubicBezTo>
                  <a:pt x="3239" y="12375"/>
                  <a:pt x="3372" y="12196"/>
                  <a:pt x="3522" y="12030"/>
                </a:cubicBezTo>
              </a:path>
              <a:path w="10295" h="8732">
                <a:moveTo>
                  <a:pt x="3894" y="15106"/>
                </a:moveTo>
                <a:cubicBezTo>
                  <a:pt x="3910" y="15168"/>
                  <a:pt x="3933" y="15197"/>
                  <a:pt x="3969" y="15255"/>
                </a:cubicBezTo>
                <a:cubicBezTo>
                  <a:pt x="4160" y="15136"/>
                  <a:pt x="4301" y="14879"/>
                  <a:pt x="4465" y="14709"/>
                </a:cubicBezTo>
              </a:path>
              <a:path w="10295" h="8732">
                <a:moveTo>
                  <a:pt x="6796" y="15677"/>
                </a:moveTo>
                <a:cubicBezTo>
                  <a:pt x="6811" y="15779"/>
                  <a:pt x="6796" y="15868"/>
                  <a:pt x="6796" y="15974"/>
                </a:cubicBezTo>
                <a:cubicBezTo>
                  <a:pt x="7042" y="15811"/>
                  <a:pt x="7260" y="15686"/>
                  <a:pt x="7541" y="15602"/>
                </a:cubicBezTo>
              </a:path>
              <a:path w="10295" h="8732">
                <a:moveTo>
                  <a:pt x="8136" y="11088"/>
                </a:moveTo>
                <a:cubicBezTo>
                  <a:pt x="8219" y="11244"/>
                  <a:pt x="8315" y="11386"/>
                  <a:pt x="8409" y="11534"/>
                </a:cubicBezTo>
                <a:cubicBezTo>
                  <a:pt x="8417" y="11551"/>
                  <a:pt x="8426" y="11567"/>
                  <a:pt x="8434" y="11584"/>
                </a:cubicBezTo>
              </a:path>
              <a:path w="10295" h="8732">
                <a:moveTo>
                  <a:pt x="8434" y="11013"/>
                </a:moveTo>
                <a:cubicBezTo>
                  <a:pt x="8316" y="11145"/>
                  <a:pt x="8292" y="11355"/>
                  <a:pt x="8235" y="11534"/>
                </a:cubicBezTo>
                <a:cubicBezTo>
                  <a:pt x="8227" y="11559"/>
                  <a:pt x="8218" y="11584"/>
                  <a:pt x="8210" y="11609"/>
                </a:cubicBezTo>
              </a:path>
              <a:path w="10295" h="8732">
                <a:moveTo>
                  <a:pt x="8756" y="10988"/>
                </a:moveTo>
                <a:cubicBezTo>
                  <a:pt x="8806" y="10980"/>
                  <a:pt x="8855" y="10972"/>
                  <a:pt x="8905" y="10964"/>
                </a:cubicBezTo>
                <a:cubicBezTo>
                  <a:pt x="9007" y="11134"/>
                  <a:pt x="8993" y="11315"/>
                  <a:pt x="8806" y="11460"/>
                </a:cubicBezTo>
                <a:cubicBezTo>
                  <a:pt x="8706" y="11499"/>
                  <a:pt x="8688" y="11527"/>
                  <a:pt x="8632" y="11485"/>
                </a:cubicBezTo>
                <a:cubicBezTo>
                  <a:pt x="8657" y="11335"/>
                  <a:pt x="8739" y="11162"/>
                  <a:pt x="8930" y="11311"/>
                </a:cubicBezTo>
                <a:cubicBezTo>
                  <a:pt x="9008" y="11372"/>
                  <a:pt x="9016" y="11446"/>
                  <a:pt x="9029" y="11534"/>
                </a:cubicBezTo>
              </a:path>
              <a:path w="10295" h="8732">
                <a:moveTo>
                  <a:pt x="9227" y="10964"/>
                </a:moveTo>
                <a:cubicBezTo>
                  <a:pt x="9291" y="11122"/>
                  <a:pt x="9400" y="11310"/>
                  <a:pt x="9525" y="11435"/>
                </a:cubicBezTo>
                <a:cubicBezTo>
                  <a:pt x="9542" y="11443"/>
                  <a:pt x="9558" y="11452"/>
                  <a:pt x="9575" y="11460"/>
                </a:cubicBezTo>
              </a:path>
              <a:path w="10295" h="8732">
                <a:moveTo>
                  <a:pt x="9500" y="10988"/>
                </a:moveTo>
                <a:cubicBezTo>
                  <a:pt x="9440" y="11156"/>
                  <a:pt x="9376" y="11322"/>
                  <a:pt x="9302" y="11485"/>
                </a:cubicBezTo>
              </a:path>
              <a:path w="10295" h="8732">
                <a:moveTo>
                  <a:pt x="9823" y="10889"/>
                </a:moveTo>
                <a:cubicBezTo>
                  <a:pt x="9980" y="10785"/>
                  <a:pt x="10104" y="10900"/>
                  <a:pt x="10145" y="11088"/>
                </a:cubicBezTo>
                <a:cubicBezTo>
                  <a:pt x="10180" y="11247"/>
                  <a:pt x="10017" y="11664"/>
                  <a:pt x="9798" y="11460"/>
                </a:cubicBezTo>
                <a:cubicBezTo>
                  <a:pt x="9781" y="11419"/>
                  <a:pt x="9765" y="11377"/>
                  <a:pt x="9748" y="11336"/>
                </a:cubicBezTo>
                <a:cubicBezTo>
                  <a:pt x="9932" y="11217"/>
                  <a:pt x="10040" y="11270"/>
                  <a:pt x="10145" y="11485"/>
                </a:cubicBezTo>
                <a:cubicBezTo>
                  <a:pt x="10153" y="11518"/>
                  <a:pt x="10162" y="11551"/>
                  <a:pt x="10170" y="11584"/>
                </a:cubicBezTo>
              </a:path>
              <a:path w="10295" h="8732">
                <a:moveTo>
                  <a:pt x="7615" y="14114"/>
                </a:moveTo>
                <a:cubicBezTo>
                  <a:pt x="7723" y="14284"/>
                  <a:pt x="7762" y="14246"/>
                  <a:pt x="7913" y="14089"/>
                </a:cubicBezTo>
                <a:cubicBezTo>
                  <a:pt x="8047" y="13933"/>
                  <a:pt x="8078" y="13889"/>
                  <a:pt x="8186" y="13816"/>
                </a:cubicBezTo>
              </a:path>
              <a:path w="10295" h="8732">
                <a:moveTo>
                  <a:pt x="10468" y="11088"/>
                </a:moveTo>
                <a:cubicBezTo>
                  <a:pt x="10592" y="11212"/>
                  <a:pt x="10716" y="11336"/>
                  <a:pt x="10840" y="11460"/>
                </a:cubicBezTo>
              </a:path>
              <a:path w="10295" h="8732">
                <a:moveTo>
                  <a:pt x="10765" y="10964"/>
                </a:moveTo>
                <a:cubicBezTo>
                  <a:pt x="10691" y="11141"/>
                  <a:pt x="10640" y="11322"/>
                  <a:pt x="10592" y="11509"/>
                </a:cubicBezTo>
              </a:path>
              <a:path w="10295" h="8732">
                <a:moveTo>
                  <a:pt x="10988" y="10889"/>
                </a:moveTo>
                <a:cubicBezTo>
                  <a:pt x="11125" y="10800"/>
                  <a:pt x="11131" y="10762"/>
                  <a:pt x="11286" y="10790"/>
                </a:cubicBezTo>
                <a:cubicBezTo>
                  <a:pt x="11269" y="10929"/>
                  <a:pt x="11254" y="10955"/>
                  <a:pt x="11162" y="11063"/>
                </a:cubicBezTo>
                <a:cubicBezTo>
                  <a:pt x="11041" y="10983"/>
                  <a:pt x="11318" y="10994"/>
                  <a:pt x="11361" y="11013"/>
                </a:cubicBezTo>
                <a:cubicBezTo>
                  <a:pt x="11545" y="11094"/>
                  <a:pt x="11499" y="11329"/>
                  <a:pt x="11336" y="11410"/>
                </a:cubicBezTo>
                <a:cubicBezTo>
                  <a:pt x="11220" y="11429"/>
                  <a:pt x="11204" y="11438"/>
                  <a:pt x="11137" y="11435"/>
                </a:cubicBezTo>
              </a:path>
              <a:path w="10295" h="8732">
                <a:moveTo>
                  <a:pt x="8806" y="12204"/>
                </a:moveTo>
                <a:cubicBezTo>
                  <a:pt x="8774" y="12226"/>
                  <a:pt x="8754" y="12384"/>
                  <a:pt x="8830" y="12179"/>
                </a:cubicBezTo>
                <a:cubicBezTo>
                  <a:pt x="8830" y="12136"/>
                  <a:pt x="8847" y="12122"/>
                  <a:pt x="8905" y="12129"/>
                </a:cubicBezTo>
                <a:cubicBezTo>
                  <a:pt x="9054" y="12217"/>
                  <a:pt x="9142" y="12337"/>
                  <a:pt x="9079" y="12526"/>
                </a:cubicBezTo>
                <a:cubicBezTo>
                  <a:pt x="9025" y="12686"/>
                  <a:pt x="8844" y="12780"/>
                  <a:pt x="8682" y="12774"/>
                </a:cubicBezTo>
                <a:cubicBezTo>
                  <a:pt x="8665" y="12766"/>
                  <a:pt x="8649" y="12758"/>
                  <a:pt x="8632" y="12750"/>
                </a:cubicBezTo>
                <a:cubicBezTo>
                  <a:pt x="8708" y="12630"/>
                  <a:pt x="8780" y="12589"/>
                  <a:pt x="8930" y="12626"/>
                </a:cubicBezTo>
                <a:cubicBezTo>
                  <a:pt x="9010" y="12646"/>
                  <a:pt x="9080" y="12688"/>
                  <a:pt x="9153" y="12725"/>
                </a:cubicBezTo>
              </a:path>
              <a:path w="10295" h="8732">
                <a:moveTo>
                  <a:pt x="7541" y="11385"/>
                </a:moveTo>
                <a:lnTo>
                  <a:pt x="7541" y="11385"/>
                </a:lnTo>
              </a:path>
              <a:path w="10295" h="8732">
                <a:moveTo>
                  <a:pt x="8830" y="11063"/>
                </a:moveTo>
                <a:lnTo>
                  <a:pt x="8830" y="11063"/>
                </a:lnTo>
              </a:path>
              <a:path w="10295" h="8732">
                <a:moveTo>
                  <a:pt x="9823" y="10889"/>
                </a:moveTo>
                <a:lnTo>
                  <a:pt x="9823" y="10889"/>
                </a:lnTo>
              </a:path>
              <a:path w="10295" h="8732">
                <a:moveTo>
                  <a:pt x="9227" y="11981"/>
                </a:moveTo>
                <a:cubicBezTo>
                  <a:pt x="9301" y="11928"/>
                  <a:pt x="9428" y="11786"/>
                  <a:pt x="9451" y="11981"/>
                </a:cubicBezTo>
                <a:cubicBezTo>
                  <a:pt x="9417" y="12013"/>
                  <a:pt x="9400" y="12030"/>
                  <a:pt x="9376" y="12055"/>
                </a:cubicBezTo>
                <a:cubicBezTo>
                  <a:pt x="9471" y="12044"/>
                  <a:pt x="9723" y="12062"/>
                  <a:pt x="9525" y="12204"/>
                </a:cubicBezTo>
                <a:cubicBezTo>
                  <a:pt x="9461" y="12250"/>
                  <a:pt x="9413" y="12244"/>
                  <a:pt x="9351" y="12229"/>
                </a:cubicBezTo>
              </a:path>
              <a:path w="10295" h="8732">
                <a:moveTo>
                  <a:pt x="9823" y="12229"/>
                </a:moveTo>
                <a:cubicBezTo>
                  <a:pt x="9943" y="12335"/>
                  <a:pt x="10052" y="12405"/>
                  <a:pt x="10195" y="12477"/>
                </a:cubicBezTo>
              </a:path>
              <a:path w="10295" h="8732">
                <a:moveTo>
                  <a:pt x="10096" y="12129"/>
                </a:moveTo>
                <a:cubicBezTo>
                  <a:pt x="10079" y="12262"/>
                  <a:pt x="10039" y="12393"/>
                  <a:pt x="10021" y="12526"/>
                </a:cubicBezTo>
                <a:cubicBezTo>
                  <a:pt x="10021" y="12543"/>
                  <a:pt x="10021" y="12559"/>
                  <a:pt x="10021" y="12576"/>
                </a:cubicBezTo>
              </a:path>
              <a:path w="10295" h="8732">
                <a:moveTo>
                  <a:pt x="10344" y="12055"/>
                </a:moveTo>
                <a:cubicBezTo>
                  <a:pt x="10425" y="12007"/>
                  <a:pt x="10542" y="11918"/>
                  <a:pt x="10616" y="12030"/>
                </a:cubicBezTo>
                <a:cubicBezTo>
                  <a:pt x="10687" y="12137"/>
                  <a:pt x="10585" y="12211"/>
                  <a:pt x="10517" y="12278"/>
                </a:cubicBezTo>
                <a:cubicBezTo>
                  <a:pt x="10488" y="12184"/>
                  <a:pt x="10682" y="12210"/>
                  <a:pt x="10815" y="12254"/>
                </a:cubicBezTo>
                <a:cubicBezTo>
                  <a:pt x="10831" y="12262"/>
                  <a:pt x="10848" y="12270"/>
                  <a:pt x="10864" y="12278"/>
                </a:cubicBezTo>
                <a:cubicBezTo>
                  <a:pt x="10807" y="12453"/>
                  <a:pt x="10782" y="12452"/>
                  <a:pt x="10616" y="12502"/>
                </a:cubicBezTo>
                <a:cubicBezTo>
                  <a:pt x="10600" y="12510"/>
                  <a:pt x="10583" y="12518"/>
                  <a:pt x="10567" y="12526"/>
                </a:cubicBezTo>
              </a:path>
              <a:path w="10295" h="8732">
                <a:moveTo>
                  <a:pt x="9054" y="13022"/>
                </a:moveTo>
                <a:cubicBezTo>
                  <a:pt x="9243" y="13066"/>
                  <a:pt x="9387" y="13012"/>
                  <a:pt x="9575" y="12973"/>
                </a:cubicBezTo>
                <a:cubicBezTo>
                  <a:pt x="9788" y="12929"/>
                  <a:pt x="10006" y="12913"/>
                  <a:pt x="10220" y="12874"/>
                </a:cubicBezTo>
                <a:cubicBezTo>
                  <a:pt x="10390" y="12843"/>
                  <a:pt x="10550" y="12794"/>
                  <a:pt x="10716" y="12750"/>
                </a:cubicBezTo>
                <a:cubicBezTo>
                  <a:pt x="10882" y="12706"/>
                  <a:pt x="11049" y="12567"/>
                  <a:pt x="11112" y="12402"/>
                </a:cubicBezTo>
                <a:cubicBezTo>
                  <a:pt x="11151" y="12300"/>
                  <a:pt x="11159" y="12211"/>
                  <a:pt x="11162" y="12105"/>
                </a:cubicBezTo>
                <a:cubicBezTo>
                  <a:pt x="11164" y="12051"/>
                  <a:pt x="11166" y="11976"/>
                  <a:pt x="11137" y="11931"/>
                </a:cubicBezTo>
                <a:cubicBezTo>
                  <a:pt x="11088" y="11855"/>
                  <a:pt x="11036" y="11841"/>
                  <a:pt x="10964" y="11807"/>
                </a:cubicBezTo>
                <a:cubicBezTo>
                  <a:pt x="10909" y="11781"/>
                  <a:pt x="10798" y="11763"/>
                  <a:pt x="10740" y="11757"/>
                </a:cubicBezTo>
                <a:cubicBezTo>
                  <a:pt x="10642" y="11746"/>
                  <a:pt x="10557" y="11764"/>
                  <a:pt x="10468" y="11782"/>
                </a:cubicBezTo>
                <a:cubicBezTo>
                  <a:pt x="10394" y="11797"/>
                  <a:pt x="10316" y="11813"/>
                  <a:pt x="10244" y="11832"/>
                </a:cubicBezTo>
                <a:cubicBezTo>
                  <a:pt x="10130" y="11862"/>
                  <a:pt x="10012" y="11895"/>
                  <a:pt x="9897" y="11906"/>
                </a:cubicBezTo>
                <a:cubicBezTo>
                  <a:pt x="9831" y="11912"/>
                  <a:pt x="9760" y="11925"/>
                  <a:pt x="9699" y="11931"/>
                </a:cubicBezTo>
                <a:cubicBezTo>
                  <a:pt x="9633" y="11937"/>
                  <a:pt x="9560" y="11928"/>
                  <a:pt x="9500" y="11906"/>
                </a:cubicBezTo>
                <a:cubicBezTo>
                  <a:pt x="9418" y="11876"/>
                  <a:pt x="9367" y="11876"/>
                  <a:pt x="9277" y="11857"/>
                </a:cubicBezTo>
                <a:cubicBezTo>
                  <a:pt x="9191" y="11839"/>
                  <a:pt x="9121" y="11833"/>
                  <a:pt x="9029" y="11857"/>
                </a:cubicBezTo>
                <a:cubicBezTo>
                  <a:pt x="8935" y="11881"/>
                  <a:pt x="8811" y="11927"/>
                  <a:pt x="8731" y="11981"/>
                </a:cubicBezTo>
                <a:cubicBezTo>
                  <a:pt x="8637" y="12045"/>
                  <a:pt x="8614" y="12138"/>
                  <a:pt x="8558" y="12229"/>
                </a:cubicBezTo>
                <a:cubicBezTo>
                  <a:pt x="8497" y="12329"/>
                  <a:pt x="8471" y="12409"/>
                  <a:pt x="8458" y="12526"/>
                </a:cubicBezTo>
                <a:cubicBezTo>
                  <a:pt x="8448" y="12620"/>
                  <a:pt x="8458" y="12710"/>
                  <a:pt x="8483" y="12799"/>
                </a:cubicBezTo>
                <a:cubicBezTo>
                  <a:pt x="8503" y="12868"/>
                  <a:pt x="8537" y="12940"/>
                  <a:pt x="8582" y="12998"/>
                </a:cubicBezTo>
                <a:cubicBezTo>
                  <a:pt x="8614" y="13039"/>
                  <a:pt x="8750" y="13141"/>
                  <a:pt x="8806" y="13146"/>
                </a:cubicBezTo>
                <a:cubicBezTo>
                  <a:pt x="8885" y="13152"/>
                  <a:pt x="9033" y="13105"/>
                  <a:pt x="9103" y="13072"/>
                </a:cubicBezTo>
                <a:cubicBezTo>
                  <a:pt x="9163" y="13032"/>
                  <a:pt x="9174" y="13028"/>
                  <a:pt x="9203" y="129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25360" y="4214880"/>
            <a:ext cx="1231920" cy="822240"/>
          </a:xfrm>
          <a:custGeom>
            <a:avLst/>
            <a:gdLst/>
            <a:ahLst/>
            <a:rect l="l" t="t" r="r" b="b"/>
            <a:pathLst>
              <a:path w="3424" h="2283">
                <a:moveTo>
                  <a:pt x="4762" y="11757"/>
                </a:moveTo>
                <a:cubicBezTo>
                  <a:pt x="4786" y="11848"/>
                  <a:pt x="4633" y="12022"/>
                  <a:pt x="4564" y="12129"/>
                </a:cubicBezTo>
                <a:cubicBezTo>
                  <a:pt x="4489" y="12245"/>
                  <a:pt x="4453" y="12371"/>
                  <a:pt x="4366" y="12477"/>
                </a:cubicBezTo>
              </a:path>
              <a:path w="3424" h="2283">
                <a:moveTo>
                  <a:pt x="4887" y="11757"/>
                </a:moveTo>
                <a:cubicBezTo>
                  <a:pt x="4887" y="11729"/>
                  <a:pt x="4884" y="11719"/>
                  <a:pt x="4862" y="11708"/>
                </a:cubicBezTo>
                <a:cubicBezTo>
                  <a:pt x="4862" y="11775"/>
                  <a:pt x="4871" y="11823"/>
                  <a:pt x="4911" y="11881"/>
                </a:cubicBezTo>
                <a:cubicBezTo>
                  <a:pt x="4947" y="11934"/>
                  <a:pt x="5000" y="11977"/>
                  <a:pt x="5035" y="12030"/>
                </a:cubicBezTo>
                <a:cubicBezTo>
                  <a:pt x="5073" y="12087"/>
                  <a:pt x="5132" y="12183"/>
                  <a:pt x="5184" y="12229"/>
                </a:cubicBezTo>
                <a:cubicBezTo>
                  <a:pt x="5242" y="12281"/>
                  <a:pt x="5283" y="12314"/>
                  <a:pt x="5333" y="12378"/>
                </a:cubicBezTo>
                <a:cubicBezTo>
                  <a:pt x="5368" y="12423"/>
                  <a:pt x="5417" y="12462"/>
                  <a:pt x="5457" y="12502"/>
                </a:cubicBezTo>
              </a:path>
              <a:path w="3424" h="2283">
                <a:moveTo>
                  <a:pt x="3969" y="12650"/>
                </a:moveTo>
                <a:cubicBezTo>
                  <a:pt x="3968" y="12629"/>
                  <a:pt x="4120" y="12587"/>
                  <a:pt x="4167" y="12700"/>
                </a:cubicBezTo>
                <a:cubicBezTo>
                  <a:pt x="4247" y="12893"/>
                  <a:pt x="4008" y="13032"/>
                  <a:pt x="3870" y="13072"/>
                </a:cubicBezTo>
                <a:cubicBezTo>
                  <a:pt x="3750" y="13107"/>
                  <a:pt x="3593" y="13114"/>
                  <a:pt x="3572" y="12973"/>
                </a:cubicBezTo>
                <a:cubicBezTo>
                  <a:pt x="3798" y="12939"/>
                  <a:pt x="3964" y="12935"/>
                  <a:pt x="4167" y="13047"/>
                </a:cubicBezTo>
                <a:cubicBezTo>
                  <a:pt x="4197" y="13077"/>
                  <a:pt x="4208" y="13091"/>
                  <a:pt x="4217" y="13122"/>
                </a:cubicBezTo>
              </a:path>
              <a:path w="3424" h="2283">
                <a:moveTo>
                  <a:pt x="5383" y="12650"/>
                </a:moveTo>
                <a:cubicBezTo>
                  <a:pt x="5399" y="12650"/>
                  <a:pt x="5416" y="12650"/>
                  <a:pt x="5432" y="12650"/>
                </a:cubicBezTo>
                <a:cubicBezTo>
                  <a:pt x="5443" y="12767"/>
                  <a:pt x="5471" y="12881"/>
                  <a:pt x="5482" y="12998"/>
                </a:cubicBezTo>
              </a:path>
              <a:path w="3424" h="2283">
                <a:moveTo>
                  <a:pt x="5854" y="12626"/>
                </a:moveTo>
                <a:cubicBezTo>
                  <a:pt x="5976" y="12552"/>
                  <a:pt x="6095" y="12584"/>
                  <a:pt x="6152" y="12750"/>
                </a:cubicBezTo>
                <a:cubicBezTo>
                  <a:pt x="6152" y="12783"/>
                  <a:pt x="6152" y="12816"/>
                  <a:pt x="6152" y="12849"/>
                </a:cubicBezTo>
                <a:cubicBezTo>
                  <a:pt x="6029" y="12960"/>
                  <a:pt x="5948" y="12959"/>
                  <a:pt x="5779" y="12923"/>
                </a:cubicBezTo>
                <a:cubicBezTo>
                  <a:pt x="5856" y="12791"/>
                  <a:pt x="5985" y="12887"/>
                  <a:pt x="6127" y="12923"/>
                </a:cubicBezTo>
                <a:cubicBezTo>
                  <a:pt x="6233" y="12944"/>
                  <a:pt x="6261" y="12939"/>
                  <a:pt x="6300" y="12998"/>
                </a:cubicBezTo>
              </a:path>
              <a:path w="3424" h="2283">
                <a:moveTo>
                  <a:pt x="4291" y="12626"/>
                </a:moveTo>
                <a:cubicBezTo>
                  <a:pt x="4308" y="12626"/>
                  <a:pt x="4324" y="12626"/>
                  <a:pt x="4341" y="12626"/>
                </a:cubicBezTo>
              </a:path>
              <a:path w="3424" h="2283">
                <a:moveTo>
                  <a:pt x="4390" y="12601"/>
                </a:moveTo>
                <a:cubicBezTo>
                  <a:pt x="4383" y="12542"/>
                  <a:pt x="4390" y="12499"/>
                  <a:pt x="4341" y="12452"/>
                </a:cubicBezTo>
                <a:cubicBezTo>
                  <a:pt x="4303" y="12416"/>
                  <a:pt x="4243" y="12388"/>
                  <a:pt x="4192" y="12378"/>
                </a:cubicBezTo>
                <a:cubicBezTo>
                  <a:pt x="4134" y="12366"/>
                  <a:pt x="4068" y="12338"/>
                  <a:pt x="4018" y="12328"/>
                </a:cubicBezTo>
                <a:cubicBezTo>
                  <a:pt x="3952" y="12315"/>
                  <a:pt x="3904" y="12343"/>
                  <a:pt x="3845" y="12353"/>
                </a:cubicBezTo>
                <a:cubicBezTo>
                  <a:pt x="3771" y="12365"/>
                  <a:pt x="3719" y="12368"/>
                  <a:pt x="3646" y="12402"/>
                </a:cubicBezTo>
                <a:cubicBezTo>
                  <a:pt x="3574" y="12436"/>
                  <a:pt x="3517" y="12466"/>
                  <a:pt x="3448" y="12502"/>
                </a:cubicBezTo>
                <a:cubicBezTo>
                  <a:pt x="3386" y="12534"/>
                  <a:pt x="3300" y="12548"/>
                  <a:pt x="3249" y="12601"/>
                </a:cubicBezTo>
                <a:cubicBezTo>
                  <a:pt x="3191" y="12661"/>
                  <a:pt x="3172" y="12707"/>
                  <a:pt x="3150" y="12774"/>
                </a:cubicBezTo>
                <a:cubicBezTo>
                  <a:pt x="3124" y="12854"/>
                  <a:pt x="3140" y="12872"/>
                  <a:pt x="3150" y="12948"/>
                </a:cubicBezTo>
                <a:cubicBezTo>
                  <a:pt x="3161" y="13029"/>
                  <a:pt x="3183" y="13069"/>
                  <a:pt x="3200" y="13146"/>
                </a:cubicBezTo>
                <a:cubicBezTo>
                  <a:pt x="3216" y="13219"/>
                  <a:pt x="3239" y="13275"/>
                  <a:pt x="3274" y="13345"/>
                </a:cubicBezTo>
                <a:cubicBezTo>
                  <a:pt x="3310" y="13416"/>
                  <a:pt x="3400" y="13510"/>
                  <a:pt x="3473" y="13543"/>
                </a:cubicBezTo>
                <a:cubicBezTo>
                  <a:pt x="3544" y="13575"/>
                  <a:pt x="3643" y="13607"/>
                  <a:pt x="3721" y="13618"/>
                </a:cubicBezTo>
                <a:cubicBezTo>
                  <a:pt x="3800" y="13629"/>
                  <a:pt x="3868" y="13597"/>
                  <a:pt x="3944" y="13593"/>
                </a:cubicBezTo>
                <a:cubicBezTo>
                  <a:pt x="4021" y="13589"/>
                  <a:pt x="4107" y="13560"/>
                  <a:pt x="4167" y="13519"/>
                </a:cubicBezTo>
                <a:cubicBezTo>
                  <a:pt x="4232" y="13475"/>
                  <a:pt x="4303" y="13444"/>
                  <a:pt x="4366" y="13395"/>
                </a:cubicBezTo>
                <a:cubicBezTo>
                  <a:pt x="4436" y="13341"/>
                  <a:pt x="4480" y="13286"/>
                  <a:pt x="4539" y="13221"/>
                </a:cubicBezTo>
                <a:cubicBezTo>
                  <a:pt x="4593" y="13161"/>
                  <a:pt x="4630" y="13124"/>
                  <a:pt x="4638" y="13047"/>
                </a:cubicBezTo>
                <a:cubicBezTo>
                  <a:pt x="4644" y="12987"/>
                  <a:pt x="4651" y="12900"/>
                  <a:pt x="4614" y="12849"/>
                </a:cubicBezTo>
                <a:cubicBezTo>
                  <a:pt x="4574" y="12793"/>
                  <a:pt x="4535" y="12728"/>
                  <a:pt x="4490" y="12675"/>
                </a:cubicBezTo>
                <a:cubicBezTo>
                  <a:pt x="4446" y="12623"/>
                  <a:pt x="4399" y="12585"/>
                  <a:pt x="4341" y="12551"/>
                </a:cubicBezTo>
                <a:cubicBezTo>
                  <a:pt x="4324" y="12543"/>
                  <a:pt x="4308" y="12534"/>
                  <a:pt x="4291" y="12526"/>
                </a:cubicBezTo>
              </a:path>
              <a:path w="3424" h="2283">
                <a:moveTo>
                  <a:pt x="5953" y="13221"/>
                </a:moveTo>
                <a:cubicBezTo>
                  <a:pt x="5906" y="13442"/>
                  <a:pt x="5818" y="13679"/>
                  <a:pt x="5730" y="13891"/>
                </a:cubicBezTo>
                <a:cubicBezTo>
                  <a:pt x="5713" y="13924"/>
                  <a:pt x="5697" y="13957"/>
                  <a:pt x="5680" y="13990"/>
                </a:cubicBezTo>
                <a:cubicBezTo>
                  <a:pt x="5693" y="13870"/>
                  <a:pt x="5722" y="13752"/>
                  <a:pt x="5779" y="13643"/>
                </a:cubicBezTo>
                <a:cubicBezTo>
                  <a:pt x="5847" y="13514"/>
                  <a:pt x="5917" y="13368"/>
                  <a:pt x="5978" y="13246"/>
                </a:cubicBezTo>
                <a:cubicBezTo>
                  <a:pt x="5986" y="13238"/>
                  <a:pt x="5995" y="13229"/>
                  <a:pt x="6003" y="13221"/>
                </a:cubicBezTo>
                <a:cubicBezTo>
                  <a:pt x="6093" y="13362"/>
                  <a:pt x="6198" y="13506"/>
                  <a:pt x="6325" y="13618"/>
                </a:cubicBezTo>
                <a:cubicBezTo>
                  <a:pt x="6409" y="13692"/>
                  <a:pt x="6481" y="13731"/>
                  <a:pt x="6548" y="138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15080" y="30542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8653" y="8483"/>
                </a:moveTo>
                <a:lnTo>
                  <a:pt x="18653" y="848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05160" y="4054320"/>
            <a:ext cx="1886040" cy="1785960"/>
          </a:xfrm>
          <a:custGeom>
            <a:avLst/>
            <a:gdLst/>
            <a:ahLst/>
            <a:rect l="l" t="t" r="r" b="b"/>
            <a:pathLst>
              <a:path w="5235" h="4962">
                <a:moveTo>
                  <a:pt x="11832" y="11559"/>
                </a:moveTo>
                <a:cubicBezTo>
                  <a:pt x="11885" y="11587"/>
                  <a:pt x="11934" y="11607"/>
                  <a:pt x="12005" y="11633"/>
                </a:cubicBezTo>
                <a:cubicBezTo>
                  <a:pt x="12088" y="11664"/>
                  <a:pt x="12157" y="11713"/>
                  <a:pt x="12229" y="11757"/>
                </a:cubicBezTo>
                <a:cubicBezTo>
                  <a:pt x="12401" y="11862"/>
                  <a:pt x="12521" y="12003"/>
                  <a:pt x="12650" y="12154"/>
                </a:cubicBezTo>
                <a:cubicBezTo>
                  <a:pt x="12741" y="12261"/>
                  <a:pt x="12831" y="12370"/>
                  <a:pt x="12923" y="12477"/>
                </a:cubicBezTo>
                <a:cubicBezTo>
                  <a:pt x="13013" y="12582"/>
                  <a:pt x="13102" y="12698"/>
                  <a:pt x="13196" y="12799"/>
                </a:cubicBezTo>
                <a:cubicBezTo>
                  <a:pt x="13336" y="12950"/>
                  <a:pt x="13447" y="13088"/>
                  <a:pt x="13543" y="13271"/>
                </a:cubicBezTo>
                <a:cubicBezTo>
                  <a:pt x="13623" y="13424"/>
                  <a:pt x="13699" y="13570"/>
                  <a:pt x="13791" y="13717"/>
                </a:cubicBezTo>
                <a:cubicBezTo>
                  <a:pt x="13874" y="13849"/>
                  <a:pt x="13963" y="13947"/>
                  <a:pt x="14064" y="14064"/>
                </a:cubicBezTo>
                <a:cubicBezTo>
                  <a:pt x="14179" y="14197"/>
                  <a:pt x="14296" y="14329"/>
                  <a:pt x="14412" y="14461"/>
                </a:cubicBezTo>
                <a:cubicBezTo>
                  <a:pt x="14531" y="14596"/>
                  <a:pt x="14656" y="14713"/>
                  <a:pt x="14784" y="14833"/>
                </a:cubicBezTo>
                <a:cubicBezTo>
                  <a:pt x="14887" y="14929"/>
                  <a:pt x="14981" y="15030"/>
                  <a:pt x="15081" y="15131"/>
                </a:cubicBezTo>
                <a:cubicBezTo>
                  <a:pt x="15175" y="15225"/>
                  <a:pt x="15272" y="15326"/>
                  <a:pt x="15379" y="15404"/>
                </a:cubicBezTo>
                <a:cubicBezTo>
                  <a:pt x="15504" y="15495"/>
                  <a:pt x="15648" y="15565"/>
                  <a:pt x="15776" y="15652"/>
                </a:cubicBezTo>
                <a:cubicBezTo>
                  <a:pt x="15889" y="15728"/>
                  <a:pt x="15968" y="15784"/>
                  <a:pt x="16098" y="15825"/>
                </a:cubicBezTo>
                <a:cubicBezTo>
                  <a:pt x="16155" y="15843"/>
                  <a:pt x="16210" y="15857"/>
                  <a:pt x="16272" y="15875"/>
                </a:cubicBezTo>
                <a:cubicBezTo>
                  <a:pt x="16280" y="15875"/>
                  <a:pt x="16289" y="15875"/>
                  <a:pt x="16297" y="15875"/>
                </a:cubicBezTo>
              </a:path>
              <a:path w="5235" h="4962">
                <a:moveTo>
                  <a:pt x="16173" y="15553"/>
                </a:moveTo>
                <a:cubicBezTo>
                  <a:pt x="16288" y="15668"/>
                  <a:pt x="16440" y="15782"/>
                  <a:pt x="16520" y="15925"/>
                </a:cubicBezTo>
                <a:cubicBezTo>
                  <a:pt x="16520" y="15933"/>
                  <a:pt x="16520" y="15941"/>
                  <a:pt x="16520" y="15949"/>
                </a:cubicBezTo>
                <a:cubicBezTo>
                  <a:pt x="16350" y="15980"/>
                  <a:pt x="16227" y="16034"/>
                  <a:pt x="16098" y="16148"/>
                </a:cubicBezTo>
                <a:cubicBezTo>
                  <a:pt x="16073" y="16173"/>
                  <a:pt x="16049" y="16197"/>
                  <a:pt x="16024" y="16222"/>
                </a:cubicBezTo>
              </a:path>
              <a:path w="5235" h="4962">
                <a:moveTo>
                  <a:pt x="11807" y="11757"/>
                </a:moveTo>
                <a:cubicBezTo>
                  <a:pt x="11761" y="11699"/>
                  <a:pt x="11745" y="11685"/>
                  <a:pt x="11733" y="11609"/>
                </a:cubicBezTo>
                <a:cubicBezTo>
                  <a:pt x="11780" y="11758"/>
                  <a:pt x="11822" y="11903"/>
                  <a:pt x="11857" y="12055"/>
                </a:cubicBezTo>
                <a:cubicBezTo>
                  <a:pt x="11818" y="11899"/>
                  <a:pt x="11753" y="11741"/>
                  <a:pt x="11708" y="11584"/>
                </a:cubicBezTo>
                <a:cubicBezTo>
                  <a:pt x="11676" y="11473"/>
                  <a:pt x="11659" y="11392"/>
                  <a:pt x="11782" y="11336"/>
                </a:cubicBezTo>
                <a:cubicBezTo>
                  <a:pt x="11902" y="11282"/>
                  <a:pt x="12024" y="11261"/>
                  <a:pt x="12154" y="11261"/>
                </a:cubicBezTo>
              </a:path>
              <a:path w="5235" h="4962">
                <a:moveTo>
                  <a:pt x="16917" y="15528"/>
                </a:moveTo>
                <a:lnTo>
                  <a:pt x="16917" y="1552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42080" y="6134040"/>
            <a:ext cx="204840" cy="295200"/>
          </a:xfrm>
          <a:custGeom>
            <a:avLst/>
            <a:gdLst/>
            <a:ahLst/>
            <a:rect l="l" t="t" r="r" b="b"/>
            <a:pathLst>
              <a:path w="571" h="819">
                <a:moveTo>
                  <a:pt x="18802" y="17115"/>
                </a:moveTo>
                <a:cubicBezTo>
                  <a:pt x="18780" y="17182"/>
                  <a:pt x="18768" y="17200"/>
                  <a:pt x="18802" y="17239"/>
                </a:cubicBezTo>
                <a:cubicBezTo>
                  <a:pt x="18726" y="17264"/>
                  <a:pt x="18798" y="17073"/>
                  <a:pt x="18852" y="17041"/>
                </a:cubicBezTo>
                <a:cubicBezTo>
                  <a:pt x="19063" y="16916"/>
                  <a:pt x="19062" y="17394"/>
                  <a:pt x="19050" y="17462"/>
                </a:cubicBezTo>
                <a:cubicBezTo>
                  <a:pt x="19022" y="17616"/>
                  <a:pt x="18940" y="17808"/>
                  <a:pt x="18802" y="17859"/>
                </a:cubicBezTo>
                <a:cubicBezTo>
                  <a:pt x="18713" y="17745"/>
                  <a:pt x="18688" y="17702"/>
                  <a:pt x="18827" y="17611"/>
                </a:cubicBezTo>
                <a:cubicBezTo>
                  <a:pt x="18957" y="17526"/>
                  <a:pt x="19074" y="17518"/>
                  <a:pt x="19199" y="17611"/>
                </a:cubicBezTo>
                <a:cubicBezTo>
                  <a:pt x="19244" y="17645"/>
                  <a:pt x="19264" y="17694"/>
                  <a:pt x="19298" y="177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27880" y="4187880"/>
            <a:ext cx="250920" cy="233280"/>
          </a:xfrm>
          <a:custGeom>
            <a:avLst/>
            <a:gdLst/>
            <a:ahLst/>
            <a:rect l="l" t="t" r="r" b="b"/>
            <a:pathLst>
              <a:path w="696" h="646">
                <a:moveTo>
                  <a:pt x="18430" y="11708"/>
                </a:moveTo>
                <a:cubicBezTo>
                  <a:pt x="18327" y="11889"/>
                  <a:pt x="18238" y="12076"/>
                  <a:pt x="18132" y="12254"/>
                </a:cubicBezTo>
                <a:cubicBezTo>
                  <a:pt x="18195" y="12079"/>
                  <a:pt x="18280" y="11913"/>
                  <a:pt x="18380" y="11757"/>
                </a:cubicBezTo>
                <a:cubicBezTo>
                  <a:pt x="18445" y="11655"/>
                  <a:pt x="18428" y="11646"/>
                  <a:pt x="18504" y="11633"/>
                </a:cubicBezTo>
                <a:cubicBezTo>
                  <a:pt x="18605" y="11802"/>
                  <a:pt x="18680" y="11983"/>
                  <a:pt x="18777" y="12154"/>
                </a:cubicBezTo>
                <a:cubicBezTo>
                  <a:pt x="18819" y="12218"/>
                  <a:pt x="18836" y="12229"/>
                  <a:pt x="18827" y="122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13320" y="4456080"/>
            <a:ext cx="196920" cy="268200"/>
          </a:xfrm>
          <a:custGeom>
            <a:avLst/>
            <a:gdLst/>
            <a:ahLst/>
            <a:rect l="l" t="t" r="r" b="b"/>
            <a:pathLst>
              <a:path w="547" h="745">
                <a:moveTo>
                  <a:pt x="17611" y="12378"/>
                </a:moveTo>
                <a:cubicBezTo>
                  <a:pt x="17592" y="12547"/>
                  <a:pt x="17530" y="12725"/>
                  <a:pt x="17537" y="12898"/>
                </a:cubicBezTo>
                <a:cubicBezTo>
                  <a:pt x="17545" y="13091"/>
                  <a:pt x="17700" y="13116"/>
                  <a:pt x="17859" y="13072"/>
                </a:cubicBezTo>
                <a:cubicBezTo>
                  <a:pt x="18004" y="13032"/>
                  <a:pt x="18067" y="12991"/>
                  <a:pt x="18083" y="12849"/>
                </a:cubicBezTo>
                <a:cubicBezTo>
                  <a:pt x="17969" y="12831"/>
                  <a:pt x="17835" y="12833"/>
                  <a:pt x="17835" y="12998"/>
                </a:cubicBezTo>
                <a:cubicBezTo>
                  <a:pt x="17835" y="13107"/>
                  <a:pt x="17884" y="13107"/>
                  <a:pt x="17959" y="131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23080" y="4473720"/>
            <a:ext cx="142920" cy="90360"/>
          </a:xfrm>
          <a:custGeom>
            <a:avLst/>
            <a:gdLst/>
            <a:ahLst/>
            <a:rect l="l" t="t" r="r" b="b"/>
            <a:pathLst>
              <a:path w="398" h="249">
                <a:moveTo>
                  <a:pt x="18951" y="12427"/>
                </a:moveTo>
                <a:cubicBezTo>
                  <a:pt x="18951" y="12510"/>
                  <a:pt x="18951" y="12592"/>
                  <a:pt x="18951" y="12675"/>
                </a:cubicBezTo>
                <a:cubicBezTo>
                  <a:pt x="19093" y="12659"/>
                  <a:pt x="19211" y="12610"/>
                  <a:pt x="19348" y="125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946920" y="4384800"/>
            <a:ext cx="19080" cy="250560"/>
          </a:xfrm>
          <a:custGeom>
            <a:avLst/>
            <a:gdLst/>
            <a:ahLst/>
            <a:rect l="l" t="t" r="r" b="b"/>
            <a:pathLst>
              <a:path w="51" h="696">
                <a:moveTo>
                  <a:pt x="19298" y="12179"/>
                </a:moveTo>
                <a:cubicBezTo>
                  <a:pt x="19298" y="12389"/>
                  <a:pt x="19288" y="12617"/>
                  <a:pt x="19323" y="12824"/>
                </a:cubicBezTo>
                <a:cubicBezTo>
                  <a:pt x="19331" y="12841"/>
                  <a:pt x="19340" y="12857"/>
                  <a:pt x="19348" y="128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215040" y="4768920"/>
            <a:ext cx="241200" cy="241200"/>
          </a:xfrm>
          <a:custGeom>
            <a:avLst/>
            <a:gdLst/>
            <a:ahLst/>
            <a:rect l="l" t="t" r="r" b="b"/>
            <a:pathLst>
              <a:path w="671" h="670">
                <a:moveTo>
                  <a:pt x="17611" y="13246"/>
                </a:moveTo>
                <a:cubicBezTo>
                  <a:pt x="17544" y="13427"/>
                  <a:pt x="17412" y="13620"/>
                  <a:pt x="17314" y="13791"/>
                </a:cubicBezTo>
                <a:cubicBezTo>
                  <a:pt x="17297" y="13816"/>
                  <a:pt x="17281" y="13841"/>
                  <a:pt x="17264" y="13866"/>
                </a:cubicBezTo>
                <a:cubicBezTo>
                  <a:pt x="17334" y="13748"/>
                  <a:pt x="17418" y="13637"/>
                  <a:pt x="17487" y="13519"/>
                </a:cubicBezTo>
                <a:cubicBezTo>
                  <a:pt x="17534" y="13426"/>
                  <a:pt x="17546" y="13399"/>
                  <a:pt x="17587" y="13345"/>
                </a:cubicBezTo>
                <a:cubicBezTo>
                  <a:pt x="17719" y="13466"/>
                  <a:pt x="17778" y="13602"/>
                  <a:pt x="17859" y="13767"/>
                </a:cubicBezTo>
                <a:cubicBezTo>
                  <a:pt x="17901" y="13849"/>
                  <a:pt x="17909" y="13866"/>
                  <a:pt x="17934" y="139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37200" y="4991040"/>
            <a:ext cx="160560" cy="189000"/>
          </a:xfrm>
          <a:custGeom>
            <a:avLst/>
            <a:gdLst/>
            <a:ahLst/>
            <a:rect l="l" t="t" r="r" b="b"/>
            <a:pathLst>
              <a:path w="447" h="522">
                <a:moveTo>
                  <a:pt x="16842" y="13866"/>
                </a:moveTo>
                <a:cubicBezTo>
                  <a:pt x="16859" y="13883"/>
                  <a:pt x="16927" y="13871"/>
                  <a:pt x="16991" y="13866"/>
                </a:cubicBezTo>
                <a:cubicBezTo>
                  <a:pt x="17073" y="14059"/>
                  <a:pt x="17075" y="14290"/>
                  <a:pt x="16818" y="14387"/>
                </a:cubicBezTo>
                <a:cubicBezTo>
                  <a:pt x="16801" y="14379"/>
                  <a:pt x="16785" y="14370"/>
                  <a:pt x="16768" y="14362"/>
                </a:cubicBezTo>
                <a:cubicBezTo>
                  <a:pt x="16792" y="14236"/>
                  <a:pt x="16902" y="13999"/>
                  <a:pt x="17090" y="14139"/>
                </a:cubicBezTo>
                <a:cubicBezTo>
                  <a:pt x="17159" y="14253"/>
                  <a:pt x="17179" y="14284"/>
                  <a:pt x="17214" y="143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00880" y="5027760"/>
            <a:ext cx="125280" cy="187200"/>
          </a:xfrm>
          <a:custGeom>
            <a:avLst/>
            <a:gdLst/>
            <a:ahLst/>
            <a:rect l="l" t="t" r="r" b="b"/>
            <a:pathLst>
              <a:path w="348" h="522">
                <a:moveTo>
                  <a:pt x="18058" y="14089"/>
                </a:moveTo>
                <a:cubicBezTo>
                  <a:pt x="18116" y="14002"/>
                  <a:pt x="18189" y="13902"/>
                  <a:pt x="18306" y="13990"/>
                </a:cubicBezTo>
                <a:cubicBezTo>
                  <a:pt x="18400" y="14061"/>
                  <a:pt x="18266" y="14168"/>
                  <a:pt x="18231" y="14213"/>
                </a:cubicBezTo>
                <a:cubicBezTo>
                  <a:pt x="18207" y="14188"/>
                  <a:pt x="18199" y="14180"/>
                  <a:pt x="18231" y="14163"/>
                </a:cubicBezTo>
                <a:cubicBezTo>
                  <a:pt x="18399" y="14164"/>
                  <a:pt x="18500" y="14279"/>
                  <a:pt x="18331" y="14436"/>
                </a:cubicBezTo>
                <a:cubicBezTo>
                  <a:pt x="18250" y="14477"/>
                  <a:pt x="18237" y="14493"/>
                  <a:pt x="18182" y="144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884920" y="4919760"/>
            <a:ext cx="374760" cy="403200"/>
          </a:xfrm>
          <a:custGeom>
            <a:avLst/>
            <a:gdLst/>
            <a:ahLst/>
            <a:rect l="l" t="t" r="r" b="b"/>
            <a:pathLst>
              <a:path w="1043" h="1118">
                <a:moveTo>
                  <a:pt x="16421" y="14412"/>
                </a:moveTo>
                <a:cubicBezTo>
                  <a:pt x="16596" y="14577"/>
                  <a:pt x="16689" y="14667"/>
                  <a:pt x="16942" y="14610"/>
                </a:cubicBezTo>
                <a:cubicBezTo>
                  <a:pt x="17148" y="14564"/>
                  <a:pt x="17257" y="14472"/>
                  <a:pt x="17338" y="14288"/>
                </a:cubicBezTo>
                <a:cubicBezTo>
                  <a:pt x="17415" y="14113"/>
                  <a:pt x="17385" y="14036"/>
                  <a:pt x="17289" y="13891"/>
                </a:cubicBezTo>
                <a:cubicBezTo>
                  <a:pt x="17242" y="13820"/>
                  <a:pt x="17243" y="13783"/>
                  <a:pt x="17165" y="13742"/>
                </a:cubicBezTo>
                <a:cubicBezTo>
                  <a:pt x="17090" y="13702"/>
                  <a:pt x="17030" y="13677"/>
                  <a:pt x="16942" y="13667"/>
                </a:cubicBezTo>
                <a:cubicBezTo>
                  <a:pt x="16847" y="13656"/>
                  <a:pt x="16728" y="13667"/>
                  <a:pt x="16644" y="13717"/>
                </a:cubicBezTo>
                <a:cubicBezTo>
                  <a:pt x="16490" y="13808"/>
                  <a:pt x="16375" y="14040"/>
                  <a:pt x="16346" y="14213"/>
                </a:cubicBezTo>
                <a:cubicBezTo>
                  <a:pt x="16317" y="14384"/>
                  <a:pt x="16386" y="14595"/>
                  <a:pt x="16520" y="14709"/>
                </a:cubicBezTo>
                <a:cubicBezTo>
                  <a:pt x="16603" y="14779"/>
                  <a:pt x="16719" y="14763"/>
                  <a:pt x="16818" y="147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02240" y="4983120"/>
            <a:ext cx="312840" cy="357120"/>
          </a:xfrm>
          <a:custGeom>
            <a:avLst/>
            <a:gdLst/>
            <a:ahLst/>
            <a:rect l="l" t="t" r="r" b="b"/>
            <a:pathLst>
              <a:path w="869" h="993">
                <a:moveTo>
                  <a:pt x="17859" y="14660"/>
                </a:moveTo>
                <a:cubicBezTo>
                  <a:pt x="17929" y="14724"/>
                  <a:pt x="17991" y="14792"/>
                  <a:pt x="18107" y="14808"/>
                </a:cubicBezTo>
                <a:cubicBezTo>
                  <a:pt x="18251" y="14828"/>
                  <a:pt x="18371" y="14772"/>
                  <a:pt x="18479" y="14684"/>
                </a:cubicBezTo>
                <a:cubicBezTo>
                  <a:pt x="18552" y="14625"/>
                  <a:pt x="18638" y="14507"/>
                  <a:pt x="18653" y="14412"/>
                </a:cubicBezTo>
                <a:cubicBezTo>
                  <a:pt x="18666" y="14329"/>
                  <a:pt x="18672" y="14164"/>
                  <a:pt x="18628" y="14089"/>
                </a:cubicBezTo>
                <a:cubicBezTo>
                  <a:pt x="18582" y="14010"/>
                  <a:pt x="18509" y="13960"/>
                  <a:pt x="18430" y="13915"/>
                </a:cubicBezTo>
                <a:cubicBezTo>
                  <a:pt x="18369" y="13881"/>
                  <a:pt x="18277" y="13851"/>
                  <a:pt x="18207" y="13841"/>
                </a:cubicBezTo>
                <a:cubicBezTo>
                  <a:pt x="18138" y="13831"/>
                  <a:pt x="17995" y="13823"/>
                  <a:pt x="17934" y="13866"/>
                </a:cubicBezTo>
                <a:cubicBezTo>
                  <a:pt x="17843" y="13931"/>
                  <a:pt x="17803" y="14058"/>
                  <a:pt x="17785" y="14163"/>
                </a:cubicBezTo>
                <a:cubicBezTo>
                  <a:pt x="17763" y="14287"/>
                  <a:pt x="17792" y="14420"/>
                  <a:pt x="17810" y="14536"/>
                </a:cubicBezTo>
                <a:cubicBezTo>
                  <a:pt x="17822" y="14612"/>
                  <a:pt x="17829" y="14675"/>
                  <a:pt x="17884" y="14734"/>
                </a:cubicBezTo>
                <a:cubicBezTo>
                  <a:pt x="17936" y="14790"/>
                  <a:pt x="17986" y="14827"/>
                  <a:pt x="18058" y="14833"/>
                </a:cubicBezTo>
                <a:cubicBezTo>
                  <a:pt x="18066" y="14833"/>
                  <a:pt x="18075" y="14833"/>
                  <a:pt x="18083" y="148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56280" y="4660920"/>
            <a:ext cx="214560" cy="196920"/>
          </a:xfrm>
          <a:custGeom>
            <a:avLst/>
            <a:gdLst/>
            <a:ahLst/>
            <a:rect l="l" t="t" r="r" b="b"/>
            <a:pathLst>
              <a:path w="596" h="547">
                <a:moveTo>
                  <a:pt x="19372" y="13072"/>
                </a:moveTo>
                <a:cubicBezTo>
                  <a:pt x="19372" y="12940"/>
                  <a:pt x="19367" y="13189"/>
                  <a:pt x="19348" y="13320"/>
                </a:cubicBezTo>
                <a:cubicBezTo>
                  <a:pt x="19328" y="13419"/>
                  <a:pt x="19320" y="13435"/>
                  <a:pt x="19323" y="13494"/>
                </a:cubicBezTo>
                <a:cubicBezTo>
                  <a:pt x="19331" y="13366"/>
                  <a:pt x="19326" y="13222"/>
                  <a:pt x="19348" y="13097"/>
                </a:cubicBezTo>
                <a:cubicBezTo>
                  <a:pt x="19369" y="13031"/>
                  <a:pt x="19377" y="13016"/>
                  <a:pt x="19372" y="12973"/>
                </a:cubicBezTo>
                <a:cubicBezTo>
                  <a:pt x="19457" y="12949"/>
                  <a:pt x="19551" y="13005"/>
                  <a:pt x="19645" y="13047"/>
                </a:cubicBezTo>
                <a:cubicBezTo>
                  <a:pt x="19739" y="13089"/>
                  <a:pt x="19818" y="13128"/>
                  <a:pt x="19918" y="131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956280" y="4884840"/>
            <a:ext cx="133560" cy="142920"/>
          </a:xfrm>
          <a:custGeom>
            <a:avLst/>
            <a:gdLst/>
            <a:ahLst/>
            <a:rect l="l" t="t" r="r" b="b"/>
            <a:pathLst>
              <a:path w="373" h="398">
                <a:moveTo>
                  <a:pt x="19422" y="13643"/>
                </a:moveTo>
                <a:cubicBezTo>
                  <a:pt x="19422" y="13603"/>
                  <a:pt x="19433" y="13584"/>
                  <a:pt x="19472" y="13568"/>
                </a:cubicBezTo>
                <a:cubicBezTo>
                  <a:pt x="19616" y="13623"/>
                  <a:pt x="19604" y="13792"/>
                  <a:pt x="19496" y="13915"/>
                </a:cubicBezTo>
                <a:cubicBezTo>
                  <a:pt x="19413" y="14009"/>
                  <a:pt x="19369" y="13971"/>
                  <a:pt x="19323" y="13915"/>
                </a:cubicBezTo>
                <a:cubicBezTo>
                  <a:pt x="19409" y="13841"/>
                  <a:pt x="19555" y="13796"/>
                  <a:pt x="19670" y="13891"/>
                </a:cubicBezTo>
                <a:cubicBezTo>
                  <a:pt x="19690" y="13931"/>
                  <a:pt x="19699" y="13937"/>
                  <a:pt x="19695" y="139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13760" y="4741920"/>
            <a:ext cx="107640" cy="169920"/>
          </a:xfrm>
          <a:custGeom>
            <a:avLst/>
            <a:gdLst/>
            <a:ahLst/>
            <a:rect l="l" t="t" r="r" b="b"/>
            <a:pathLst>
              <a:path w="299" h="473">
                <a:moveTo>
                  <a:pt x="20315" y="13221"/>
                </a:moveTo>
                <a:cubicBezTo>
                  <a:pt x="20455" y="13116"/>
                  <a:pt x="20606" y="13214"/>
                  <a:pt x="20563" y="13419"/>
                </a:cubicBezTo>
                <a:cubicBezTo>
                  <a:pt x="20529" y="13582"/>
                  <a:pt x="20445" y="13613"/>
                  <a:pt x="20315" y="13643"/>
                </a:cubicBezTo>
                <a:cubicBezTo>
                  <a:pt x="20395" y="13482"/>
                  <a:pt x="20444" y="13466"/>
                  <a:pt x="20613" y="135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197840" y="4616280"/>
            <a:ext cx="366480" cy="411480"/>
          </a:xfrm>
          <a:custGeom>
            <a:avLst/>
            <a:gdLst/>
            <a:ahLst/>
            <a:rect l="l" t="t" r="r" b="b"/>
            <a:pathLst>
              <a:path w="1018" h="1142">
                <a:moveTo>
                  <a:pt x="20265" y="13940"/>
                </a:moveTo>
                <a:cubicBezTo>
                  <a:pt x="20508" y="13954"/>
                  <a:pt x="20788" y="13871"/>
                  <a:pt x="20935" y="13643"/>
                </a:cubicBezTo>
                <a:cubicBezTo>
                  <a:pt x="21097" y="13391"/>
                  <a:pt x="21045" y="12964"/>
                  <a:pt x="20737" y="12849"/>
                </a:cubicBezTo>
                <a:cubicBezTo>
                  <a:pt x="20307" y="12688"/>
                  <a:pt x="20035" y="13037"/>
                  <a:pt x="19993" y="13419"/>
                </a:cubicBezTo>
                <a:cubicBezTo>
                  <a:pt x="19954" y="13780"/>
                  <a:pt x="20102" y="13803"/>
                  <a:pt x="20365" y="138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0360" y="4813200"/>
            <a:ext cx="428760" cy="347760"/>
          </a:xfrm>
          <a:custGeom>
            <a:avLst/>
            <a:gdLst/>
            <a:ahLst/>
            <a:rect l="l" t="t" r="r" b="b"/>
            <a:pathLst>
              <a:path w="1192" h="968">
                <a:moveTo>
                  <a:pt x="19248" y="14163"/>
                </a:moveTo>
                <a:cubicBezTo>
                  <a:pt x="19474" y="14325"/>
                  <a:pt x="19642" y="14414"/>
                  <a:pt x="19918" y="14263"/>
                </a:cubicBezTo>
                <a:cubicBezTo>
                  <a:pt x="20172" y="14124"/>
                  <a:pt x="20260" y="13816"/>
                  <a:pt x="20117" y="13568"/>
                </a:cubicBezTo>
                <a:cubicBezTo>
                  <a:pt x="19992" y="13351"/>
                  <a:pt x="19633" y="13345"/>
                  <a:pt x="19422" y="13395"/>
                </a:cubicBezTo>
                <a:cubicBezTo>
                  <a:pt x="19124" y="13465"/>
                  <a:pt x="18862" y="13855"/>
                  <a:pt x="19025" y="14163"/>
                </a:cubicBezTo>
                <a:cubicBezTo>
                  <a:pt x="19091" y="14221"/>
                  <a:pt x="19158" y="14279"/>
                  <a:pt x="19224" y="143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37200" y="5697360"/>
            <a:ext cx="196920" cy="258840"/>
          </a:xfrm>
          <a:custGeom>
            <a:avLst/>
            <a:gdLst/>
            <a:ahLst/>
            <a:rect l="l" t="t" r="r" b="b"/>
            <a:pathLst>
              <a:path w="547" h="721">
                <a:moveTo>
                  <a:pt x="16892" y="15825"/>
                </a:moveTo>
                <a:cubicBezTo>
                  <a:pt x="17193" y="15959"/>
                  <a:pt x="17361" y="16125"/>
                  <a:pt x="17090" y="16446"/>
                </a:cubicBezTo>
                <a:cubicBezTo>
                  <a:pt x="16956" y="16535"/>
                  <a:pt x="16924" y="16572"/>
                  <a:pt x="16818" y="16520"/>
                </a:cubicBezTo>
                <a:cubicBezTo>
                  <a:pt x="16765" y="16244"/>
                  <a:pt x="16864" y="16124"/>
                  <a:pt x="17165" y="16272"/>
                </a:cubicBezTo>
                <a:cubicBezTo>
                  <a:pt x="17262" y="16350"/>
                  <a:pt x="17288" y="16352"/>
                  <a:pt x="17314" y="164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18120" y="5180040"/>
            <a:ext cx="108000" cy="169920"/>
          </a:xfrm>
          <a:custGeom>
            <a:avLst/>
            <a:gdLst/>
            <a:ahLst/>
            <a:rect l="l" t="t" r="r" b="b"/>
            <a:pathLst>
              <a:path w="299" h="472">
                <a:moveTo>
                  <a:pt x="16718" y="14833"/>
                </a:moveTo>
                <a:cubicBezTo>
                  <a:pt x="16800" y="14782"/>
                  <a:pt x="16946" y="14511"/>
                  <a:pt x="17016" y="143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75240" y="5715000"/>
            <a:ext cx="98640" cy="115920"/>
          </a:xfrm>
          <a:custGeom>
            <a:avLst/>
            <a:gdLst/>
            <a:ahLst/>
            <a:rect l="l" t="t" r="r" b="b"/>
            <a:pathLst>
              <a:path w="273" h="323">
                <a:moveTo>
                  <a:pt x="17711" y="15875"/>
                </a:moveTo>
                <a:cubicBezTo>
                  <a:pt x="17788" y="15998"/>
                  <a:pt x="17881" y="16095"/>
                  <a:pt x="17983" y="161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429240" y="5776920"/>
            <a:ext cx="36720" cy="98280"/>
          </a:xfrm>
          <a:custGeom>
            <a:avLst/>
            <a:gdLst/>
            <a:ahLst/>
            <a:rect l="l" t="t" r="r" b="b"/>
            <a:pathLst>
              <a:path w="101" h="273">
                <a:moveTo>
                  <a:pt x="17959" y="16049"/>
                </a:moveTo>
                <a:cubicBezTo>
                  <a:pt x="17900" y="16205"/>
                  <a:pt x="17889" y="16229"/>
                  <a:pt x="17859" y="163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45200" y="5099040"/>
            <a:ext cx="98640" cy="115920"/>
          </a:xfrm>
          <a:custGeom>
            <a:avLst/>
            <a:gdLst/>
            <a:ahLst/>
            <a:rect l="l" t="t" r="r" b="b"/>
            <a:pathLst>
              <a:path w="274" h="324">
                <a:moveTo>
                  <a:pt x="19571" y="14486"/>
                </a:moveTo>
                <a:cubicBezTo>
                  <a:pt x="19724" y="14364"/>
                  <a:pt x="19785" y="14300"/>
                  <a:pt x="19844" y="141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54880" y="5732640"/>
            <a:ext cx="223920" cy="223560"/>
          </a:xfrm>
          <a:custGeom>
            <a:avLst/>
            <a:gdLst/>
            <a:ahLst/>
            <a:rect l="l" t="t" r="r" b="b"/>
            <a:pathLst>
              <a:path w="621" h="621">
                <a:moveTo>
                  <a:pt x="18207" y="15974"/>
                </a:moveTo>
                <a:cubicBezTo>
                  <a:pt x="18319" y="16012"/>
                  <a:pt x="18428" y="15825"/>
                  <a:pt x="18554" y="16024"/>
                </a:cubicBezTo>
                <a:cubicBezTo>
                  <a:pt x="18689" y="16237"/>
                  <a:pt x="18570" y="16445"/>
                  <a:pt x="18405" y="16545"/>
                </a:cubicBezTo>
                <a:cubicBezTo>
                  <a:pt x="18273" y="16352"/>
                  <a:pt x="18387" y="16267"/>
                  <a:pt x="18628" y="16297"/>
                </a:cubicBezTo>
                <a:cubicBezTo>
                  <a:pt x="18750" y="16337"/>
                  <a:pt x="18779" y="16333"/>
                  <a:pt x="18827" y="163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31000" y="5776920"/>
            <a:ext cx="98280" cy="81000"/>
          </a:xfrm>
          <a:custGeom>
            <a:avLst/>
            <a:gdLst/>
            <a:ahLst/>
            <a:rect l="l" t="t" r="r" b="b"/>
            <a:pathLst>
              <a:path w="273" h="224">
                <a:moveTo>
                  <a:pt x="18976" y="16049"/>
                </a:moveTo>
                <a:cubicBezTo>
                  <a:pt x="19070" y="16138"/>
                  <a:pt x="19139" y="16206"/>
                  <a:pt x="19248" y="162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48640" y="5749920"/>
            <a:ext cx="63360" cy="189000"/>
          </a:xfrm>
          <a:custGeom>
            <a:avLst/>
            <a:gdLst/>
            <a:ahLst/>
            <a:rect l="l" t="t" r="r" b="b"/>
            <a:pathLst>
              <a:path w="175" h="522">
                <a:moveTo>
                  <a:pt x="19199" y="15974"/>
                </a:moveTo>
                <a:cubicBezTo>
                  <a:pt x="19143" y="16150"/>
                  <a:pt x="19093" y="16325"/>
                  <a:pt x="19025" y="164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54960" y="4749840"/>
            <a:ext cx="160200" cy="198360"/>
          </a:xfrm>
          <a:custGeom>
            <a:avLst/>
            <a:gdLst/>
            <a:ahLst/>
            <a:rect l="l" t="t" r="r" b="b"/>
            <a:pathLst>
              <a:path w="447" h="547">
                <a:moveTo>
                  <a:pt x="20985" y="13618"/>
                </a:moveTo>
                <a:cubicBezTo>
                  <a:pt x="21039" y="13659"/>
                  <a:pt x="21079" y="13701"/>
                  <a:pt x="21134" y="13742"/>
                </a:cubicBezTo>
                <a:cubicBezTo>
                  <a:pt x="21265" y="13582"/>
                  <a:pt x="21343" y="13394"/>
                  <a:pt x="21431" y="131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54920" y="5705640"/>
            <a:ext cx="204840" cy="223560"/>
          </a:xfrm>
          <a:custGeom>
            <a:avLst/>
            <a:gdLst/>
            <a:ahLst/>
            <a:rect l="l" t="t" r="r" b="b"/>
            <a:pathLst>
              <a:path w="571" h="621">
                <a:moveTo>
                  <a:pt x="19645" y="15900"/>
                </a:moveTo>
                <a:cubicBezTo>
                  <a:pt x="19613" y="16173"/>
                  <a:pt x="19647" y="15697"/>
                  <a:pt x="19819" y="15900"/>
                </a:cubicBezTo>
                <a:cubicBezTo>
                  <a:pt x="19991" y="16103"/>
                  <a:pt x="19877" y="16360"/>
                  <a:pt x="19670" y="16470"/>
                </a:cubicBezTo>
                <a:cubicBezTo>
                  <a:pt x="19645" y="16470"/>
                  <a:pt x="19621" y="16470"/>
                  <a:pt x="19596" y="16470"/>
                </a:cubicBezTo>
                <a:cubicBezTo>
                  <a:pt x="19669" y="16275"/>
                  <a:pt x="19800" y="16009"/>
                  <a:pt x="20067" y="16173"/>
                </a:cubicBezTo>
                <a:cubicBezTo>
                  <a:pt x="20132" y="16260"/>
                  <a:pt x="20152" y="16278"/>
                  <a:pt x="20166" y="163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304040" y="5742000"/>
            <a:ext cx="117360" cy="81000"/>
          </a:xfrm>
          <a:custGeom>
            <a:avLst/>
            <a:gdLst/>
            <a:ahLst/>
            <a:rect l="l" t="t" r="r" b="b"/>
            <a:pathLst>
              <a:path w="324" h="225">
                <a:moveTo>
                  <a:pt x="20290" y="15949"/>
                </a:moveTo>
                <a:cubicBezTo>
                  <a:pt x="20408" y="16020"/>
                  <a:pt x="20510" y="16085"/>
                  <a:pt x="20613" y="161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58040" y="5742000"/>
            <a:ext cx="27000" cy="115920"/>
          </a:xfrm>
          <a:custGeom>
            <a:avLst/>
            <a:gdLst/>
            <a:ahLst/>
            <a:rect l="l" t="t" r="r" b="b"/>
            <a:pathLst>
              <a:path w="75" h="324">
                <a:moveTo>
                  <a:pt x="20513" y="15949"/>
                </a:moveTo>
                <a:cubicBezTo>
                  <a:pt x="20473" y="16132"/>
                  <a:pt x="20467" y="16165"/>
                  <a:pt x="20439" y="162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43800" y="5205240"/>
            <a:ext cx="152280" cy="189000"/>
          </a:xfrm>
          <a:custGeom>
            <a:avLst/>
            <a:gdLst/>
            <a:ahLst/>
            <a:rect l="l" t="t" r="r" b="b"/>
            <a:pathLst>
              <a:path w="422" h="522">
                <a:moveTo>
                  <a:pt x="18455" y="14808"/>
                </a:moveTo>
                <a:cubicBezTo>
                  <a:pt x="18498" y="14874"/>
                  <a:pt x="18547" y="14925"/>
                  <a:pt x="18604" y="14982"/>
                </a:cubicBezTo>
                <a:cubicBezTo>
                  <a:pt x="18719" y="14819"/>
                  <a:pt x="18791" y="14645"/>
                  <a:pt x="18876" y="144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439040" y="5572080"/>
            <a:ext cx="204840" cy="231840"/>
          </a:xfrm>
          <a:custGeom>
            <a:avLst/>
            <a:gdLst/>
            <a:ahLst/>
            <a:rect l="l" t="t" r="r" b="b"/>
            <a:pathLst>
              <a:path w="572" h="646">
                <a:moveTo>
                  <a:pt x="20662" y="15677"/>
                </a:moveTo>
                <a:cubicBezTo>
                  <a:pt x="20760" y="15586"/>
                  <a:pt x="20966" y="15369"/>
                  <a:pt x="21109" y="15528"/>
                </a:cubicBezTo>
                <a:cubicBezTo>
                  <a:pt x="21185" y="15613"/>
                  <a:pt x="21005" y="15989"/>
                  <a:pt x="21034" y="15801"/>
                </a:cubicBezTo>
                <a:cubicBezTo>
                  <a:pt x="21067" y="15784"/>
                  <a:pt x="21101" y="15768"/>
                  <a:pt x="21134" y="15751"/>
                </a:cubicBezTo>
                <a:cubicBezTo>
                  <a:pt x="21284" y="15902"/>
                  <a:pt x="21240" y="16059"/>
                  <a:pt x="20985" y="16123"/>
                </a:cubicBezTo>
                <a:cubicBezTo>
                  <a:pt x="20935" y="16123"/>
                  <a:pt x="20886" y="16123"/>
                  <a:pt x="20836" y="161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99160" y="56167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8331" y="15602"/>
                </a:moveTo>
                <a:lnTo>
                  <a:pt x="18331" y="1560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018200" y="56167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9496" y="15602"/>
                </a:moveTo>
                <a:lnTo>
                  <a:pt x="19496" y="1560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912000" y="6018120"/>
            <a:ext cx="115920" cy="196920"/>
          </a:xfrm>
          <a:custGeom>
            <a:avLst/>
            <a:gdLst/>
            <a:ahLst/>
            <a:rect l="l" t="t" r="r" b="b"/>
            <a:pathLst>
              <a:path w="323" h="547">
                <a:moveTo>
                  <a:pt x="19199" y="16867"/>
                </a:moveTo>
                <a:cubicBezTo>
                  <a:pt x="19208" y="16795"/>
                  <a:pt x="19242" y="16661"/>
                  <a:pt x="19348" y="16743"/>
                </a:cubicBezTo>
                <a:cubicBezTo>
                  <a:pt x="19428" y="16804"/>
                  <a:pt x="19398" y="16881"/>
                  <a:pt x="19348" y="16942"/>
                </a:cubicBezTo>
                <a:cubicBezTo>
                  <a:pt x="19331" y="16958"/>
                  <a:pt x="19315" y="16975"/>
                  <a:pt x="19298" y="16991"/>
                </a:cubicBezTo>
                <a:cubicBezTo>
                  <a:pt x="19397" y="16991"/>
                  <a:pt x="19441" y="17000"/>
                  <a:pt x="19496" y="17090"/>
                </a:cubicBezTo>
                <a:cubicBezTo>
                  <a:pt x="19548" y="17175"/>
                  <a:pt x="19464" y="17205"/>
                  <a:pt x="19397" y="17239"/>
                </a:cubicBezTo>
                <a:cubicBezTo>
                  <a:pt x="19333" y="17271"/>
                  <a:pt x="19325" y="17264"/>
                  <a:pt x="19248" y="172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70840" y="6249960"/>
            <a:ext cx="108000" cy="73080"/>
          </a:xfrm>
          <a:custGeom>
            <a:avLst/>
            <a:gdLst/>
            <a:ahLst/>
            <a:rect l="l" t="t" r="r" b="b"/>
            <a:pathLst>
              <a:path w="299" h="200">
                <a:moveTo>
                  <a:pt x="19918" y="17363"/>
                </a:moveTo>
                <a:cubicBezTo>
                  <a:pt x="20018" y="17429"/>
                  <a:pt x="20112" y="17498"/>
                  <a:pt x="20216" y="175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32760" y="6161040"/>
            <a:ext cx="9360" cy="189000"/>
          </a:xfrm>
          <a:custGeom>
            <a:avLst/>
            <a:gdLst/>
            <a:ahLst/>
            <a:rect l="l" t="t" r="r" b="b"/>
            <a:pathLst>
              <a:path w="26" h="522">
                <a:moveTo>
                  <a:pt x="20092" y="17115"/>
                </a:moveTo>
                <a:cubicBezTo>
                  <a:pt x="20108" y="17273"/>
                  <a:pt x="20117" y="17426"/>
                  <a:pt x="20117" y="17587"/>
                </a:cubicBezTo>
                <a:cubicBezTo>
                  <a:pt x="20117" y="17603"/>
                  <a:pt x="20117" y="17620"/>
                  <a:pt x="20117" y="176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367760" y="6037200"/>
            <a:ext cx="222120" cy="312840"/>
          </a:xfrm>
          <a:custGeom>
            <a:avLst/>
            <a:gdLst/>
            <a:ahLst/>
            <a:rect l="l" t="t" r="r" b="b"/>
            <a:pathLst>
              <a:path w="621" h="869">
                <a:moveTo>
                  <a:pt x="20464" y="16867"/>
                </a:moveTo>
                <a:cubicBezTo>
                  <a:pt x="20565" y="16817"/>
                  <a:pt x="20843" y="16659"/>
                  <a:pt x="20886" y="16892"/>
                </a:cubicBezTo>
                <a:cubicBezTo>
                  <a:pt x="20915" y="17046"/>
                  <a:pt x="20793" y="17206"/>
                  <a:pt x="20687" y="17289"/>
                </a:cubicBezTo>
                <a:cubicBezTo>
                  <a:pt x="20716" y="17173"/>
                  <a:pt x="20827" y="17108"/>
                  <a:pt x="20960" y="17140"/>
                </a:cubicBezTo>
                <a:cubicBezTo>
                  <a:pt x="21110" y="17176"/>
                  <a:pt x="21120" y="17393"/>
                  <a:pt x="21034" y="17487"/>
                </a:cubicBezTo>
                <a:cubicBezTo>
                  <a:pt x="20945" y="17585"/>
                  <a:pt x="20834" y="17621"/>
                  <a:pt x="20712" y="176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429680" y="54561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0638" y="15156"/>
                </a:moveTo>
                <a:lnTo>
                  <a:pt x="20638" y="1515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6600"/>
                </a:solidFill>
                <a:latin typeface="Arial"/>
              </a:rPr>
              <a:t>Objective:  Students will use Prime Factorization to identify factors of numbers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 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          </a:t>
            </a:r>
            <a:r>
              <a:rPr b="1" lang="en-US" sz="2700" spc="-1" strike="noStrike" u="sng">
                <a:solidFill>
                  <a:srgbClr val="ff6600"/>
                </a:solidFill>
                <a:uFillTx/>
                <a:latin typeface="Arial"/>
              </a:rPr>
              <a:t>Examp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3399ff"/>
                </a:solidFill>
                <a:uFillTx/>
                <a:latin typeface="Arial"/>
              </a:rPr>
              <a:t>Way 1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1" lang="en-US" sz="2700" spc="-1" strike="noStrike" u="sng">
                <a:solidFill>
                  <a:srgbClr val="3399ff"/>
                </a:solidFill>
                <a:uFillTx/>
                <a:latin typeface="Arial"/>
              </a:rPr>
              <a:t>Way 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       5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 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n-US" sz="2700" spc="-1" strike="noStrike" u="sng">
                <a:solidFill>
                  <a:srgbClr val="ff6600"/>
                </a:solidFill>
                <a:uFillTx/>
                <a:latin typeface="Arial"/>
              </a:rPr>
              <a:t>Examp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3399ff"/>
                </a:solidFill>
                <a:uFillTx/>
                <a:latin typeface="Arial"/>
              </a:rPr>
              <a:t>Way 1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1" lang="en-US" sz="2700" spc="-1" strike="noStrike" u="sng">
                <a:solidFill>
                  <a:srgbClr val="3399ff"/>
                </a:solidFill>
                <a:uFillTx/>
                <a:latin typeface="Arial"/>
              </a:rPr>
              <a:t>Way 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       12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11160" y="1143000"/>
            <a:ext cx="3544920" cy="5473800"/>
          </a:xfrm>
          <a:custGeom>
            <a:avLst/>
            <a:gdLst/>
            <a:ahLst/>
            <a:rect l="l" t="t" r="r" b="b"/>
            <a:pathLst>
              <a:path w="9849" h="15206">
                <a:moveTo>
                  <a:pt x="11708" y="3175"/>
                </a:moveTo>
                <a:cubicBezTo>
                  <a:pt x="11489" y="3440"/>
                  <a:pt x="11203" y="3810"/>
                  <a:pt x="11162" y="4167"/>
                </a:cubicBezTo>
                <a:cubicBezTo>
                  <a:pt x="11127" y="4467"/>
                  <a:pt x="11613" y="4395"/>
                  <a:pt x="11658" y="4713"/>
                </a:cubicBezTo>
                <a:cubicBezTo>
                  <a:pt x="11742" y="5307"/>
                  <a:pt x="11495" y="5879"/>
                  <a:pt x="11609" y="6499"/>
                </a:cubicBezTo>
                <a:cubicBezTo>
                  <a:pt x="11709" y="7044"/>
                  <a:pt x="11967" y="7300"/>
                  <a:pt x="11733" y="7863"/>
                </a:cubicBezTo>
                <a:cubicBezTo>
                  <a:pt x="11574" y="8140"/>
                  <a:pt x="11533" y="8178"/>
                  <a:pt x="11485" y="8359"/>
                </a:cubicBezTo>
                <a:cubicBezTo>
                  <a:pt x="11636" y="8488"/>
                  <a:pt x="11693" y="8459"/>
                  <a:pt x="11683" y="8657"/>
                </a:cubicBezTo>
                <a:cubicBezTo>
                  <a:pt x="11675" y="8690"/>
                  <a:pt x="11666" y="8723"/>
                  <a:pt x="11658" y="8756"/>
                </a:cubicBezTo>
              </a:path>
              <a:path w="9849" h="15206">
                <a:moveTo>
                  <a:pt x="5407" y="6102"/>
                </a:moveTo>
                <a:cubicBezTo>
                  <a:pt x="5231" y="6278"/>
                  <a:pt x="5060" y="6449"/>
                  <a:pt x="4911" y="6648"/>
                </a:cubicBezTo>
                <a:cubicBezTo>
                  <a:pt x="5052" y="6507"/>
                  <a:pt x="5151" y="6349"/>
                  <a:pt x="5283" y="6201"/>
                </a:cubicBezTo>
                <a:cubicBezTo>
                  <a:pt x="5316" y="6168"/>
                  <a:pt x="5350" y="6135"/>
                  <a:pt x="5383" y="6102"/>
                </a:cubicBezTo>
                <a:cubicBezTo>
                  <a:pt x="5459" y="6303"/>
                  <a:pt x="5515" y="6517"/>
                  <a:pt x="5581" y="6722"/>
                </a:cubicBezTo>
                <a:cubicBezTo>
                  <a:pt x="5581" y="6730"/>
                  <a:pt x="5581" y="6739"/>
                  <a:pt x="5581" y="6747"/>
                </a:cubicBezTo>
              </a:path>
              <a:path w="9849" h="15206">
                <a:moveTo>
                  <a:pt x="4812" y="6821"/>
                </a:moveTo>
                <a:cubicBezTo>
                  <a:pt x="4733" y="6868"/>
                  <a:pt x="4570" y="6855"/>
                  <a:pt x="4539" y="6871"/>
                </a:cubicBezTo>
                <a:cubicBezTo>
                  <a:pt x="4438" y="6952"/>
                  <a:pt x="4417" y="6963"/>
                  <a:pt x="4366" y="7020"/>
                </a:cubicBezTo>
                <a:cubicBezTo>
                  <a:pt x="4468" y="7074"/>
                  <a:pt x="4703" y="7106"/>
                  <a:pt x="4614" y="7268"/>
                </a:cubicBezTo>
                <a:cubicBezTo>
                  <a:pt x="4519" y="7441"/>
                  <a:pt x="4252" y="7448"/>
                  <a:pt x="4118" y="7392"/>
                </a:cubicBezTo>
              </a:path>
              <a:path w="9849" h="15206">
                <a:moveTo>
                  <a:pt x="6028" y="6896"/>
                </a:moveTo>
                <a:cubicBezTo>
                  <a:pt x="5971" y="7037"/>
                  <a:pt x="5906" y="7173"/>
                  <a:pt x="5854" y="7317"/>
                </a:cubicBezTo>
              </a:path>
              <a:path w="9849" h="15206">
                <a:moveTo>
                  <a:pt x="6424" y="6921"/>
                </a:moveTo>
                <a:cubicBezTo>
                  <a:pt x="6337" y="7046"/>
                  <a:pt x="6288" y="7076"/>
                  <a:pt x="6300" y="7218"/>
                </a:cubicBezTo>
                <a:cubicBezTo>
                  <a:pt x="6433" y="7242"/>
                  <a:pt x="6609" y="7209"/>
                  <a:pt x="6573" y="7020"/>
                </a:cubicBezTo>
                <a:cubicBezTo>
                  <a:pt x="6557" y="6995"/>
                  <a:pt x="6540" y="6970"/>
                  <a:pt x="6524" y="6945"/>
                </a:cubicBezTo>
              </a:path>
              <a:path w="9849" h="15206">
                <a:moveTo>
                  <a:pt x="3820" y="7466"/>
                </a:moveTo>
                <a:cubicBezTo>
                  <a:pt x="3904" y="7610"/>
                  <a:pt x="4016" y="7672"/>
                  <a:pt x="4192" y="7689"/>
                </a:cubicBezTo>
                <a:cubicBezTo>
                  <a:pt x="4383" y="7708"/>
                  <a:pt x="4603" y="7647"/>
                  <a:pt x="4762" y="7541"/>
                </a:cubicBezTo>
                <a:cubicBezTo>
                  <a:pt x="4864" y="7473"/>
                  <a:pt x="4905" y="7370"/>
                  <a:pt x="4986" y="7293"/>
                </a:cubicBezTo>
                <a:cubicBezTo>
                  <a:pt x="5050" y="7232"/>
                  <a:pt x="5113" y="7160"/>
                  <a:pt x="5135" y="7069"/>
                </a:cubicBezTo>
                <a:cubicBezTo>
                  <a:pt x="5147" y="7017"/>
                  <a:pt x="5126" y="6890"/>
                  <a:pt x="5110" y="6846"/>
                </a:cubicBezTo>
                <a:cubicBezTo>
                  <a:pt x="5079" y="6761"/>
                  <a:pt x="5022" y="6710"/>
                  <a:pt x="4936" y="6672"/>
                </a:cubicBezTo>
                <a:cubicBezTo>
                  <a:pt x="4856" y="6637"/>
                  <a:pt x="4799" y="6604"/>
                  <a:pt x="4713" y="6598"/>
                </a:cubicBezTo>
                <a:cubicBezTo>
                  <a:pt x="4560" y="6587"/>
                  <a:pt x="4398" y="6654"/>
                  <a:pt x="4266" y="6722"/>
                </a:cubicBezTo>
                <a:cubicBezTo>
                  <a:pt x="4136" y="6789"/>
                  <a:pt x="3969" y="6916"/>
                  <a:pt x="3894" y="7045"/>
                </a:cubicBezTo>
                <a:cubicBezTo>
                  <a:pt x="3845" y="7128"/>
                  <a:pt x="3780" y="7267"/>
                  <a:pt x="3795" y="7367"/>
                </a:cubicBezTo>
                <a:cubicBezTo>
                  <a:pt x="3810" y="7468"/>
                  <a:pt x="3907" y="7564"/>
                  <a:pt x="3969" y="7640"/>
                </a:cubicBezTo>
                <a:cubicBezTo>
                  <a:pt x="3977" y="7648"/>
                  <a:pt x="3986" y="7657"/>
                  <a:pt x="3994" y="7665"/>
                </a:cubicBezTo>
              </a:path>
              <a:path w="9849" h="15206">
                <a:moveTo>
                  <a:pt x="6276" y="7417"/>
                </a:moveTo>
                <a:cubicBezTo>
                  <a:pt x="6139" y="7584"/>
                  <a:pt x="6074" y="7791"/>
                  <a:pt x="5953" y="7962"/>
                </a:cubicBezTo>
                <a:cubicBezTo>
                  <a:pt x="5961" y="7937"/>
                  <a:pt x="5970" y="7913"/>
                  <a:pt x="5978" y="7888"/>
                </a:cubicBezTo>
                <a:cubicBezTo>
                  <a:pt x="6070" y="7710"/>
                  <a:pt x="6167" y="7554"/>
                  <a:pt x="6276" y="7392"/>
                </a:cubicBezTo>
                <a:cubicBezTo>
                  <a:pt x="6413" y="7489"/>
                  <a:pt x="6502" y="7628"/>
                  <a:pt x="6623" y="7739"/>
                </a:cubicBezTo>
                <a:cubicBezTo>
                  <a:pt x="6662" y="7774"/>
                  <a:pt x="6687" y="7795"/>
                  <a:pt x="6722" y="7838"/>
                </a:cubicBezTo>
              </a:path>
              <a:path w="9849" h="15206">
                <a:moveTo>
                  <a:pt x="5879" y="8086"/>
                </a:moveTo>
                <a:cubicBezTo>
                  <a:pt x="5814" y="8091"/>
                  <a:pt x="5683" y="8081"/>
                  <a:pt x="5631" y="8136"/>
                </a:cubicBezTo>
                <a:cubicBezTo>
                  <a:pt x="5588" y="8199"/>
                  <a:pt x="5572" y="8211"/>
                  <a:pt x="5581" y="8260"/>
                </a:cubicBezTo>
                <a:cubicBezTo>
                  <a:pt x="5694" y="8260"/>
                  <a:pt x="5792" y="8268"/>
                  <a:pt x="5904" y="8285"/>
                </a:cubicBezTo>
                <a:cubicBezTo>
                  <a:pt x="5851" y="8533"/>
                  <a:pt x="5759" y="8537"/>
                  <a:pt x="5507" y="8558"/>
                </a:cubicBezTo>
              </a:path>
              <a:path w="9849" h="15206">
                <a:moveTo>
                  <a:pt x="6945" y="7888"/>
                </a:moveTo>
                <a:cubicBezTo>
                  <a:pt x="6980" y="7853"/>
                  <a:pt x="7002" y="7840"/>
                  <a:pt x="7045" y="7838"/>
                </a:cubicBezTo>
                <a:cubicBezTo>
                  <a:pt x="7126" y="7961"/>
                  <a:pt x="7104" y="8128"/>
                  <a:pt x="6921" y="8186"/>
                </a:cubicBezTo>
                <a:cubicBezTo>
                  <a:pt x="6888" y="8186"/>
                  <a:pt x="6854" y="8186"/>
                  <a:pt x="6821" y="8186"/>
                </a:cubicBezTo>
                <a:cubicBezTo>
                  <a:pt x="6896" y="8111"/>
                  <a:pt x="7022" y="8140"/>
                  <a:pt x="7119" y="8210"/>
                </a:cubicBezTo>
                <a:cubicBezTo>
                  <a:pt x="7144" y="8235"/>
                  <a:pt x="7168" y="8260"/>
                  <a:pt x="7193" y="8285"/>
                </a:cubicBezTo>
              </a:path>
              <a:path w="9849" h="15206">
                <a:moveTo>
                  <a:pt x="5209" y="8508"/>
                </a:moveTo>
                <a:cubicBezTo>
                  <a:pt x="5286" y="8661"/>
                  <a:pt x="5351" y="8814"/>
                  <a:pt x="5507" y="8905"/>
                </a:cubicBezTo>
                <a:cubicBezTo>
                  <a:pt x="5677" y="9004"/>
                  <a:pt x="5914" y="8968"/>
                  <a:pt x="6052" y="8830"/>
                </a:cubicBezTo>
                <a:cubicBezTo>
                  <a:pt x="6240" y="8642"/>
                  <a:pt x="6263" y="8457"/>
                  <a:pt x="6152" y="8235"/>
                </a:cubicBezTo>
                <a:cubicBezTo>
                  <a:pt x="6060" y="8052"/>
                  <a:pt x="5934" y="7960"/>
                  <a:pt x="5730" y="7938"/>
                </a:cubicBezTo>
                <a:cubicBezTo>
                  <a:pt x="5493" y="7912"/>
                  <a:pt x="5291" y="8064"/>
                  <a:pt x="5209" y="8285"/>
                </a:cubicBezTo>
                <a:cubicBezTo>
                  <a:pt x="5183" y="8488"/>
                  <a:pt x="5178" y="8557"/>
                  <a:pt x="5308" y="8657"/>
                </a:cubicBezTo>
              </a:path>
              <a:path w="9849" h="15206">
                <a:moveTo>
                  <a:pt x="6449" y="8384"/>
                </a:moveTo>
                <a:cubicBezTo>
                  <a:pt x="6666" y="8571"/>
                  <a:pt x="6883" y="8714"/>
                  <a:pt x="7193" y="8657"/>
                </a:cubicBezTo>
                <a:cubicBezTo>
                  <a:pt x="7446" y="8610"/>
                  <a:pt x="7678" y="8377"/>
                  <a:pt x="7665" y="8111"/>
                </a:cubicBezTo>
                <a:cubicBezTo>
                  <a:pt x="7654" y="7876"/>
                  <a:pt x="7441" y="7683"/>
                  <a:pt x="7243" y="7590"/>
                </a:cubicBezTo>
                <a:cubicBezTo>
                  <a:pt x="7071" y="7509"/>
                  <a:pt x="6818" y="7567"/>
                  <a:pt x="6672" y="7689"/>
                </a:cubicBezTo>
                <a:cubicBezTo>
                  <a:pt x="6353" y="7956"/>
                  <a:pt x="6504" y="8230"/>
                  <a:pt x="6672" y="8508"/>
                </a:cubicBezTo>
              </a:path>
              <a:path w="9849" h="15206">
                <a:moveTo>
                  <a:pt x="3423" y="9327"/>
                </a:moveTo>
                <a:cubicBezTo>
                  <a:pt x="3447" y="9435"/>
                  <a:pt x="3585" y="9404"/>
                  <a:pt x="3597" y="9550"/>
                </a:cubicBezTo>
                <a:cubicBezTo>
                  <a:pt x="3608" y="9680"/>
                  <a:pt x="3363" y="10018"/>
                  <a:pt x="3200" y="9872"/>
                </a:cubicBezTo>
                <a:cubicBezTo>
                  <a:pt x="3200" y="9839"/>
                  <a:pt x="3200" y="9806"/>
                  <a:pt x="3200" y="9773"/>
                </a:cubicBezTo>
                <a:cubicBezTo>
                  <a:pt x="3318" y="9688"/>
                  <a:pt x="3485" y="9612"/>
                  <a:pt x="3621" y="9748"/>
                </a:cubicBezTo>
                <a:cubicBezTo>
                  <a:pt x="3629" y="9773"/>
                  <a:pt x="3638" y="9798"/>
                  <a:pt x="3646" y="9823"/>
                </a:cubicBezTo>
              </a:path>
              <a:path w="9849" h="15206">
                <a:moveTo>
                  <a:pt x="3969" y="9376"/>
                </a:moveTo>
                <a:cubicBezTo>
                  <a:pt x="4026" y="9510"/>
                  <a:pt x="4094" y="9615"/>
                  <a:pt x="4192" y="9723"/>
                </a:cubicBezTo>
              </a:path>
              <a:path w="9849" h="15206">
                <a:moveTo>
                  <a:pt x="4217" y="9351"/>
                </a:moveTo>
                <a:cubicBezTo>
                  <a:pt x="4135" y="9480"/>
                  <a:pt x="4077" y="9605"/>
                  <a:pt x="4018" y="9748"/>
                </a:cubicBezTo>
              </a:path>
              <a:path w="9849" h="15206">
                <a:moveTo>
                  <a:pt x="7764" y="7714"/>
                </a:moveTo>
                <a:cubicBezTo>
                  <a:pt x="7745" y="7776"/>
                  <a:pt x="7739" y="7819"/>
                  <a:pt x="7739" y="7888"/>
                </a:cubicBezTo>
                <a:cubicBezTo>
                  <a:pt x="7919" y="7795"/>
                  <a:pt x="8084" y="7692"/>
                  <a:pt x="8260" y="7590"/>
                </a:cubicBezTo>
              </a:path>
              <a:path w="9849" h="15206">
                <a:moveTo>
                  <a:pt x="4961" y="9203"/>
                </a:moveTo>
                <a:cubicBezTo>
                  <a:pt x="4906" y="9203"/>
                  <a:pt x="4692" y="9172"/>
                  <a:pt x="4663" y="9227"/>
                </a:cubicBezTo>
                <a:cubicBezTo>
                  <a:pt x="4642" y="9311"/>
                  <a:pt x="4641" y="9330"/>
                  <a:pt x="4614" y="9376"/>
                </a:cubicBezTo>
                <a:cubicBezTo>
                  <a:pt x="4729" y="9392"/>
                  <a:pt x="4950" y="9330"/>
                  <a:pt x="5035" y="9451"/>
                </a:cubicBezTo>
                <a:cubicBezTo>
                  <a:pt x="5161" y="9631"/>
                  <a:pt x="4898" y="9717"/>
                  <a:pt x="4787" y="9748"/>
                </a:cubicBezTo>
                <a:cubicBezTo>
                  <a:pt x="4710" y="9768"/>
                  <a:pt x="4692" y="9792"/>
                  <a:pt x="4663" y="9748"/>
                </a:cubicBezTo>
              </a:path>
              <a:path w="9849" h="15206">
                <a:moveTo>
                  <a:pt x="4390" y="7689"/>
                </a:moveTo>
                <a:cubicBezTo>
                  <a:pt x="4390" y="7755"/>
                  <a:pt x="4390" y="7772"/>
                  <a:pt x="4390" y="7813"/>
                </a:cubicBezTo>
                <a:cubicBezTo>
                  <a:pt x="4558" y="7753"/>
                  <a:pt x="4668" y="7677"/>
                  <a:pt x="4812" y="7565"/>
                </a:cubicBezTo>
              </a:path>
              <a:path w="9849" h="15206">
                <a:moveTo>
                  <a:pt x="5035" y="8310"/>
                </a:moveTo>
                <a:cubicBezTo>
                  <a:pt x="5035" y="8343"/>
                  <a:pt x="5035" y="8359"/>
                  <a:pt x="5035" y="8384"/>
                </a:cubicBezTo>
                <a:cubicBezTo>
                  <a:pt x="5139" y="8345"/>
                  <a:pt x="5261" y="8266"/>
                  <a:pt x="5358" y="8210"/>
                </a:cubicBezTo>
              </a:path>
              <a:path w="9849" h="15206">
                <a:moveTo>
                  <a:pt x="5184" y="8979"/>
                </a:moveTo>
                <a:cubicBezTo>
                  <a:pt x="5230" y="8933"/>
                  <a:pt x="5243" y="8919"/>
                  <a:pt x="5283" y="8905"/>
                </a:cubicBezTo>
                <a:cubicBezTo>
                  <a:pt x="5335" y="9019"/>
                  <a:pt x="5328" y="9025"/>
                  <a:pt x="5234" y="9103"/>
                </a:cubicBezTo>
                <a:cubicBezTo>
                  <a:pt x="5209" y="9128"/>
                  <a:pt x="5201" y="9136"/>
                  <a:pt x="5184" y="9153"/>
                </a:cubicBezTo>
                <a:cubicBezTo>
                  <a:pt x="5267" y="9153"/>
                  <a:pt x="5349" y="9153"/>
                  <a:pt x="5432" y="9153"/>
                </a:cubicBezTo>
              </a:path>
              <a:path w="9849" h="15206">
                <a:moveTo>
                  <a:pt x="6548" y="9277"/>
                </a:moveTo>
                <a:cubicBezTo>
                  <a:pt x="6405" y="9374"/>
                  <a:pt x="6288" y="9417"/>
                  <a:pt x="6325" y="9599"/>
                </a:cubicBezTo>
                <a:cubicBezTo>
                  <a:pt x="6440" y="9583"/>
                  <a:pt x="6666" y="9533"/>
                  <a:pt x="6598" y="9351"/>
                </a:cubicBezTo>
                <a:cubicBezTo>
                  <a:pt x="6534" y="9320"/>
                  <a:pt x="6502" y="9308"/>
                  <a:pt x="6449" y="9302"/>
                </a:cubicBezTo>
              </a:path>
              <a:path w="9849" h="15206">
                <a:moveTo>
                  <a:pt x="6871" y="9376"/>
                </a:moveTo>
                <a:cubicBezTo>
                  <a:pt x="6879" y="9401"/>
                  <a:pt x="6888" y="9426"/>
                  <a:pt x="6896" y="9451"/>
                </a:cubicBezTo>
                <a:cubicBezTo>
                  <a:pt x="6910" y="9297"/>
                  <a:pt x="6929" y="9277"/>
                  <a:pt x="7045" y="9178"/>
                </a:cubicBezTo>
              </a:path>
              <a:path w="9849" h="15206">
                <a:moveTo>
                  <a:pt x="7838" y="8930"/>
                </a:moveTo>
                <a:cubicBezTo>
                  <a:pt x="7985" y="8940"/>
                  <a:pt x="8268" y="9138"/>
                  <a:pt x="8111" y="9351"/>
                </a:cubicBezTo>
                <a:cubicBezTo>
                  <a:pt x="7973" y="9539"/>
                  <a:pt x="7766" y="9506"/>
                  <a:pt x="7590" y="9475"/>
                </a:cubicBezTo>
                <a:cubicBezTo>
                  <a:pt x="7688" y="9313"/>
                  <a:pt x="7831" y="9217"/>
                  <a:pt x="8012" y="9376"/>
                </a:cubicBezTo>
                <a:cubicBezTo>
                  <a:pt x="8037" y="9409"/>
                  <a:pt x="8061" y="9442"/>
                  <a:pt x="8086" y="9475"/>
                </a:cubicBezTo>
              </a:path>
              <a:path w="9849" h="15206">
                <a:moveTo>
                  <a:pt x="8310" y="9079"/>
                </a:moveTo>
                <a:cubicBezTo>
                  <a:pt x="8422" y="9168"/>
                  <a:pt x="8518" y="9285"/>
                  <a:pt x="8607" y="9401"/>
                </a:cubicBezTo>
              </a:path>
              <a:path w="9849" h="15206">
                <a:moveTo>
                  <a:pt x="8657" y="9029"/>
                </a:moveTo>
                <a:cubicBezTo>
                  <a:pt x="8581" y="9195"/>
                  <a:pt x="8503" y="9356"/>
                  <a:pt x="8434" y="9525"/>
                </a:cubicBezTo>
              </a:path>
              <a:path w="9849" h="15206">
                <a:moveTo>
                  <a:pt x="9103" y="8880"/>
                </a:moveTo>
                <a:cubicBezTo>
                  <a:pt x="9014" y="8899"/>
                  <a:pt x="8846" y="8895"/>
                  <a:pt x="8806" y="8979"/>
                </a:cubicBezTo>
                <a:cubicBezTo>
                  <a:pt x="8784" y="9046"/>
                  <a:pt x="8772" y="9064"/>
                  <a:pt x="8806" y="9103"/>
                </a:cubicBezTo>
                <a:cubicBezTo>
                  <a:pt x="8904" y="9081"/>
                  <a:pt x="9287" y="9093"/>
                  <a:pt x="9203" y="9302"/>
                </a:cubicBezTo>
                <a:cubicBezTo>
                  <a:pt x="9136" y="9469"/>
                  <a:pt x="8958" y="9432"/>
                  <a:pt x="8830" y="9426"/>
                </a:cubicBezTo>
              </a:path>
              <a:path w="9849" h="15206">
                <a:moveTo>
                  <a:pt x="9525" y="9054"/>
                </a:moveTo>
                <a:cubicBezTo>
                  <a:pt x="9576" y="9161"/>
                  <a:pt x="9624" y="9268"/>
                  <a:pt x="9674" y="9376"/>
                </a:cubicBezTo>
              </a:path>
              <a:path w="9849" h="15206">
                <a:moveTo>
                  <a:pt x="9723" y="9004"/>
                </a:moveTo>
                <a:cubicBezTo>
                  <a:pt x="9655" y="9111"/>
                  <a:pt x="9590" y="9219"/>
                  <a:pt x="9525" y="9327"/>
                </a:cubicBezTo>
              </a:path>
              <a:path w="9849" h="15206">
                <a:moveTo>
                  <a:pt x="10269" y="8806"/>
                </a:moveTo>
                <a:cubicBezTo>
                  <a:pt x="10083" y="8820"/>
                  <a:pt x="9959" y="8768"/>
                  <a:pt x="9922" y="8954"/>
                </a:cubicBezTo>
                <a:cubicBezTo>
                  <a:pt x="9922" y="9029"/>
                  <a:pt x="9922" y="9037"/>
                  <a:pt x="9922" y="9079"/>
                </a:cubicBezTo>
                <a:cubicBezTo>
                  <a:pt x="10059" y="9050"/>
                  <a:pt x="10363" y="8941"/>
                  <a:pt x="10418" y="9153"/>
                </a:cubicBezTo>
                <a:cubicBezTo>
                  <a:pt x="10469" y="9347"/>
                  <a:pt x="10205" y="9384"/>
                  <a:pt x="10096" y="9426"/>
                </a:cubicBezTo>
              </a:path>
              <a:path w="9849" h="15206">
                <a:moveTo>
                  <a:pt x="2704" y="10046"/>
                </a:moveTo>
                <a:cubicBezTo>
                  <a:pt x="2796" y="10132"/>
                  <a:pt x="2881" y="10206"/>
                  <a:pt x="3001" y="10269"/>
                </a:cubicBezTo>
                <a:cubicBezTo>
                  <a:pt x="3139" y="10342"/>
                  <a:pt x="3246" y="10344"/>
                  <a:pt x="3398" y="10344"/>
                </a:cubicBezTo>
                <a:cubicBezTo>
                  <a:pt x="3657" y="10344"/>
                  <a:pt x="3912" y="10344"/>
                  <a:pt x="4167" y="10319"/>
                </a:cubicBezTo>
                <a:cubicBezTo>
                  <a:pt x="4382" y="10298"/>
                  <a:pt x="4574" y="10296"/>
                  <a:pt x="4787" y="10244"/>
                </a:cubicBezTo>
                <a:cubicBezTo>
                  <a:pt x="4886" y="10220"/>
                  <a:pt x="4991" y="10197"/>
                  <a:pt x="5085" y="10170"/>
                </a:cubicBezTo>
                <a:cubicBezTo>
                  <a:pt x="5174" y="10144"/>
                  <a:pt x="5294" y="10088"/>
                  <a:pt x="5358" y="10021"/>
                </a:cubicBezTo>
                <a:cubicBezTo>
                  <a:pt x="5429" y="9948"/>
                  <a:pt x="5471" y="9856"/>
                  <a:pt x="5531" y="9773"/>
                </a:cubicBezTo>
                <a:cubicBezTo>
                  <a:pt x="5579" y="9707"/>
                  <a:pt x="5624" y="9654"/>
                  <a:pt x="5655" y="9575"/>
                </a:cubicBezTo>
                <a:cubicBezTo>
                  <a:pt x="5676" y="9521"/>
                  <a:pt x="5668" y="9457"/>
                  <a:pt x="5680" y="9401"/>
                </a:cubicBezTo>
                <a:cubicBezTo>
                  <a:pt x="5691" y="9351"/>
                  <a:pt x="5722" y="9292"/>
                  <a:pt x="5705" y="9227"/>
                </a:cubicBezTo>
                <a:cubicBezTo>
                  <a:pt x="5684" y="9147"/>
                  <a:pt x="5619" y="9073"/>
                  <a:pt x="5581" y="9004"/>
                </a:cubicBezTo>
                <a:cubicBezTo>
                  <a:pt x="5542" y="8933"/>
                  <a:pt x="5518" y="8885"/>
                  <a:pt x="5457" y="8830"/>
                </a:cubicBezTo>
                <a:cubicBezTo>
                  <a:pt x="5391" y="8771"/>
                  <a:pt x="5329" y="8736"/>
                  <a:pt x="5259" y="8706"/>
                </a:cubicBezTo>
                <a:cubicBezTo>
                  <a:pt x="5213" y="8686"/>
                  <a:pt x="5139" y="8663"/>
                  <a:pt x="5085" y="8657"/>
                </a:cubicBezTo>
                <a:cubicBezTo>
                  <a:pt x="4941" y="8641"/>
                  <a:pt x="4798" y="8670"/>
                  <a:pt x="4663" y="8682"/>
                </a:cubicBezTo>
                <a:cubicBezTo>
                  <a:pt x="4543" y="8693"/>
                  <a:pt x="4478" y="8746"/>
                  <a:pt x="4366" y="8781"/>
                </a:cubicBezTo>
                <a:cubicBezTo>
                  <a:pt x="4273" y="8810"/>
                  <a:pt x="4139" y="8843"/>
                  <a:pt x="4043" y="8855"/>
                </a:cubicBezTo>
                <a:cubicBezTo>
                  <a:pt x="3944" y="8867"/>
                  <a:pt x="3845" y="8866"/>
                  <a:pt x="3746" y="8880"/>
                </a:cubicBezTo>
                <a:cubicBezTo>
                  <a:pt x="3654" y="8893"/>
                  <a:pt x="3542" y="8911"/>
                  <a:pt x="3448" y="8930"/>
                </a:cubicBezTo>
                <a:cubicBezTo>
                  <a:pt x="3324" y="8956"/>
                  <a:pt x="3201" y="8968"/>
                  <a:pt x="3076" y="9004"/>
                </a:cubicBezTo>
                <a:cubicBezTo>
                  <a:pt x="2965" y="9036"/>
                  <a:pt x="2876" y="9075"/>
                  <a:pt x="2778" y="9128"/>
                </a:cubicBezTo>
                <a:cubicBezTo>
                  <a:pt x="2728" y="9155"/>
                  <a:pt x="2611" y="9228"/>
                  <a:pt x="2580" y="9277"/>
                </a:cubicBezTo>
                <a:cubicBezTo>
                  <a:pt x="2531" y="9356"/>
                  <a:pt x="2519" y="9459"/>
                  <a:pt x="2530" y="9550"/>
                </a:cubicBezTo>
                <a:cubicBezTo>
                  <a:pt x="2544" y="9665"/>
                  <a:pt x="2675" y="9777"/>
                  <a:pt x="2753" y="9847"/>
                </a:cubicBezTo>
                <a:cubicBezTo>
                  <a:pt x="2821" y="9908"/>
                  <a:pt x="2888" y="9961"/>
                  <a:pt x="2952" y="10021"/>
                </a:cubicBezTo>
              </a:path>
              <a:path w="9849" h="15206">
                <a:moveTo>
                  <a:pt x="10939" y="12204"/>
                </a:moveTo>
                <a:cubicBezTo>
                  <a:pt x="10868" y="12630"/>
                  <a:pt x="10666" y="13116"/>
                  <a:pt x="10666" y="13543"/>
                </a:cubicBezTo>
                <a:cubicBezTo>
                  <a:pt x="10666" y="14404"/>
                  <a:pt x="11447" y="14433"/>
                  <a:pt x="11832" y="15007"/>
                </a:cubicBezTo>
                <a:cubicBezTo>
                  <a:pt x="12250" y="15630"/>
                  <a:pt x="11740" y="16265"/>
                  <a:pt x="11757" y="16917"/>
                </a:cubicBezTo>
                <a:cubicBezTo>
                  <a:pt x="11771" y="17442"/>
                  <a:pt x="12116" y="17721"/>
                  <a:pt x="12328" y="18157"/>
                </a:cubicBezTo>
                <a:cubicBezTo>
                  <a:pt x="12370" y="18281"/>
                  <a:pt x="12395" y="18306"/>
                  <a:pt x="12353" y="183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25760" y="5429160"/>
            <a:ext cx="2482560" cy="1384560"/>
          </a:xfrm>
          <a:custGeom>
            <a:avLst/>
            <a:gdLst/>
            <a:ahLst/>
            <a:rect l="l" t="t" r="r" b="b"/>
            <a:pathLst>
              <a:path w="6897" h="3846">
                <a:moveTo>
                  <a:pt x="5829" y="15701"/>
                </a:moveTo>
                <a:cubicBezTo>
                  <a:pt x="5829" y="15525"/>
                  <a:pt x="5716" y="15780"/>
                  <a:pt x="5680" y="15825"/>
                </a:cubicBezTo>
                <a:cubicBezTo>
                  <a:pt x="5664" y="15842"/>
                  <a:pt x="5647" y="15858"/>
                  <a:pt x="5631" y="15875"/>
                </a:cubicBezTo>
                <a:cubicBezTo>
                  <a:pt x="5713" y="15749"/>
                  <a:pt x="5761" y="15620"/>
                  <a:pt x="5879" y="15528"/>
                </a:cubicBezTo>
                <a:cubicBezTo>
                  <a:pt x="5967" y="15630"/>
                  <a:pt x="6025" y="15742"/>
                  <a:pt x="6102" y="15850"/>
                </a:cubicBezTo>
              </a:path>
              <a:path w="6897" h="3846">
                <a:moveTo>
                  <a:pt x="5110" y="15925"/>
                </a:moveTo>
                <a:cubicBezTo>
                  <a:pt x="5123" y="15989"/>
                  <a:pt x="5217" y="15926"/>
                  <a:pt x="5333" y="15974"/>
                </a:cubicBezTo>
                <a:cubicBezTo>
                  <a:pt x="5299" y="16133"/>
                  <a:pt x="5215" y="16174"/>
                  <a:pt x="5035" y="16197"/>
                </a:cubicBezTo>
                <a:cubicBezTo>
                  <a:pt x="4943" y="16197"/>
                  <a:pt x="4912" y="16204"/>
                  <a:pt x="4911" y="16123"/>
                </a:cubicBezTo>
                <a:cubicBezTo>
                  <a:pt x="5025" y="16023"/>
                  <a:pt x="5117" y="16038"/>
                  <a:pt x="5259" y="16098"/>
                </a:cubicBezTo>
                <a:cubicBezTo>
                  <a:pt x="5308" y="16123"/>
                  <a:pt x="5325" y="16132"/>
                  <a:pt x="5333" y="16173"/>
                </a:cubicBezTo>
              </a:path>
              <a:path w="6897" h="3846">
                <a:moveTo>
                  <a:pt x="5035" y="15776"/>
                </a:moveTo>
                <a:cubicBezTo>
                  <a:pt x="5109" y="15702"/>
                  <a:pt x="5138" y="15727"/>
                  <a:pt x="5234" y="15776"/>
                </a:cubicBezTo>
                <a:cubicBezTo>
                  <a:pt x="5299" y="15809"/>
                  <a:pt x="5355" y="15855"/>
                  <a:pt x="5383" y="15925"/>
                </a:cubicBezTo>
                <a:cubicBezTo>
                  <a:pt x="5409" y="15992"/>
                  <a:pt x="5315" y="16022"/>
                  <a:pt x="5283" y="16049"/>
                </a:cubicBezTo>
                <a:cubicBezTo>
                  <a:pt x="5189" y="16126"/>
                  <a:pt x="5225" y="16104"/>
                  <a:pt x="5110" y="16098"/>
                </a:cubicBezTo>
                <a:cubicBezTo>
                  <a:pt x="5036" y="16094"/>
                  <a:pt x="5005" y="16144"/>
                  <a:pt x="4936" y="16148"/>
                </a:cubicBezTo>
                <a:cubicBezTo>
                  <a:pt x="4858" y="16153"/>
                  <a:pt x="4846" y="16114"/>
                  <a:pt x="4837" y="16049"/>
                </a:cubicBezTo>
                <a:cubicBezTo>
                  <a:pt x="4883" y="16060"/>
                  <a:pt x="4944" y="16092"/>
                  <a:pt x="4986" y="16098"/>
                </a:cubicBezTo>
                <a:cubicBezTo>
                  <a:pt x="5078" y="16111"/>
                  <a:pt x="5152" y="16158"/>
                  <a:pt x="5234" y="16173"/>
                </a:cubicBezTo>
                <a:cubicBezTo>
                  <a:pt x="5322" y="16189"/>
                  <a:pt x="5485" y="16191"/>
                  <a:pt x="5556" y="16148"/>
                </a:cubicBezTo>
              </a:path>
              <a:path w="6897" h="3846">
                <a:moveTo>
                  <a:pt x="6449" y="15776"/>
                </a:moveTo>
                <a:cubicBezTo>
                  <a:pt x="6392" y="15883"/>
                  <a:pt x="6362" y="15976"/>
                  <a:pt x="6350" y="16098"/>
                </a:cubicBezTo>
                <a:cubicBezTo>
                  <a:pt x="6432" y="16084"/>
                  <a:pt x="6515" y="16060"/>
                  <a:pt x="6598" y="16049"/>
                </a:cubicBezTo>
                <a:cubicBezTo>
                  <a:pt x="6648" y="16049"/>
                  <a:pt x="6664" y="16049"/>
                  <a:pt x="6697" y="16049"/>
                </a:cubicBezTo>
                <a:cubicBezTo>
                  <a:pt x="6683" y="15948"/>
                  <a:pt x="6613" y="15945"/>
                  <a:pt x="6548" y="16049"/>
                </a:cubicBezTo>
                <a:cubicBezTo>
                  <a:pt x="6540" y="16065"/>
                  <a:pt x="6532" y="16082"/>
                  <a:pt x="6524" y="16098"/>
                </a:cubicBezTo>
              </a:path>
              <a:path w="6897" h="3846">
                <a:moveTo>
                  <a:pt x="7020" y="15801"/>
                </a:moveTo>
                <a:cubicBezTo>
                  <a:pt x="6919" y="15781"/>
                  <a:pt x="6834" y="15841"/>
                  <a:pt x="6821" y="15974"/>
                </a:cubicBezTo>
                <a:cubicBezTo>
                  <a:pt x="6829" y="15999"/>
                  <a:pt x="6838" y="16024"/>
                  <a:pt x="6846" y="16049"/>
                </a:cubicBezTo>
                <a:cubicBezTo>
                  <a:pt x="6941" y="16101"/>
                  <a:pt x="7092" y="16081"/>
                  <a:pt x="7119" y="15925"/>
                </a:cubicBezTo>
                <a:cubicBezTo>
                  <a:pt x="7140" y="15803"/>
                  <a:pt x="7005" y="15795"/>
                  <a:pt x="6945" y="15801"/>
                </a:cubicBezTo>
              </a:path>
              <a:path w="6897" h="3846">
                <a:moveTo>
                  <a:pt x="4638" y="16123"/>
                </a:moveTo>
                <a:cubicBezTo>
                  <a:pt x="4600" y="16188"/>
                  <a:pt x="4603" y="16271"/>
                  <a:pt x="4638" y="16346"/>
                </a:cubicBezTo>
                <a:cubicBezTo>
                  <a:pt x="4672" y="16419"/>
                  <a:pt x="4783" y="16503"/>
                  <a:pt x="4862" y="16520"/>
                </a:cubicBezTo>
                <a:cubicBezTo>
                  <a:pt x="4981" y="16546"/>
                  <a:pt x="5124" y="16513"/>
                  <a:pt x="5234" y="16470"/>
                </a:cubicBezTo>
                <a:cubicBezTo>
                  <a:pt x="5286" y="16450"/>
                  <a:pt x="5373" y="16385"/>
                  <a:pt x="5407" y="16346"/>
                </a:cubicBezTo>
                <a:cubicBezTo>
                  <a:pt x="5458" y="16288"/>
                  <a:pt x="5515" y="16201"/>
                  <a:pt x="5531" y="16123"/>
                </a:cubicBezTo>
                <a:cubicBezTo>
                  <a:pt x="5542" y="16068"/>
                  <a:pt x="5530" y="16017"/>
                  <a:pt x="5507" y="15974"/>
                </a:cubicBezTo>
                <a:cubicBezTo>
                  <a:pt x="5460" y="15886"/>
                  <a:pt x="5345" y="15827"/>
                  <a:pt x="5259" y="15776"/>
                </a:cubicBezTo>
                <a:cubicBezTo>
                  <a:pt x="5213" y="15749"/>
                  <a:pt x="5155" y="15720"/>
                  <a:pt x="5110" y="15701"/>
                </a:cubicBezTo>
                <a:cubicBezTo>
                  <a:pt x="5051" y="15676"/>
                  <a:pt x="4973" y="15655"/>
                  <a:pt x="4911" y="15652"/>
                </a:cubicBezTo>
                <a:cubicBezTo>
                  <a:pt x="4846" y="15648"/>
                  <a:pt x="4741" y="15687"/>
                  <a:pt x="4688" y="15726"/>
                </a:cubicBezTo>
                <a:cubicBezTo>
                  <a:pt x="4596" y="15794"/>
                  <a:pt x="4576" y="15840"/>
                  <a:pt x="4539" y="15949"/>
                </a:cubicBezTo>
                <a:cubicBezTo>
                  <a:pt x="4504" y="16054"/>
                  <a:pt x="4534" y="16073"/>
                  <a:pt x="4539" y="16173"/>
                </a:cubicBezTo>
                <a:cubicBezTo>
                  <a:pt x="4541" y="16220"/>
                  <a:pt x="4550" y="16234"/>
                  <a:pt x="4564" y="16272"/>
                </a:cubicBezTo>
              </a:path>
              <a:path w="6897" h="3846">
                <a:moveTo>
                  <a:pt x="6846" y="16371"/>
                </a:moveTo>
                <a:cubicBezTo>
                  <a:pt x="6846" y="16321"/>
                  <a:pt x="6741" y="16565"/>
                  <a:pt x="6722" y="16594"/>
                </a:cubicBezTo>
                <a:cubicBezTo>
                  <a:pt x="6662" y="16675"/>
                  <a:pt x="6648" y="16688"/>
                  <a:pt x="6623" y="16743"/>
                </a:cubicBezTo>
                <a:cubicBezTo>
                  <a:pt x="6687" y="16607"/>
                  <a:pt x="6757" y="16470"/>
                  <a:pt x="6846" y="16346"/>
                </a:cubicBezTo>
                <a:cubicBezTo>
                  <a:pt x="6923" y="16240"/>
                  <a:pt x="6990" y="16236"/>
                  <a:pt x="7069" y="16321"/>
                </a:cubicBezTo>
                <a:cubicBezTo>
                  <a:pt x="7168" y="16427"/>
                  <a:pt x="7185" y="16509"/>
                  <a:pt x="7317" y="16570"/>
                </a:cubicBezTo>
              </a:path>
              <a:path w="6897" h="3846">
                <a:moveTo>
                  <a:pt x="6524" y="16818"/>
                </a:moveTo>
                <a:cubicBezTo>
                  <a:pt x="6507" y="16818"/>
                  <a:pt x="6491" y="16818"/>
                  <a:pt x="6474" y="16818"/>
                </a:cubicBezTo>
                <a:cubicBezTo>
                  <a:pt x="6623" y="16795"/>
                  <a:pt x="6671" y="16874"/>
                  <a:pt x="6598" y="17041"/>
                </a:cubicBezTo>
                <a:cubicBezTo>
                  <a:pt x="6527" y="17205"/>
                  <a:pt x="6402" y="17214"/>
                  <a:pt x="6251" y="17214"/>
                </a:cubicBezTo>
                <a:cubicBezTo>
                  <a:pt x="6251" y="17080"/>
                  <a:pt x="6323" y="17063"/>
                  <a:pt x="6474" y="17066"/>
                </a:cubicBezTo>
                <a:cubicBezTo>
                  <a:pt x="6591" y="17085"/>
                  <a:pt x="6613" y="17078"/>
                  <a:pt x="6672" y="17115"/>
                </a:cubicBezTo>
              </a:path>
              <a:path w="6897" h="3846">
                <a:moveTo>
                  <a:pt x="7491" y="16694"/>
                </a:moveTo>
                <a:cubicBezTo>
                  <a:pt x="7801" y="16584"/>
                  <a:pt x="7572" y="16704"/>
                  <a:pt x="7590" y="16793"/>
                </a:cubicBezTo>
                <a:cubicBezTo>
                  <a:pt x="7607" y="16785"/>
                  <a:pt x="7623" y="16776"/>
                  <a:pt x="7640" y="16768"/>
                </a:cubicBezTo>
                <a:cubicBezTo>
                  <a:pt x="7673" y="16768"/>
                  <a:pt x="7706" y="16768"/>
                  <a:pt x="7739" y="16768"/>
                </a:cubicBezTo>
                <a:cubicBezTo>
                  <a:pt x="7667" y="16953"/>
                  <a:pt x="7625" y="16996"/>
                  <a:pt x="7417" y="16966"/>
                </a:cubicBezTo>
              </a:path>
              <a:path w="6897" h="3846">
                <a:moveTo>
                  <a:pt x="8136" y="16495"/>
                </a:moveTo>
                <a:cubicBezTo>
                  <a:pt x="8010" y="16579"/>
                  <a:pt x="7991" y="16601"/>
                  <a:pt x="7938" y="16743"/>
                </a:cubicBezTo>
                <a:cubicBezTo>
                  <a:pt x="8023" y="16790"/>
                  <a:pt x="8279" y="16830"/>
                  <a:pt x="8285" y="16644"/>
                </a:cubicBezTo>
                <a:cubicBezTo>
                  <a:pt x="8225" y="16526"/>
                  <a:pt x="8188" y="16490"/>
                  <a:pt x="8062" y="16520"/>
                </a:cubicBezTo>
              </a:path>
              <a:path w="6897" h="3846">
                <a:moveTo>
                  <a:pt x="6028" y="17165"/>
                </a:moveTo>
                <a:cubicBezTo>
                  <a:pt x="6028" y="17237"/>
                  <a:pt x="6005" y="17359"/>
                  <a:pt x="6052" y="17413"/>
                </a:cubicBezTo>
                <a:cubicBezTo>
                  <a:pt x="6160" y="17537"/>
                  <a:pt x="6361" y="17474"/>
                  <a:pt x="6499" y="17438"/>
                </a:cubicBezTo>
                <a:cubicBezTo>
                  <a:pt x="6664" y="17395"/>
                  <a:pt x="6854" y="17317"/>
                  <a:pt x="6945" y="17165"/>
                </a:cubicBezTo>
                <a:cubicBezTo>
                  <a:pt x="7020" y="17041"/>
                  <a:pt x="7049" y="16886"/>
                  <a:pt x="6945" y="16768"/>
                </a:cubicBezTo>
                <a:cubicBezTo>
                  <a:pt x="6857" y="16668"/>
                  <a:pt x="6645" y="16672"/>
                  <a:pt x="6524" y="16669"/>
                </a:cubicBezTo>
                <a:cubicBezTo>
                  <a:pt x="6384" y="16665"/>
                  <a:pt x="6201" y="16703"/>
                  <a:pt x="6127" y="16842"/>
                </a:cubicBezTo>
                <a:cubicBezTo>
                  <a:pt x="6034" y="17017"/>
                  <a:pt x="6082" y="17167"/>
                  <a:pt x="6127" y="17338"/>
                </a:cubicBezTo>
              </a:path>
              <a:path w="6897" h="3846">
                <a:moveTo>
                  <a:pt x="7962" y="17115"/>
                </a:moveTo>
                <a:cubicBezTo>
                  <a:pt x="7953" y="17163"/>
                  <a:pt x="7878" y="17471"/>
                  <a:pt x="7913" y="17289"/>
                </a:cubicBezTo>
                <a:cubicBezTo>
                  <a:pt x="7928" y="17211"/>
                  <a:pt x="7954" y="17144"/>
                  <a:pt x="7962" y="17066"/>
                </a:cubicBezTo>
                <a:cubicBezTo>
                  <a:pt x="8111" y="17036"/>
                  <a:pt x="8217" y="17130"/>
                  <a:pt x="8359" y="17190"/>
                </a:cubicBezTo>
                <a:cubicBezTo>
                  <a:pt x="8459" y="17230"/>
                  <a:pt x="8477" y="17234"/>
                  <a:pt x="8533" y="17264"/>
                </a:cubicBezTo>
              </a:path>
              <a:path w="6897" h="3846">
                <a:moveTo>
                  <a:pt x="7987" y="17587"/>
                </a:moveTo>
                <a:cubicBezTo>
                  <a:pt x="7975" y="17590"/>
                  <a:pt x="7724" y="17652"/>
                  <a:pt x="7838" y="17735"/>
                </a:cubicBezTo>
                <a:cubicBezTo>
                  <a:pt x="7887" y="17771"/>
                  <a:pt x="8025" y="17769"/>
                  <a:pt x="8086" y="17785"/>
                </a:cubicBezTo>
                <a:cubicBezTo>
                  <a:pt x="7996" y="17900"/>
                  <a:pt x="7989" y="17912"/>
                  <a:pt x="7838" y="17934"/>
                </a:cubicBezTo>
              </a:path>
              <a:path w="6897" h="3846">
                <a:moveTo>
                  <a:pt x="8830" y="17512"/>
                </a:moveTo>
                <a:cubicBezTo>
                  <a:pt x="8830" y="17462"/>
                  <a:pt x="8830" y="17446"/>
                  <a:pt x="8830" y="17413"/>
                </a:cubicBezTo>
                <a:cubicBezTo>
                  <a:pt x="8781" y="17501"/>
                  <a:pt x="8765" y="17571"/>
                  <a:pt x="8806" y="17661"/>
                </a:cubicBezTo>
                <a:cubicBezTo>
                  <a:pt x="8814" y="17678"/>
                  <a:pt x="8822" y="17694"/>
                  <a:pt x="8830" y="17711"/>
                </a:cubicBezTo>
                <a:cubicBezTo>
                  <a:pt x="8993" y="17698"/>
                  <a:pt x="9058" y="17669"/>
                  <a:pt x="9128" y="17512"/>
                </a:cubicBezTo>
                <a:cubicBezTo>
                  <a:pt x="9128" y="17504"/>
                  <a:pt x="9128" y="17495"/>
                  <a:pt x="9128" y="17487"/>
                </a:cubicBezTo>
                <a:cubicBezTo>
                  <a:pt x="8955" y="17487"/>
                  <a:pt x="8947" y="17523"/>
                  <a:pt x="8905" y="17686"/>
                </a:cubicBezTo>
                <a:cubicBezTo>
                  <a:pt x="8905" y="17694"/>
                  <a:pt x="8905" y="17703"/>
                  <a:pt x="8905" y="17711"/>
                </a:cubicBezTo>
              </a:path>
              <a:path w="6897" h="3846">
                <a:moveTo>
                  <a:pt x="7491" y="18058"/>
                </a:moveTo>
                <a:cubicBezTo>
                  <a:pt x="7594" y="18219"/>
                  <a:pt x="7771" y="18216"/>
                  <a:pt x="7962" y="18157"/>
                </a:cubicBezTo>
                <a:cubicBezTo>
                  <a:pt x="8154" y="18098"/>
                  <a:pt x="8321" y="17944"/>
                  <a:pt x="8334" y="17735"/>
                </a:cubicBezTo>
                <a:cubicBezTo>
                  <a:pt x="8344" y="17574"/>
                  <a:pt x="8234" y="17457"/>
                  <a:pt x="8111" y="17388"/>
                </a:cubicBezTo>
                <a:cubicBezTo>
                  <a:pt x="7981" y="17315"/>
                  <a:pt x="7881" y="17300"/>
                  <a:pt x="7739" y="17338"/>
                </a:cubicBezTo>
                <a:cubicBezTo>
                  <a:pt x="7585" y="17379"/>
                  <a:pt x="7471" y="17643"/>
                  <a:pt x="7441" y="17785"/>
                </a:cubicBezTo>
                <a:cubicBezTo>
                  <a:pt x="7385" y="18050"/>
                  <a:pt x="7506" y="18137"/>
                  <a:pt x="7714" y="18231"/>
                </a:cubicBezTo>
              </a:path>
              <a:path w="6897" h="3846">
                <a:moveTo>
                  <a:pt x="9054" y="17884"/>
                </a:moveTo>
                <a:cubicBezTo>
                  <a:pt x="9054" y="18005"/>
                  <a:pt x="9046" y="18112"/>
                  <a:pt x="9029" y="18231"/>
                </a:cubicBezTo>
                <a:cubicBezTo>
                  <a:pt x="9138" y="18126"/>
                  <a:pt x="9061" y="18034"/>
                  <a:pt x="9079" y="17884"/>
                </a:cubicBezTo>
                <a:cubicBezTo>
                  <a:pt x="9079" y="17833"/>
                  <a:pt x="9081" y="17816"/>
                  <a:pt x="9128" y="17810"/>
                </a:cubicBezTo>
                <a:cubicBezTo>
                  <a:pt x="9286" y="17883"/>
                  <a:pt x="9429" y="17952"/>
                  <a:pt x="9599" y="18008"/>
                </a:cubicBezTo>
                <a:cubicBezTo>
                  <a:pt x="9657" y="18027"/>
                  <a:pt x="9664" y="18036"/>
                  <a:pt x="9699" y="18033"/>
                </a:cubicBezTo>
              </a:path>
              <a:path w="6897" h="3846">
                <a:moveTo>
                  <a:pt x="9103" y="18455"/>
                </a:moveTo>
                <a:cubicBezTo>
                  <a:pt x="9187" y="18449"/>
                  <a:pt x="9267" y="18437"/>
                  <a:pt x="9351" y="18430"/>
                </a:cubicBezTo>
                <a:cubicBezTo>
                  <a:pt x="9332" y="18546"/>
                  <a:pt x="9276" y="18570"/>
                  <a:pt x="9178" y="18628"/>
                </a:cubicBezTo>
                <a:cubicBezTo>
                  <a:pt x="9200" y="18622"/>
                  <a:pt x="9451" y="18595"/>
                  <a:pt x="9376" y="18678"/>
                </a:cubicBezTo>
                <a:cubicBezTo>
                  <a:pt x="9272" y="18794"/>
                  <a:pt x="9218" y="18771"/>
                  <a:pt x="9103" y="18728"/>
                </a:cubicBezTo>
              </a:path>
              <a:path w="6897" h="3846">
                <a:moveTo>
                  <a:pt x="10071" y="18083"/>
                </a:moveTo>
                <a:cubicBezTo>
                  <a:pt x="10213" y="18105"/>
                  <a:pt x="10211" y="18115"/>
                  <a:pt x="10294" y="18231"/>
                </a:cubicBezTo>
                <a:cubicBezTo>
                  <a:pt x="10226" y="18377"/>
                  <a:pt x="10112" y="18497"/>
                  <a:pt x="9922" y="18405"/>
                </a:cubicBezTo>
                <a:cubicBezTo>
                  <a:pt x="9914" y="18388"/>
                  <a:pt x="9905" y="18372"/>
                  <a:pt x="9897" y="18355"/>
                </a:cubicBezTo>
                <a:cubicBezTo>
                  <a:pt x="10036" y="18293"/>
                  <a:pt x="10109" y="18346"/>
                  <a:pt x="10244" y="18430"/>
                </a:cubicBezTo>
              </a:path>
              <a:path w="6897" h="3846">
                <a:moveTo>
                  <a:pt x="9823" y="18579"/>
                </a:moveTo>
                <a:cubicBezTo>
                  <a:pt x="10103" y="18631"/>
                  <a:pt x="10366" y="18623"/>
                  <a:pt x="10592" y="18405"/>
                </a:cubicBezTo>
                <a:cubicBezTo>
                  <a:pt x="10836" y="18170"/>
                  <a:pt x="10767" y="17888"/>
                  <a:pt x="10443" y="17810"/>
                </a:cubicBezTo>
                <a:cubicBezTo>
                  <a:pt x="10114" y="17731"/>
                  <a:pt x="9685" y="17931"/>
                  <a:pt x="9748" y="18331"/>
                </a:cubicBezTo>
                <a:cubicBezTo>
                  <a:pt x="9844" y="18498"/>
                  <a:pt x="9871" y="18552"/>
                  <a:pt x="9996" y="18604"/>
                </a:cubicBezTo>
              </a:path>
              <a:path w="6897" h="3846">
                <a:moveTo>
                  <a:pt x="8905" y="18901"/>
                </a:moveTo>
                <a:cubicBezTo>
                  <a:pt x="9080" y="18925"/>
                  <a:pt x="9270" y="18901"/>
                  <a:pt x="9451" y="18876"/>
                </a:cubicBezTo>
                <a:cubicBezTo>
                  <a:pt x="9689" y="18843"/>
                  <a:pt x="9870" y="18779"/>
                  <a:pt x="9897" y="18504"/>
                </a:cubicBezTo>
                <a:cubicBezTo>
                  <a:pt x="9912" y="18356"/>
                  <a:pt x="9709" y="18160"/>
                  <a:pt x="9575" y="18132"/>
                </a:cubicBezTo>
                <a:cubicBezTo>
                  <a:pt x="9345" y="18084"/>
                  <a:pt x="9038" y="18220"/>
                  <a:pt x="8905" y="18405"/>
                </a:cubicBezTo>
                <a:cubicBezTo>
                  <a:pt x="8725" y="18657"/>
                  <a:pt x="8889" y="18733"/>
                  <a:pt x="9054" y="18876"/>
                </a:cubicBezTo>
              </a:path>
              <a:path w="6897" h="3846">
                <a:moveTo>
                  <a:pt x="4564" y="15577"/>
                </a:moveTo>
                <a:cubicBezTo>
                  <a:pt x="4629" y="15709"/>
                  <a:pt x="4766" y="15491"/>
                  <a:pt x="4837" y="15404"/>
                </a:cubicBezTo>
                <a:cubicBezTo>
                  <a:pt x="4965" y="15233"/>
                  <a:pt x="4997" y="15196"/>
                  <a:pt x="5060" y="15081"/>
                </a:cubicBezTo>
              </a:path>
              <a:path w="6897" h="3846">
                <a:moveTo>
                  <a:pt x="5879" y="16768"/>
                </a:moveTo>
                <a:cubicBezTo>
                  <a:pt x="5901" y="16819"/>
                  <a:pt x="5919" y="16862"/>
                  <a:pt x="5928" y="16917"/>
                </a:cubicBezTo>
                <a:cubicBezTo>
                  <a:pt x="6062" y="16816"/>
                  <a:pt x="6105" y="16631"/>
                  <a:pt x="6251" y="16520"/>
                </a:cubicBezTo>
                <a:cubicBezTo>
                  <a:pt x="6284" y="16503"/>
                  <a:pt x="6317" y="16487"/>
                  <a:pt x="6350" y="16470"/>
                </a:cubicBezTo>
              </a:path>
              <a:path w="6897" h="3846">
                <a:moveTo>
                  <a:pt x="10765" y="18033"/>
                </a:moveTo>
                <a:cubicBezTo>
                  <a:pt x="10774" y="18110"/>
                  <a:pt x="10790" y="18177"/>
                  <a:pt x="10790" y="18256"/>
                </a:cubicBezTo>
                <a:cubicBezTo>
                  <a:pt x="10999" y="18121"/>
                  <a:pt x="11199" y="17974"/>
                  <a:pt x="11410" y="17835"/>
                </a:cubicBezTo>
              </a:path>
              <a:path w="6897" h="3846">
                <a:moveTo>
                  <a:pt x="8607" y="18579"/>
                </a:moveTo>
                <a:cubicBezTo>
                  <a:pt x="8607" y="18628"/>
                  <a:pt x="8607" y="18645"/>
                  <a:pt x="8607" y="18678"/>
                </a:cubicBezTo>
                <a:cubicBezTo>
                  <a:pt x="8754" y="18570"/>
                  <a:pt x="8875" y="18441"/>
                  <a:pt x="9004" y="18306"/>
                </a:cubicBezTo>
              </a:path>
              <a:path w="6897" h="3846">
                <a:moveTo>
                  <a:pt x="7069" y="17810"/>
                </a:moveTo>
                <a:cubicBezTo>
                  <a:pt x="7122" y="17823"/>
                  <a:pt x="7193" y="17934"/>
                  <a:pt x="7218" y="17934"/>
                </a:cubicBezTo>
                <a:cubicBezTo>
                  <a:pt x="7415" y="17934"/>
                  <a:pt x="7593" y="17658"/>
                  <a:pt x="7714" y="175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96000" y="2133720"/>
            <a:ext cx="1312920" cy="947520"/>
          </a:xfrm>
          <a:custGeom>
            <a:avLst/>
            <a:gdLst/>
            <a:ahLst/>
            <a:rect l="l" t="t" r="r" b="b"/>
            <a:pathLst>
              <a:path w="3648" h="2631">
                <a:moveTo>
                  <a:pt x="17165" y="6077"/>
                </a:moveTo>
                <a:cubicBezTo>
                  <a:pt x="17179" y="6077"/>
                  <a:pt x="17023" y="6426"/>
                  <a:pt x="16966" y="6524"/>
                </a:cubicBezTo>
                <a:cubicBezTo>
                  <a:pt x="16941" y="6557"/>
                  <a:pt x="16917" y="6590"/>
                  <a:pt x="16892" y="6623"/>
                </a:cubicBezTo>
                <a:cubicBezTo>
                  <a:pt x="17028" y="6436"/>
                  <a:pt x="17142" y="6239"/>
                  <a:pt x="17239" y="6028"/>
                </a:cubicBezTo>
                <a:cubicBezTo>
                  <a:pt x="17262" y="5960"/>
                  <a:pt x="17263" y="5939"/>
                  <a:pt x="17314" y="5928"/>
                </a:cubicBezTo>
                <a:cubicBezTo>
                  <a:pt x="17390" y="6089"/>
                  <a:pt x="17486" y="6253"/>
                  <a:pt x="17537" y="6424"/>
                </a:cubicBezTo>
                <a:cubicBezTo>
                  <a:pt x="17537" y="6432"/>
                  <a:pt x="17537" y="6441"/>
                  <a:pt x="17537" y="6449"/>
                </a:cubicBezTo>
              </a:path>
              <a:path w="3648" h="2631">
                <a:moveTo>
                  <a:pt x="17537" y="6449"/>
                </a:moveTo>
                <a:lnTo>
                  <a:pt x="17537" y="6449"/>
                </a:lnTo>
              </a:path>
              <a:path w="3648" h="2631">
                <a:moveTo>
                  <a:pt x="16396" y="6747"/>
                </a:moveTo>
                <a:cubicBezTo>
                  <a:pt x="16487" y="6625"/>
                  <a:pt x="16549" y="6630"/>
                  <a:pt x="16694" y="6648"/>
                </a:cubicBezTo>
                <a:cubicBezTo>
                  <a:pt x="16745" y="6835"/>
                  <a:pt x="16737" y="7068"/>
                  <a:pt x="16495" y="7144"/>
                </a:cubicBezTo>
                <a:cubicBezTo>
                  <a:pt x="16462" y="7136"/>
                  <a:pt x="16429" y="7127"/>
                  <a:pt x="16396" y="7119"/>
                </a:cubicBezTo>
                <a:cubicBezTo>
                  <a:pt x="16431" y="6955"/>
                  <a:pt x="16540" y="6894"/>
                  <a:pt x="16718" y="6995"/>
                </a:cubicBezTo>
                <a:cubicBezTo>
                  <a:pt x="16787" y="7063"/>
                  <a:pt x="16809" y="7079"/>
                  <a:pt x="16818" y="7144"/>
                </a:cubicBezTo>
              </a:path>
              <a:path w="3648" h="2631">
                <a:moveTo>
                  <a:pt x="17884" y="6648"/>
                </a:moveTo>
                <a:cubicBezTo>
                  <a:pt x="17957" y="6550"/>
                  <a:pt x="18091" y="6597"/>
                  <a:pt x="18132" y="6722"/>
                </a:cubicBezTo>
                <a:cubicBezTo>
                  <a:pt x="18198" y="6922"/>
                  <a:pt x="17951" y="6953"/>
                  <a:pt x="17835" y="6945"/>
                </a:cubicBezTo>
                <a:cubicBezTo>
                  <a:pt x="17835" y="6920"/>
                  <a:pt x="17835" y="6896"/>
                  <a:pt x="17835" y="6871"/>
                </a:cubicBezTo>
                <a:cubicBezTo>
                  <a:pt x="17933" y="6771"/>
                  <a:pt x="18016" y="6783"/>
                  <a:pt x="18132" y="6871"/>
                </a:cubicBezTo>
                <a:cubicBezTo>
                  <a:pt x="18140" y="6879"/>
                  <a:pt x="18149" y="6888"/>
                  <a:pt x="18157" y="6896"/>
                </a:cubicBezTo>
              </a:path>
              <a:path w="3648" h="2631">
                <a:moveTo>
                  <a:pt x="18604" y="6400"/>
                </a:moveTo>
                <a:cubicBezTo>
                  <a:pt x="18506" y="6463"/>
                  <a:pt x="18477" y="6421"/>
                  <a:pt x="18430" y="6548"/>
                </a:cubicBezTo>
                <a:cubicBezTo>
                  <a:pt x="18422" y="6581"/>
                  <a:pt x="18413" y="6615"/>
                  <a:pt x="18405" y="6648"/>
                </a:cubicBezTo>
                <a:cubicBezTo>
                  <a:pt x="18529" y="6586"/>
                  <a:pt x="18675" y="6508"/>
                  <a:pt x="18802" y="6623"/>
                </a:cubicBezTo>
                <a:cubicBezTo>
                  <a:pt x="18947" y="6756"/>
                  <a:pt x="18645" y="6879"/>
                  <a:pt x="18579" y="6896"/>
                </a:cubicBezTo>
              </a:path>
              <a:path w="3648" h="2631">
                <a:moveTo>
                  <a:pt x="17016" y="6672"/>
                </a:moveTo>
                <a:cubicBezTo>
                  <a:pt x="17004" y="6540"/>
                  <a:pt x="16962" y="6491"/>
                  <a:pt x="16867" y="6400"/>
                </a:cubicBezTo>
                <a:cubicBezTo>
                  <a:pt x="16779" y="6316"/>
                  <a:pt x="16609" y="6337"/>
                  <a:pt x="16495" y="6375"/>
                </a:cubicBezTo>
                <a:cubicBezTo>
                  <a:pt x="16349" y="6423"/>
                  <a:pt x="16213" y="6536"/>
                  <a:pt x="16148" y="6672"/>
                </a:cubicBezTo>
                <a:cubicBezTo>
                  <a:pt x="16042" y="6893"/>
                  <a:pt x="16105" y="7162"/>
                  <a:pt x="16222" y="7367"/>
                </a:cubicBezTo>
                <a:cubicBezTo>
                  <a:pt x="16363" y="7613"/>
                  <a:pt x="16622" y="7512"/>
                  <a:pt x="16818" y="7392"/>
                </a:cubicBezTo>
                <a:cubicBezTo>
                  <a:pt x="16977" y="7295"/>
                  <a:pt x="17122" y="7145"/>
                  <a:pt x="17090" y="6945"/>
                </a:cubicBezTo>
                <a:cubicBezTo>
                  <a:pt x="17056" y="6733"/>
                  <a:pt x="16907" y="6649"/>
                  <a:pt x="16718" y="6623"/>
                </a:cubicBezTo>
                <a:cubicBezTo>
                  <a:pt x="16710" y="6623"/>
                  <a:pt x="16702" y="6623"/>
                  <a:pt x="16694" y="6623"/>
                </a:cubicBezTo>
              </a:path>
              <a:path w="3648" h="2631">
                <a:moveTo>
                  <a:pt x="18331" y="7020"/>
                </a:moveTo>
                <a:cubicBezTo>
                  <a:pt x="18315" y="7223"/>
                  <a:pt x="18280" y="7398"/>
                  <a:pt x="18207" y="7590"/>
                </a:cubicBezTo>
                <a:cubicBezTo>
                  <a:pt x="18285" y="7433"/>
                  <a:pt x="18348" y="7271"/>
                  <a:pt x="18430" y="7119"/>
                </a:cubicBezTo>
                <a:cubicBezTo>
                  <a:pt x="18531" y="7078"/>
                  <a:pt x="18639" y="7236"/>
                  <a:pt x="18728" y="7293"/>
                </a:cubicBezTo>
                <a:cubicBezTo>
                  <a:pt x="18803" y="7341"/>
                  <a:pt x="18841" y="7356"/>
                  <a:pt x="18901" y="7417"/>
                </a:cubicBezTo>
              </a:path>
              <a:path w="3648" h="2631">
                <a:moveTo>
                  <a:pt x="18306" y="7739"/>
                </a:moveTo>
                <a:cubicBezTo>
                  <a:pt x="18109" y="7749"/>
                  <a:pt x="18060" y="7739"/>
                  <a:pt x="18033" y="7938"/>
                </a:cubicBezTo>
                <a:cubicBezTo>
                  <a:pt x="18152" y="7911"/>
                  <a:pt x="18238" y="7897"/>
                  <a:pt x="18355" y="7913"/>
                </a:cubicBezTo>
                <a:cubicBezTo>
                  <a:pt x="18315" y="8139"/>
                  <a:pt x="18255" y="8177"/>
                  <a:pt x="18033" y="8210"/>
                </a:cubicBezTo>
              </a:path>
              <a:path w="3648" h="2631">
                <a:moveTo>
                  <a:pt x="19397" y="7342"/>
                </a:moveTo>
                <a:cubicBezTo>
                  <a:pt x="19329" y="7403"/>
                  <a:pt x="19198" y="7421"/>
                  <a:pt x="19149" y="7466"/>
                </a:cubicBezTo>
                <a:cubicBezTo>
                  <a:pt x="19120" y="7493"/>
                  <a:pt x="19107" y="7555"/>
                  <a:pt x="19100" y="7590"/>
                </a:cubicBezTo>
                <a:cubicBezTo>
                  <a:pt x="19203" y="7590"/>
                  <a:pt x="19301" y="7582"/>
                  <a:pt x="19397" y="7615"/>
                </a:cubicBezTo>
                <a:cubicBezTo>
                  <a:pt x="19355" y="7726"/>
                  <a:pt x="19309" y="7887"/>
                  <a:pt x="19149" y="7863"/>
                </a:cubicBezTo>
                <a:cubicBezTo>
                  <a:pt x="19133" y="7855"/>
                  <a:pt x="19116" y="7846"/>
                  <a:pt x="19100" y="7838"/>
                </a:cubicBezTo>
              </a:path>
              <a:path w="3648" h="2631">
                <a:moveTo>
                  <a:pt x="18231" y="7541"/>
                </a:moveTo>
                <a:cubicBezTo>
                  <a:pt x="18062" y="7565"/>
                  <a:pt x="17891" y="7593"/>
                  <a:pt x="17760" y="7714"/>
                </a:cubicBezTo>
                <a:cubicBezTo>
                  <a:pt x="17573" y="7888"/>
                  <a:pt x="17525" y="8289"/>
                  <a:pt x="17711" y="8483"/>
                </a:cubicBezTo>
                <a:cubicBezTo>
                  <a:pt x="17954" y="8737"/>
                  <a:pt x="18445" y="8431"/>
                  <a:pt x="18579" y="8210"/>
                </a:cubicBezTo>
                <a:cubicBezTo>
                  <a:pt x="18749" y="7930"/>
                  <a:pt x="18531" y="7640"/>
                  <a:pt x="18281" y="7541"/>
                </a:cubicBezTo>
                <a:cubicBezTo>
                  <a:pt x="18231" y="7533"/>
                  <a:pt x="18182" y="7524"/>
                  <a:pt x="18132" y="7516"/>
                </a:cubicBezTo>
              </a:path>
              <a:path w="3648" h="2631">
                <a:moveTo>
                  <a:pt x="19100" y="7243"/>
                </a:moveTo>
                <a:cubicBezTo>
                  <a:pt x="18987" y="7307"/>
                  <a:pt x="18923" y="7419"/>
                  <a:pt x="18876" y="7541"/>
                </a:cubicBezTo>
                <a:cubicBezTo>
                  <a:pt x="18794" y="7754"/>
                  <a:pt x="18786" y="8034"/>
                  <a:pt x="19075" y="8086"/>
                </a:cubicBezTo>
                <a:cubicBezTo>
                  <a:pt x="19295" y="8126"/>
                  <a:pt x="19675" y="8082"/>
                  <a:pt x="19745" y="7813"/>
                </a:cubicBezTo>
                <a:cubicBezTo>
                  <a:pt x="19796" y="7616"/>
                  <a:pt x="19712" y="7302"/>
                  <a:pt x="19521" y="7218"/>
                </a:cubicBezTo>
                <a:cubicBezTo>
                  <a:pt x="19350" y="7170"/>
                  <a:pt x="19294" y="7153"/>
                  <a:pt x="19174" y="71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892840" y="2928960"/>
            <a:ext cx="831960" cy="615960"/>
          </a:xfrm>
          <a:custGeom>
            <a:avLst/>
            <a:gdLst/>
            <a:ahLst/>
            <a:rect l="l" t="t" r="r" b="b"/>
            <a:pathLst>
              <a:path w="2308" h="1712">
                <a:moveTo>
                  <a:pt x="16446" y="9252"/>
                </a:moveTo>
                <a:cubicBezTo>
                  <a:pt x="16471" y="9123"/>
                  <a:pt x="16654" y="9117"/>
                  <a:pt x="16743" y="9203"/>
                </a:cubicBezTo>
                <a:cubicBezTo>
                  <a:pt x="16961" y="9413"/>
                  <a:pt x="16720" y="9773"/>
                  <a:pt x="16495" y="9847"/>
                </a:cubicBezTo>
                <a:cubicBezTo>
                  <a:pt x="16462" y="9839"/>
                  <a:pt x="16429" y="9831"/>
                  <a:pt x="16396" y="9823"/>
                </a:cubicBezTo>
                <a:cubicBezTo>
                  <a:pt x="16384" y="9628"/>
                  <a:pt x="16433" y="9484"/>
                  <a:pt x="16669" y="9475"/>
                </a:cubicBezTo>
                <a:cubicBezTo>
                  <a:pt x="16814" y="9470"/>
                  <a:pt x="16830" y="9513"/>
                  <a:pt x="16917" y="9599"/>
                </a:cubicBezTo>
              </a:path>
              <a:path w="2308" h="1712">
                <a:moveTo>
                  <a:pt x="17289" y="9153"/>
                </a:moveTo>
                <a:cubicBezTo>
                  <a:pt x="17389" y="9284"/>
                  <a:pt x="17477" y="9406"/>
                  <a:pt x="17611" y="9500"/>
                </a:cubicBezTo>
              </a:path>
              <a:path w="2308" h="1712">
                <a:moveTo>
                  <a:pt x="17562" y="9029"/>
                </a:moveTo>
                <a:cubicBezTo>
                  <a:pt x="17438" y="9218"/>
                  <a:pt x="17371" y="9370"/>
                  <a:pt x="17338" y="9599"/>
                </a:cubicBezTo>
              </a:path>
              <a:path w="2308" h="1712">
                <a:moveTo>
                  <a:pt x="18182" y="9054"/>
                </a:moveTo>
                <a:cubicBezTo>
                  <a:pt x="18121" y="9088"/>
                  <a:pt x="17974" y="9139"/>
                  <a:pt x="17934" y="9178"/>
                </a:cubicBezTo>
                <a:cubicBezTo>
                  <a:pt x="17877" y="9235"/>
                  <a:pt x="17909" y="9379"/>
                  <a:pt x="17909" y="9451"/>
                </a:cubicBezTo>
                <a:cubicBezTo>
                  <a:pt x="17985" y="9402"/>
                  <a:pt x="18280" y="9181"/>
                  <a:pt x="18355" y="9351"/>
                </a:cubicBezTo>
                <a:cubicBezTo>
                  <a:pt x="18441" y="9546"/>
                  <a:pt x="18129" y="9630"/>
                  <a:pt x="18033" y="9674"/>
                </a:cubicBezTo>
              </a:path>
              <a:path w="2308" h="1712">
                <a:moveTo>
                  <a:pt x="18231" y="8607"/>
                </a:moveTo>
                <a:cubicBezTo>
                  <a:pt x="18248" y="8624"/>
                  <a:pt x="18264" y="8640"/>
                  <a:pt x="18281" y="8657"/>
                </a:cubicBezTo>
                <a:cubicBezTo>
                  <a:pt x="18426" y="8511"/>
                  <a:pt x="18525" y="8309"/>
                  <a:pt x="18653" y="8136"/>
                </a:cubicBezTo>
              </a:path>
              <a:path w="2308" h="1712">
                <a:moveTo>
                  <a:pt x="18380" y="8830"/>
                </a:moveTo>
                <a:cubicBezTo>
                  <a:pt x="18461" y="8741"/>
                  <a:pt x="18458" y="8741"/>
                  <a:pt x="18579" y="8731"/>
                </a:cubicBezTo>
                <a:cubicBezTo>
                  <a:pt x="18607" y="8854"/>
                  <a:pt x="18636" y="8968"/>
                  <a:pt x="18479" y="9004"/>
                </a:cubicBezTo>
                <a:cubicBezTo>
                  <a:pt x="18411" y="9004"/>
                  <a:pt x="18389" y="9009"/>
                  <a:pt x="18380" y="8954"/>
                </a:cubicBezTo>
                <a:cubicBezTo>
                  <a:pt x="18497" y="8941"/>
                  <a:pt x="18562" y="8946"/>
                  <a:pt x="18678" y="89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85000" y="2813040"/>
            <a:ext cx="142920" cy="108000"/>
          </a:xfrm>
          <a:custGeom>
            <a:avLst/>
            <a:gdLst/>
            <a:ahLst/>
            <a:rect l="l" t="t" r="r" b="b"/>
            <a:pathLst>
              <a:path w="398" h="299">
                <a:moveTo>
                  <a:pt x="19124" y="7987"/>
                </a:moveTo>
                <a:cubicBezTo>
                  <a:pt x="19302" y="8217"/>
                  <a:pt x="19368" y="8008"/>
                  <a:pt x="19521" y="78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280" y="5634000"/>
            <a:ext cx="1009800" cy="457200"/>
          </a:xfrm>
          <a:custGeom>
            <a:avLst/>
            <a:gdLst/>
            <a:ahLst/>
            <a:rect l="l" t="t" r="r" b="b"/>
            <a:pathLst>
              <a:path w="2804" h="1266">
                <a:moveTo>
                  <a:pt x="496" y="16123"/>
                </a:moveTo>
                <a:cubicBezTo>
                  <a:pt x="459" y="16196"/>
                  <a:pt x="442" y="16201"/>
                  <a:pt x="446" y="16247"/>
                </a:cubicBezTo>
                <a:cubicBezTo>
                  <a:pt x="546" y="16160"/>
                  <a:pt x="656" y="16161"/>
                  <a:pt x="670" y="16346"/>
                </a:cubicBezTo>
                <a:cubicBezTo>
                  <a:pt x="688" y="16579"/>
                  <a:pt x="477" y="16846"/>
                  <a:pt x="248" y="16892"/>
                </a:cubicBezTo>
                <a:cubicBezTo>
                  <a:pt x="215" y="16884"/>
                  <a:pt x="182" y="16875"/>
                  <a:pt x="149" y="16867"/>
                </a:cubicBezTo>
                <a:cubicBezTo>
                  <a:pt x="127" y="16686"/>
                  <a:pt x="161" y="16489"/>
                  <a:pt x="422" y="16570"/>
                </a:cubicBezTo>
                <a:cubicBezTo>
                  <a:pt x="594" y="16623"/>
                  <a:pt x="650" y="16762"/>
                  <a:pt x="670" y="16917"/>
                </a:cubicBezTo>
              </a:path>
              <a:path w="2804" h="1266">
                <a:moveTo>
                  <a:pt x="670" y="15677"/>
                </a:moveTo>
                <a:cubicBezTo>
                  <a:pt x="602" y="15609"/>
                  <a:pt x="786" y="15686"/>
                  <a:pt x="819" y="15776"/>
                </a:cubicBezTo>
                <a:cubicBezTo>
                  <a:pt x="819" y="15827"/>
                  <a:pt x="817" y="15845"/>
                  <a:pt x="769" y="15850"/>
                </a:cubicBezTo>
                <a:cubicBezTo>
                  <a:pt x="837" y="15874"/>
                  <a:pt x="1022" y="15965"/>
                  <a:pt x="893" y="16073"/>
                </a:cubicBezTo>
                <a:cubicBezTo>
                  <a:pt x="832" y="16124"/>
                  <a:pt x="757" y="16100"/>
                  <a:pt x="695" y="16073"/>
                </a:cubicBezTo>
              </a:path>
              <a:path w="2804" h="1266">
                <a:moveTo>
                  <a:pt x="1067" y="16098"/>
                </a:moveTo>
                <a:cubicBezTo>
                  <a:pt x="1081" y="16226"/>
                  <a:pt x="1153" y="16300"/>
                  <a:pt x="1240" y="16396"/>
                </a:cubicBezTo>
                <a:cubicBezTo>
                  <a:pt x="1278" y="16438"/>
                  <a:pt x="1323" y="16479"/>
                  <a:pt x="1364" y="16520"/>
                </a:cubicBezTo>
              </a:path>
              <a:path w="2804" h="1266">
                <a:moveTo>
                  <a:pt x="1315" y="15999"/>
                </a:moveTo>
                <a:cubicBezTo>
                  <a:pt x="1265" y="16137"/>
                  <a:pt x="1214" y="16281"/>
                  <a:pt x="1166" y="16421"/>
                </a:cubicBezTo>
                <a:cubicBezTo>
                  <a:pt x="1158" y="16454"/>
                  <a:pt x="1149" y="16487"/>
                  <a:pt x="1141" y="16520"/>
                </a:cubicBezTo>
              </a:path>
              <a:path w="2804" h="1266">
                <a:moveTo>
                  <a:pt x="1736" y="16148"/>
                </a:moveTo>
                <a:cubicBezTo>
                  <a:pt x="1796" y="16178"/>
                  <a:pt x="1822" y="16180"/>
                  <a:pt x="1860" y="16123"/>
                </a:cubicBezTo>
                <a:cubicBezTo>
                  <a:pt x="1952" y="16214"/>
                  <a:pt x="1970" y="16266"/>
                  <a:pt x="1935" y="16396"/>
                </a:cubicBezTo>
                <a:cubicBezTo>
                  <a:pt x="1903" y="16514"/>
                  <a:pt x="2009" y="16502"/>
                  <a:pt x="2009" y="16619"/>
                </a:cubicBezTo>
                <a:cubicBezTo>
                  <a:pt x="2009" y="16757"/>
                  <a:pt x="1811" y="16781"/>
                  <a:pt x="1712" y="16768"/>
                </a:cubicBezTo>
                <a:cubicBezTo>
                  <a:pt x="1651" y="16748"/>
                  <a:pt x="1616" y="16750"/>
                  <a:pt x="1662" y="16718"/>
                </a:cubicBezTo>
              </a:path>
              <a:path w="2804" h="1266">
                <a:moveTo>
                  <a:pt x="2108" y="16321"/>
                </a:moveTo>
                <a:cubicBezTo>
                  <a:pt x="2241" y="16399"/>
                  <a:pt x="2305" y="16520"/>
                  <a:pt x="2406" y="16644"/>
                </a:cubicBezTo>
                <a:cubicBezTo>
                  <a:pt x="2414" y="16652"/>
                  <a:pt x="2423" y="16661"/>
                  <a:pt x="2431" y="16669"/>
                </a:cubicBezTo>
              </a:path>
              <a:path w="2804" h="1266">
                <a:moveTo>
                  <a:pt x="2406" y="16272"/>
                </a:moveTo>
                <a:cubicBezTo>
                  <a:pt x="2362" y="16404"/>
                  <a:pt x="2306" y="16536"/>
                  <a:pt x="2282" y="16669"/>
                </a:cubicBezTo>
              </a:path>
              <a:path w="2804" h="1266">
                <a:moveTo>
                  <a:pt x="2927" y="16098"/>
                </a:moveTo>
                <a:cubicBezTo>
                  <a:pt x="2884" y="16171"/>
                  <a:pt x="2819" y="16192"/>
                  <a:pt x="2729" y="16197"/>
                </a:cubicBezTo>
                <a:cubicBezTo>
                  <a:pt x="2587" y="16204"/>
                  <a:pt x="2609" y="16255"/>
                  <a:pt x="2604" y="16396"/>
                </a:cubicBezTo>
                <a:cubicBezTo>
                  <a:pt x="2604" y="16413"/>
                  <a:pt x="2604" y="16429"/>
                  <a:pt x="2604" y="16446"/>
                </a:cubicBezTo>
                <a:cubicBezTo>
                  <a:pt x="2715" y="16397"/>
                  <a:pt x="2824" y="16365"/>
                  <a:pt x="2902" y="16495"/>
                </a:cubicBezTo>
                <a:cubicBezTo>
                  <a:pt x="2989" y="16640"/>
                  <a:pt x="2861" y="16758"/>
                  <a:pt x="2729" y="16793"/>
                </a:cubicBezTo>
                <a:cubicBezTo>
                  <a:pt x="2653" y="16793"/>
                  <a:pt x="2627" y="16793"/>
                  <a:pt x="2580" y="167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84880" y="4776840"/>
            <a:ext cx="3036960" cy="2036880"/>
          </a:xfrm>
          <a:custGeom>
            <a:avLst/>
            <a:gdLst/>
            <a:ahLst/>
            <a:rect l="l" t="t" r="r" b="b"/>
            <a:pathLst>
              <a:path w="8435" h="5656">
                <a:moveTo>
                  <a:pt x="16396" y="15825"/>
                </a:moveTo>
                <a:cubicBezTo>
                  <a:pt x="16463" y="15803"/>
                  <a:pt x="16450" y="15722"/>
                  <a:pt x="16545" y="15701"/>
                </a:cubicBezTo>
                <a:cubicBezTo>
                  <a:pt x="16787" y="15648"/>
                  <a:pt x="16682" y="16061"/>
                  <a:pt x="16619" y="16148"/>
                </a:cubicBezTo>
                <a:cubicBezTo>
                  <a:pt x="16553" y="16239"/>
                  <a:pt x="16356" y="16351"/>
                  <a:pt x="16247" y="16297"/>
                </a:cubicBezTo>
                <a:cubicBezTo>
                  <a:pt x="16239" y="16289"/>
                  <a:pt x="16230" y="16280"/>
                  <a:pt x="16222" y="16272"/>
                </a:cubicBezTo>
                <a:cubicBezTo>
                  <a:pt x="16222" y="16174"/>
                  <a:pt x="16236" y="16210"/>
                  <a:pt x="16321" y="16173"/>
                </a:cubicBezTo>
                <a:cubicBezTo>
                  <a:pt x="16438" y="16122"/>
                  <a:pt x="16491" y="16183"/>
                  <a:pt x="16594" y="16247"/>
                </a:cubicBezTo>
                <a:cubicBezTo>
                  <a:pt x="16723" y="16328"/>
                  <a:pt x="16789" y="16291"/>
                  <a:pt x="16917" y="16222"/>
                </a:cubicBezTo>
              </a:path>
              <a:path w="8435" h="5656">
                <a:moveTo>
                  <a:pt x="17090" y="15850"/>
                </a:moveTo>
                <a:cubicBezTo>
                  <a:pt x="16974" y="15816"/>
                  <a:pt x="16903" y="15983"/>
                  <a:pt x="16892" y="16098"/>
                </a:cubicBezTo>
                <a:cubicBezTo>
                  <a:pt x="16900" y="16131"/>
                  <a:pt x="16909" y="16164"/>
                  <a:pt x="16917" y="16197"/>
                </a:cubicBezTo>
                <a:cubicBezTo>
                  <a:pt x="17080" y="16227"/>
                  <a:pt x="17246" y="16168"/>
                  <a:pt x="17289" y="15974"/>
                </a:cubicBezTo>
                <a:cubicBezTo>
                  <a:pt x="17335" y="15765"/>
                  <a:pt x="17056" y="15886"/>
                  <a:pt x="16991" y="15900"/>
                </a:cubicBezTo>
              </a:path>
              <a:path w="8435" h="5656">
                <a:moveTo>
                  <a:pt x="17711" y="15553"/>
                </a:moveTo>
                <a:cubicBezTo>
                  <a:pt x="17639" y="15640"/>
                  <a:pt x="17578" y="15732"/>
                  <a:pt x="17512" y="15825"/>
                </a:cubicBezTo>
                <a:cubicBezTo>
                  <a:pt x="17548" y="15754"/>
                  <a:pt x="17683" y="15484"/>
                  <a:pt x="17785" y="15478"/>
                </a:cubicBezTo>
                <a:cubicBezTo>
                  <a:pt x="17885" y="15472"/>
                  <a:pt x="18134" y="15689"/>
                  <a:pt x="18256" y="15726"/>
                </a:cubicBezTo>
                <a:cubicBezTo>
                  <a:pt x="18281" y="15734"/>
                  <a:pt x="18306" y="15743"/>
                  <a:pt x="18331" y="15751"/>
                </a:cubicBezTo>
              </a:path>
              <a:path w="8435" h="5656">
                <a:moveTo>
                  <a:pt x="18951" y="15652"/>
                </a:moveTo>
                <a:cubicBezTo>
                  <a:pt x="18924" y="15759"/>
                  <a:pt x="18881" y="15933"/>
                  <a:pt x="18901" y="16049"/>
                </a:cubicBezTo>
                <a:cubicBezTo>
                  <a:pt x="18930" y="16220"/>
                  <a:pt x="19134" y="16117"/>
                  <a:pt x="19224" y="16073"/>
                </a:cubicBezTo>
                <a:cubicBezTo>
                  <a:pt x="19331" y="16021"/>
                  <a:pt x="19365" y="15990"/>
                  <a:pt x="19422" y="15900"/>
                </a:cubicBezTo>
                <a:cubicBezTo>
                  <a:pt x="19348" y="15796"/>
                  <a:pt x="19291" y="15801"/>
                  <a:pt x="19199" y="15900"/>
                </a:cubicBezTo>
                <a:cubicBezTo>
                  <a:pt x="19108" y="15998"/>
                  <a:pt x="19113" y="16016"/>
                  <a:pt x="19149" y="16123"/>
                </a:cubicBezTo>
              </a:path>
              <a:path w="8435" h="5656">
                <a:moveTo>
                  <a:pt x="16594" y="16421"/>
                </a:moveTo>
                <a:cubicBezTo>
                  <a:pt x="16460" y="16617"/>
                  <a:pt x="16376" y="16846"/>
                  <a:pt x="16272" y="17066"/>
                </a:cubicBezTo>
                <a:cubicBezTo>
                  <a:pt x="16336" y="16916"/>
                  <a:pt x="16417" y="16762"/>
                  <a:pt x="16495" y="16619"/>
                </a:cubicBezTo>
                <a:cubicBezTo>
                  <a:pt x="16539" y="16554"/>
                  <a:pt x="16545" y="16535"/>
                  <a:pt x="16594" y="16520"/>
                </a:cubicBezTo>
                <a:cubicBezTo>
                  <a:pt x="16764" y="16610"/>
                  <a:pt x="16803" y="16737"/>
                  <a:pt x="16917" y="16892"/>
                </a:cubicBezTo>
                <a:cubicBezTo>
                  <a:pt x="16975" y="16950"/>
                  <a:pt x="16983" y="16958"/>
                  <a:pt x="17016" y="16991"/>
                </a:cubicBezTo>
              </a:path>
              <a:path w="8435" h="5656">
                <a:moveTo>
                  <a:pt x="16247" y="17239"/>
                </a:moveTo>
                <a:cubicBezTo>
                  <a:pt x="16168" y="17266"/>
                  <a:pt x="16014" y="17250"/>
                  <a:pt x="15949" y="17289"/>
                </a:cubicBezTo>
                <a:cubicBezTo>
                  <a:pt x="15914" y="17310"/>
                  <a:pt x="15906" y="17481"/>
                  <a:pt x="15900" y="17512"/>
                </a:cubicBezTo>
                <a:cubicBezTo>
                  <a:pt x="15977" y="17505"/>
                  <a:pt x="16217" y="17412"/>
                  <a:pt x="16173" y="17587"/>
                </a:cubicBezTo>
                <a:cubicBezTo>
                  <a:pt x="16128" y="17765"/>
                  <a:pt x="15896" y="17712"/>
                  <a:pt x="15776" y="17686"/>
                </a:cubicBezTo>
              </a:path>
              <a:path w="8435" h="5656">
                <a:moveTo>
                  <a:pt x="16917" y="17090"/>
                </a:moveTo>
                <a:cubicBezTo>
                  <a:pt x="16942" y="17190"/>
                  <a:pt x="16950" y="17223"/>
                  <a:pt x="16917" y="17289"/>
                </a:cubicBezTo>
                <a:cubicBezTo>
                  <a:pt x="17040" y="17277"/>
                  <a:pt x="17122" y="17256"/>
                  <a:pt x="17239" y="17214"/>
                </a:cubicBezTo>
              </a:path>
              <a:path w="8435" h="5656">
                <a:moveTo>
                  <a:pt x="17190" y="16966"/>
                </a:moveTo>
                <a:cubicBezTo>
                  <a:pt x="17190" y="17123"/>
                  <a:pt x="17190" y="17281"/>
                  <a:pt x="17190" y="17438"/>
                </a:cubicBezTo>
              </a:path>
              <a:path w="8435" h="5656">
                <a:moveTo>
                  <a:pt x="15503" y="17884"/>
                </a:moveTo>
                <a:cubicBezTo>
                  <a:pt x="15701" y="18026"/>
                  <a:pt x="15816" y="18131"/>
                  <a:pt x="16073" y="18033"/>
                </a:cubicBezTo>
                <a:cubicBezTo>
                  <a:pt x="16310" y="17943"/>
                  <a:pt x="16653" y="17690"/>
                  <a:pt x="16594" y="17388"/>
                </a:cubicBezTo>
                <a:cubicBezTo>
                  <a:pt x="16524" y="17034"/>
                  <a:pt x="16113" y="17052"/>
                  <a:pt x="15850" y="17090"/>
                </a:cubicBezTo>
                <a:cubicBezTo>
                  <a:pt x="15546" y="17134"/>
                  <a:pt x="15272" y="17209"/>
                  <a:pt x="15280" y="17562"/>
                </a:cubicBezTo>
                <a:cubicBezTo>
                  <a:pt x="15288" y="17900"/>
                  <a:pt x="15440" y="17976"/>
                  <a:pt x="15677" y="18157"/>
                </a:cubicBezTo>
              </a:path>
              <a:path w="8435" h="5656">
                <a:moveTo>
                  <a:pt x="17165" y="17636"/>
                </a:moveTo>
                <a:cubicBezTo>
                  <a:pt x="17087" y="17781"/>
                  <a:pt x="17054" y="17922"/>
                  <a:pt x="17016" y="18083"/>
                </a:cubicBezTo>
                <a:cubicBezTo>
                  <a:pt x="17032" y="17921"/>
                  <a:pt x="17051" y="17784"/>
                  <a:pt x="17115" y="17636"/>
                </a:cubicBezTo>
                <a:cubicBezTo>
                  <a:pt x="17123" y="17620"/>
                  <a:pt x="17132" y="17603"/>
                  <a:pt x="17140" y="17587"/>
                </a:cubicBezTo>
                <a:cubicBezTo>
                  <a:pt x="17258" y="17606"/>
                  <a:pt x="17340" y="17692"/>
                  <a:pt x="17413" y="17785"/>
                </a:cubicBezTo>
                <a:cubicBezTo>
                  <a:pt x="17421" y="17802"/>
                  <a:pt x="17430" y="17818"/>
                  <a:pt x="17438" y="17835"/>
                </a:cubicBezTo>
              </a:path>
              <a:path w="8435" h="5656">
                <a:moveTo>
                  <a:pt x="16942" y="18355"/>
                </a:moveTo>
                <a:cubicBezTo>
                  <a:pt x="16917" y="18289"/>
                  <a:pt x="16907" y="18289"/>
                  <a:pt x="16942" y="18231"/>
                </a:cubicBezTo>
                <a:cubicBezTo>
                  <a:pt x="17112" y="18232"/>
                  <a:pt x="17225" y="18361"/>
                  <a:pt x="17090" y="18554"/>
                </a:cubicBezTo>
                <a:cubicBezTo>
                  <a:pt x="16992" y="18694"/>
                  <a:pt x="16910" y="18689"/>
                  <a:pt x="16793" y="18653"/>
                </a:cubicBezTo>
                <a:cubicBezTo>
                  <a:pt x="16877" y="18519"/>
                  <a:pt x="16985" y="18560"/>
                  <a:pt x="17140" y="18579"/>
                </a:cubicBezTo>
                <a:cubicBezTo>
                  <a:pt x="17157" y="18579"/>
                  <a:pt x="17173" y="18579"/>
                  <a:pt x="17190" y="18579"/>
                </a:cubicBezTo>
              </a:path>
              <a:path w="8435" h="5656">
                <a:moveTo>
                  <a:pt x="17686" y="17884"/>
                </a:moveTo>
                <a:cubicBezTo>
                  <a:pt x="17840" y="17861"/>
                  <a:pt x="17889" y="17858"/>
                  <a:pt x="18033" y="17909"/>
                </a:cubicBezTo>
                <a:cubicBezTo>
                  <a:pt x="18043" y="18069"/>
                  <a:pt x="17982" y="18264"/>
                  <a:pt x="17760" y="18256"/>
                </a:cubicBezTo>
                <a:cubicBezTo>
                  <a:pt x="17752" y="18240"/>
                  <a:pt x="17743" y="18223"/>
                  <a:pt x="17735" y="18207"/>
                </a:cubicBezTo>
                <a:cubicBezTo>
                  <a:pt x="17848" y="18061"/>
                  <a:pt x="17881" y="18061"/>
                  <a:pt x="18033" y="18182"/>
                </a:cubicBezTo>
              </a:path>
              <a:path w="8435" h="5656">
                <a:moveTo>
                  <a:pt x="17785" y="18430"/>
                </a:moveTo>
                <a:cubicBezTo>
                  <a:pt x="18040" y="18389"/>
                  <a:pt x="18303" y="18287"/>
                  <a:pt x="18405" y="18008"/>
                </a:cubicBezTo>
                <a:cubicBezTo>
                  <a:pt x="18526" y="17677"/>
                  <a:pt x="18290" y="17493"/>
                  <a:pt x="17983" y="17537"/>
                </a:cubicBezTo>
                <a:cubicBezTo>
                  <a:pt x="17595" y="17593"/>
                  <a:pt x="17388" y="17896"/>
                  <a:pt x="17388" y="18281"/>
                </a:cubicBezTo>
                <a:cubicBezTo>
                  <a:pt x="17388" y="18604"/>
                  <a:pt x="17737" y="18484"/>
                  <a:pt x="17934" y="18479"/>
                </a:cubicBezTo>
              </a:path>
              <a:path w="8435" h="5656">
                <a:moveTo>
                  <a:pt x="16842" y="18901"/>
                </a:moveTo>
                <a:cubicBezTo>
                  <a:pt x="17060" y="18921"/>
                  <a:pt x="17224" y="18904"/>
                  <a:pt x="17413" y="18777"/>
                </a:cubicBezTo>
                <a:cubicBezTo>
                  <a:pt x="17595" y="18655"/>
                  <a:pt x="17719" y="18344"/>
                  <a:pt x="17537" y="18157"/>
                </a:cubicBezTo>
                <a:cubicBezTo>
                  <a:pt x="17309" y="17924"/>
                  <a:pt x="16888" y="18194"/>
                  <a:pt x="16718" y="18355"/>
                </a:cubicBezTo>
                <a:cubicBezTo>
                  <a:pt x="16556" y="18565"/>
                  <a:pt x="16502" y="18622"/>
                  <a:pt x="16495" y="18802"/>
                </a:cubicBezTo>
                <a:cubicBezTo>
                  <a:pt x="16706" y="18963"/>
                  <a:pt x="16752" y="18912"/>
                  <a:pt x="17041" y="18876"/>
                </a:cubicBezTo>
              </a:path>
              <a:path w="8435" h="5656">
                <a:moveTo>
                  <a:pt x="19273" y="16173"/>
                </a:moveTo>
                <a:cubicBezTo>
                  <a:pt x="19273" y="16358"/>
                  <a:pt x="19263" y="16535"/>
                  <a:pt x="19248" y="16718"/>
                </a:cubicBezTo>
                <a:cubicBezTo>
                  <a:pt x="19271" y="16551"/>
                  <a:pt x="19273" y="16391"/>
                  <a:pt x="19273" y="16222"/>
                </a:cubicBezTo>
                <a:cubicBezTo>
                  <a:pt x="19433" y="16329"/>
                  <a:pt x="19586" y="16433"/>
                  <a:pt x="19769" y="16495"/>
                </a:cubicBezTo>
                <a:cubicBezTo>
                  <a:pt x="19853" y="16516"/>
                  <a:pt x="19873" y="16517"/>
                  <a:pt x="19918" y="16545"/>
                </a:cubicBezTo>
              </a:path>
              <a:path w="8435" h="5656">
                <a:moveTo>
                  <a:pt x="19199" y="16991"/>
                </a:moveTo>
                <a:cubicBezTo>
                  <a:pt x="19266" y="16967"/>
                  <a:pt x="19330" y="16941"/>
                  <a:pt x="19397" y="16917"/>
                </a:cubicBezTo>
                <a:cubicBezTo>
                  <a:pt x="19425" y="17101"/>
                  <a:pt x="19426" y="17090"/>
                  <a:pt x="19298" y="17239"/>
                </a:cubicBezTo>
                <a:cubicBezTo>
                  <a:pt x="19375" y="17162"/>
                  <a:pt x="19430" y="17199"/>
                  <a:pt x="19521" y="17264"/>
                </a:cubicBezTo>
                <a:cubicBezTo>
                  <a:pt x="19423" y="17412"/>
                  <a:pt x="19366" y="17489"/>
                  <a:pt x="19199" y="17413"/>
                </a:cubicBezTo>
              </a:path>
              <a:path w="8435" h="5656">
                <a:moveTo>
                  <a:pt x="20241" y="16793"/>
                </a:moveTo>
                <a:cubicBezTo>
                  <a:pt x="20301" y="16652"/>
                  <a:pt x="20454" y="16711"/>
                  <a:pt x="20588" y="16743"/>
                </a:cubicBezTo>
                <a:cubicBezTo>
                  <a:pt x="20634" y="16937"/>
                  <a:pt x="20583" y="17076"/>
                  <a:pt x="20340" y="17090"/>
                </a:cubicBezTo>
                <a:cubicBezTo>
                  <a:pt x="20315" y="17082"/>
                  <a:pt x="20290" y="17074"/>
                  <a:pt x="20265" y="17066"/>
                </a:cubicBezTo>
                <a:cubicBezTo>
                  <a:pt x="20377" y="16925"/>
                  <a:pt x="20481" y="16975"/>
                  <a:pt x="20662" y="17016"/>
                </a:cubicBezTo>
              </a:path>
              <a:path w="8435" h="5656">
                <a:moveTo>
                  <a:pt x="20216" y="17314"/>
                </a:moveTo>
                <a:cubicBezTo>
                  <a:pt x="20478" y="17341"/>
                  <a:pt x="20691" y="17262"/>
                  <a:pt x="20886" y="17066"/>
                </a:cubicBezTo>
                <a:cubicBezTo>
                  <a:pt x="21099" y="16852"/>
                  <a:pt x="21192" y="16494"/>
                  <a:pt x="20910" y="16297"/>
                </a:cubicBezTo>
                <a:cubicBezTo>
                  <a:pt x="20582" y="16068"/>
                  <a:pt x="20088" y="16382"/>
                  <a:pt x="19993" y="16718"/>
                </a:cubicBezTo>
                <a:cubicBezTo>
                  <a:pt x="19868" y="17160"/>
                  <a:pt x="20182" y="17272"/>
                  <a:pt x="20513" y="17338"/>
                </a:cubicBezTo>
              </a:path>
              <a:path w="8435" h="5656">
                <a:moveTo>
                  <a:pt x="19075" y="17760"/>
                </a:moveTo>
                <a:cubicBezTo>
                  <a:pt x="19317" y="17893"/>
                  <a:pt x="19439" y="17915"/>
                  <a:pt x="19695" y="17760"/>
                </a:cubicBezTo>
                <a:cubicBezTo>
                  <a:pt x="20093" y="17519"/>
                  <a:pt x="20192" y="16994"/>
                  <a:pt x="19745" y="16743"/>
                </a:cubicBezTo>
                <a:cubicBezTo>
                  <a:pt x="19536" y="16626"/>
                  <a:pt x="19109" y="16574"/>
                  <a:pt x="18901" y="16718"/>
                </a:cubicBezTo>
                <a:cubicBezTo>
                  <a:pt x="18614" y="16916"/>
                  <a:pt x="18497" y="17451"/>
                  <a:pt x="18728" y="17735"/>
                </a:cubicBezTo>
                <a:cubicBezTo>
                  <a:pt x="18933" y="17987"/>
                  <a:pt x="19247" y="17854"/>
                  <a:pt x="19496" y="17810"/>
                </a:cubicBezTo>
              </a:path>
              <a:path w="8435" h="5656">
                <a:moveTo>
                  <a:pt x="20117" y="13990"/>
                </a:moveTo>
                <a:cubicBezTo>
                  <a:pt x="20081" y="14046"/>
                  <a:pt x="20037" y="14189"/>
                  <a:pt x="20017" y="14089"/>
                </a:cubicBezTo>
                <a:cubicBezTo>
                  <a:pt x="20056" y="14021"/>
                  <a:pt x="20152" y="13924"/>
                  <a:pt x="20241" y="13940"/>
                </a:cubicBezTo>
                <a:cubicBezTo>
                  <a:pt x="20468" y="13981"/>
                  <a:pt x="20350" y="14438"/>
                  <a:pt x="20290" y="14536"/>
                </a:cubicBezTo>
                <a:cubicBezTo>
                  <a:pt x="20167" y="14738"/>
                  <a:pt x="20036" y="14774"/>
                  <a:pt x="19844" y="14784"/>
                </a:cubicBezTo>
                <a:cubicBezTo>
                  <a:pt x="19771" y="14627"/>
                  <a:pt x="19791" y="14480"/>
                  <a:pt x="20017" y="14461"/>
                </a:cubicBezTo>
                <a:cubicBezTo>
                  <a:pt x="20208" y="14445"/>
                  <a:pt x="20415" y="14525"/>
                  <a:pt x="20489" y="14709"/>
                </a:cubicBezTo>
                <a:cubicBezTo>
                  <a:pt x="20489" y="14717"/>
                  <a:pt x="20489" y="14726"/>
                  <a:pt x="20489" y="14734"/>
                </a:cubicBezTo>
              </a:path>
              <a:path w="8435" h="5656">
                <a:moveTo>
                  <a:pt x="21307" y="16545"/>
                </a:moveTo>
                <a:cubicBezTo>
                  <a:pt x="21262" y="16635"/>
                  <a:pt x="21230" y="16736"/>
                  <a:pt x="21183" y="16818"/>
                </a:cubicBezTo>
                <a:cubicBezTo>
                  <a:pt x="21423" y="16744"/>
                  <a:pt x="21648" y="16564"/>
                  <a:pt x="21878" y="16446"/>
                </a:cubicBezTo>
              </a:path>
              <a:path w="8435" h="5656">
                <a:moveTo>
                  <a:pt x="18331" y="18380"/>
                </a:moveTo>
                <a:cubicBezTo>
                  <a:pt x="18352" y="18446"/>
                  <a:pt x="18355" y="18608"/>
                  <a:pt x="18479" y="18554"/>
                </a:cubicBezTo>
                <a:cubicBezTo>
                  <a:pt x="18648" y="18480"/>
                  <a:pt x="18727" y="18356"/>
                  <a:pt x="18802" y="18207"/>
                </a:cubicBezTo>
              </a:path>
              <a:path w="8435" h="5656">
                <a:moveTo>
                  <a:pt x="17562" y="18901"/>
                </a:moveTo>
                <a:cubicBezTo>
                  <a:pt x="17795" y="18879"/>
                  <a:pt x="17978" y="18761"/>
                  <a:pt x="18182" y="18653"/>
                </a:cubicBezTo>
              </a:path>
              <a:path w="8435" h="5656">
                <a:moveTo>
                  <a:pt x="20265" y="13295"/>
                </a:moveTo>
                <a:cubicBezTo>
                  <a:pt x="20360" y="13282"/>
                  <a:pt x="20485" y="13255"/>
                  <a:pt x="20464" y="13419"/>
                </a:cubicBezTo>
                <a:cubicBezTo>
                  <a:pt x="20418" y="13534"/>
                  <a:pt x="20408" y="13569"/>
                  <a:pt x="20340" y="13618"/>
                </a:cubicBezTo>
                <a:cubicBezTo>
                  <a:pt x="20397" y="13583"/>
                  <a:pt x="20664" y="13533"/>
                  <a:pt x="20588" y="13717"/>
                </a:cubicBezTo>
                <a:cubicBezTo>
                  <a:pt x="20554" y="13799"/>
                  <a:pt x="20197" y="13925"/>
                  <a:pt x="20216" y="13841"/>
                </a:cubicBezTo>
                <a:cubicBezTo>
                  <a:pt x="20232" y="13833"/>
                  <a:pt x="20249" y="13824"/>
                  <a:pt x="20265" y="13816"/>
                </a:cubicBezTo>
              </a:path>
              <a:path w="8435" h="5656">
                <a:moveTo>
                  <a:pt x="21059" y="14039"/>
                </a:moveTo>
                <a:cubicBezTo>
                  <a:pt x="21184" y="14144"/>
                  <a:pt x="21301" y="14262"/>
                  <a:pt x="21406" y="14387"/>
                </a:cubicBezTo>
              </a:path>
              <a:path w="8435" h="5656">
                <a:moveTo>
                  <a:pt x="21332" y="13965"/>
                </a:moveTo>
                <a:cubicBezTo>
                  <a:pt x="21248" y="14150"/>
                  <a:pt x="21183" y="14314"/>
                  <a:pt x="21134" y="14511"/>
                </a:cubicBezTo>
              </a:path>
              <a:path w="8435" h="5656">
                <a:moveTo>
                  <a:pt x="19819" y="17959"/>
                </a:moveTo>
                <a:cubicBezTo>
                  <a:pt x="19834" y="18020"/>
                  <a:pt x="19858" y="18050"/>
                  <a:pt x="19893" y="18107"/>
                </a:cubicBezTo>
                <a:cubicBezTo>
                  <a:pt x="20102" y="17869"/>
                  <a:pt x="20259" y="17694"/>
                  <a:pt x="20563" y="17611"/>
                </a:cubicBezTo>
              </a:path>
              <a:path w="8435" h="5656">
                <a:moveTo>
                  <a:pt x="21654" y="13866"/>
                </a:moveTo>
                <a:cubicBezTo>
                  <a:pt x="21761" y="13781"/>
                  <a:pt x="21771" y="13783"/>
                  <a:pt x="21903" y="13791"/>
                </a:cubicBezTo>
                <a:cubicBezTo>
                  <a:pt x="21902" y="13961"/>
                  <a:pt x="21874" y="13978"/>
                  <a:pt x="21754" y="14114"/>
                </a:cubicBezTo>
                <a:cubicBezTo>
                  <a:pt x="21805" y="14076"/>
                  <a:pt x="22112" y="13907"/>
                  <a:pt x="22076" y="14114"/>
                </a:cubicBezTo>
                <a:cubicBezTo>
                  <a:pt x="22035" y="14350"/>
                  <a:pt x="21855" y="14378"/>
                  <a:pt x="21679" y="14436"/>
                </a:cubicBezTo>
              </a:path>
              <a:path w="8435" h="5656">
                <a:moveTo>
                  <a:pt x="22275" y="13667"/>
                </a:moveTo>
                <a:cubicBezTo>
                  <a:pt x="22379" y="13802"/>
                  <a:pt x="22485" y="13936"/>
                  <a:pt x="22597" y="14064"/>
                </a:cubicBezTo>
              </a:path>
              <a:path w="8435" h="5656">
                <a:moveTo>
                  <a:pt x="22498" y="13742"/>
                </a:moveTo>
                <a:cubicBezTo>
                  <a:pt x="22383" y="13949"/>
                  <a:pt x="22351" y="14007"/>
                  <a:pt x="22275" y="14139"/>
                </a:cubicBezTo>
              </a:path>
              <a:path w="8435" h="5656">
                <a:moveTo>
                  <a:pt x="14957" y="17959"/>
                </a:moveTo>
                <a:cubicBezTo>
                  <a:pt x="15024" y="18091"/>
                  <a:pt x="15041" y="18124"/>
                  <a:pt x="15081" y="18207"/>
                </a:cubicBezTo>
                <a:cubicBezTo>
                  <a:pt x="15191" y="18031"/>
                  <a:pt x="15290" y="17843"/>
                  <a:pt x="15404" y="17661"/>
                </a:cubicBezTo>
              </a:path>
              <a:path w="8435" h="5656">
                <a:moveTo>
                  <a:pt x="23316" y="13320"/>
                </a:moveTo>
                <a:cubicBezTo>
                  <a:pt x="23190" y="13383"/>
                  <a:pt x="22946" y="13398"/>
                  <a:pt x="22845" y="13469"/>
                </a:cubicBezTo>
                <a:cubicBezTo>
                  <a:pt x="22759" y="13529"/>
                  <a:pt x="22910" y="13663"/>
                  <a:pt x="22920" y="13767"/>
                </a:cubicBezTo>
                <a:cubicBezTo>
                  <a:pt x="23022" y="13715"/>
                  <a:pt x="23296" y="13602"/>
                  <a:pt x="23391" y="13742"/>
                </a:cubicBezTo>
                <a:cubicBezTo>
                  <a:pt x="23531" y="13948"/>
                  <a:pt x="23151" y="14030"/>
                  <a:pt x="23068" y="140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Objective:  Students will use Prime Factorization to identify factors of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Skill Practice:  Complete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prime factorizations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for the following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1.)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2.)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,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3.)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4.)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9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5.)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6.)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35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35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35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cccc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35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5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cccc6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759120" y="3348000"/>
            <a:ext cx="189000" cy="90360"/>
          </a:xfrm>
          <a:custGeom>
            <a:avLst/>
            <a:gdLst/>
            <a:ahLst/>
            <a:rect l="l" t="t" r="r" b="b"/>
            <a:pathLst>
              <a:path w="522" h="249">
                <a:moveTo>
                  <a:pt x="10443" y="9451"/>
                </a:moveTo>
                <a:cubicBezTo>
                  <a:pt x="10467" y="9499"/>
                  <a:pt x="10476" y="9513"/>
                  <a:pt x="10468" y="9550"/>
                </a:cubicBezTo>
                <a:cubicBezTo>
                  <a:pt x="10638" y="9469"/>
                  <a:pt x="10787" y="9364"/>
                  <a:pt x="10964" y="93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89240" y="3259080"/>
            <a:ext cx="2394000" cy="1500120"/>
          </a:xfrm>
          <a:custGeom>
            <a:avLst/>
            <a:gdLst/>
            <a:ahLst/>
            <a:rect l="l" t="t" r="r" b="b"/>
            <a:pathLst>
              <a:path w="6648" h="4168">
                <a:moveTo>
                  <a:pt x="12650" y="9153"/>
                </a:moveTo>
                <a:cubicBezTo>
                  <a:pt x="12564" y="9283"/>
                  <a:pt x="12541" y="9312"/>
                  <a:pt x="12502" y="9401"/>
                </a:cubicBezTo>
                <a:cubicBezTo>
                  <a:pt x="12574" y="9257"/>
                  <a:pt x="12617" y="9172"/>
                  <a:pt x="12725" y="9054"/>
                </a:cubicBezTo>
                <a:cubicBezTo>
                  <a:pt x="12767" y="9180"/>
                  <a:pt x="12812" y="9284"/>
                  <a:pt x="12874" y="9401"/>
                </a:cubicBezTo>
              </a:path>
              <a:path w="6648" h="4168">
                <a:moveTo>
                  <a:pt x="11956" y="9649"/>
                </a:moveTo>
                <a:cubicBezTo>
                  <a:pt x="12102" y="9605"/>
                  <a:pt x="12068" y="9621"/>
                  <a:pt x="12179" y="9723"/>
                </a:cubicBezTo>
                <a:cubicBezTo>
                  <a:pt x="12098" y="9980"/>
                  <a:pt x="11978" y="9968"/>
                  <a:pt x="11708" y="9947"/>
                </a:cubicBezTo>
                <a:cubicBezTo>
                  <a:pt x="11899" y="9851"/>
                  <a:pt x="11966" y="9862"/>
                  <a:pt x="12129" y="9971"/>
                </a:cubicBezTo>
              </a:path>
              <a:path w="6648" h="4168">
                <a:moveTo>
                  <a:pt x="13097" y="9575"/>
                </a:moveTo>
                <a:cubicBezTo>
                  <a:pt x="13082" y="9688"/>
                  <a:pt x="13072" y="9784"/>
                  <a:pt x="13072" y="9897"/>
                </a:cubicBezTo>
              </a:path>
              <a:path w="6648" h="4168">
                <a:moveTo>
                  <a:pt x="13444" y="9525"/>
                </a:moveTo>
                <a:cubicBezTo>
                  <a:pt x="13359" y="9669"/>
                  <a:pt x="13341" y="9672"/>
                  <a:pt x="13395" y="9823"/>
                </a:cubicBezTo>
                <a:cubicBezTo>
                  <a:pt x="13531" y="9791"/>
                  <a:pt x="13687" y="9684"/>
                  <a:pt x="13543" y="9525"/>
                </a:cubicBezTo>
                <a:cubicBezTo>
                  <a:pt x="13518" y="9517"/>
                  <a:pt x="13494" y="9508"/>
                  <a:pt x="13469" y="9500"/>
                </a:cubicBezTo>
              </a:path>
              <a:path w="6648" h="4168">
                <a:moveTo>
                  <a:pt x="13965" y="9451"/>
                </a:moveTo>
                <a:cubicBezTo>
                  <a:pt x="13845" y="9488"/>
                  <a:pt x="13594" y="9687"/>
                  <a:pt x="13841" y="9798"/>
                </a:cubicBezTo>
                <a:cubicBezTo>
                  <a:pt x="14062" y="9897"/>
                  <a:pt x="14225" y="9720"/>
                  <a:pt x="14188" y="9550"/>
                </a:cubicBezTo>
              </a:path>
              <a:path w="6648" h="4168">
                <a:moveTo>
                  <a:pt x="14461" y="9475"/>
                </a:moveTo>
                <a:cubicBezTo>
                  <a:pt x="14376" y="9518"/>
                  <a:pt x="14286" y="9728"/>
                  <a:pt x="14461" y="9773"/>
                </a:cubicBezTo>
                <a:cubicBezTo>
                  <a:pt x="14779" y="9854"/>
                  <a:pt x="14638" y="9550"/>
                  <a:pt x="14560" y="9451"/>
                </a:cubicBezTo>
              </a:path>
              <a:path w="6648" h="4168">
                <a:moveTo>
                  <a:pt x="11609" y="9847"/>
                </a:moveTo>
                <a:cubicBezTo>
                  <a:pt x="11539" y="9952"/>
                  <a:pt x="11544" y="10062"/>
                  <a:pt x="11683" y="10120"/>
                </a:cubicBezTo>
                <a:cubicBezTo>
                  <a:pt x="11903" y="10212"/>
                  <a:pt x="12361" y="10128"/>
                  <a:pt x="12502" y="9922"/>
                </a:cubicBezTo>
                <a:cubicBezTo>
                  <a:pt x="12690" y="9647"/>
                  <a:pt x="12164" y="9410"/>
                  <a:pt x="11981" y="9401"/>
                </a:cubicBezTo>
                <a:cubicBezTo>
                  <a:pt x="11528" y="9380"/>
                  <a:pt x="11595" y="9762"/>
                  <a:pt x="11658" y="10046"/>
                </a:cubicBezTo>
              </a:path>
              <a:path w="6648" h="4168">
                <a:moveTo>
                  <a:pt x="13816" y="10071"/>
                </a:moveTo>
                <a:cubicBezTo>
                  <a:pt x="13792" y="10071"/>
                  <a:pt x="13738" y="10134"/>
                  <a:pt x="13692" y="10195"/>
                </a:cubicBezTo>
                <a:cubicBezTo>
                  <a:pt x="13791" y="10120"/>
                  <a:pt x="13824" y="10095"/>
                  <a:pt x="13866" y="10021"/>
                </a:cubicBezTo>
                <a:cubicBezTo>
                  <a:pt x="13977" y="10058"/>
                  <a:pt x="14090" y="10145"/>
                  <a:pt x="14213" y="10195"/>
                </a:cubicBezTo>
                <a:cubicBezTo>
                  <a:pt x="14238" y="10203"/>
                  <a:pt x="14263" y="10212"/>
                  <a:pt x="14288" y="10220"/>
                </a:cubicBezTo>
              </a:path>
              <a:path w="6648" h="4168">
                <a:moveTo>
                  <a:pt x="13146" y="10393"/>
                </a:moveTo>
                <a:cubicBezTo>
                  <a:pt x="13250" y="10428"/>
                  <a:pt x="13359" y="10488"/>
                  <a:pt x="13295" y="10616"/>
                </a:cubicBezTo>
                <a:cubicBezTo>
                  <a:pt x="13238" y="10730"/>
                  <a:pt x="13140" y="10708"/>
                  <a:pt x="13047" y="10691"/>
                </a:cubicBezTo>
                <a:cubicBezTo>
                  <a:pt x="13092" y="10557"/>
                  <a:pt x="13171" y="10624"/>
                  <a:pt x="13295" y="10691"/>
                </a:cubicBezTo>
              </a:path>
              <a:path w="6648" h="4168">
                <a:moveTo>
                  <a:pt x="14188" y="10418"/>
                </a:moveTo>
                <a:cubicBezTo>
                  <a:pt x="14252" y="10457"/>
                  <a:pt x="14557" y="10597"/>
                  <a:pt x="14337" y="10691"/>
                </a:cubicBezTo>
                <a:cubicBezTo>
                  <a:pt x="14304" y="10691"/>
                  <a:pt x="14271" y="10691"/>
                  <a:pt x="14238" y="10691"/>
                </a:cubicBezTo>
              </a:path>
              <a:path w="6648" h="4168">
                <a:moveTo>
                  <a:pt x="14263" y="10418"/>
                </a:moveTo>
                <a:cubicBezTo>
                  <a:pt x="14385" y="10391"/>
                  <a:pt x="14459" y="10399"/>
                  <a:pt x="14585" y="10418"/>
                </a:cubicBezTo>
              </a:path>
              <a:path w="6648" h="4168">
                <a:moveTo>
                  <a:pt x="14808" y="10368"/>
                </a:moveTo>
                <a:cubicBezTo>
                  <a:pt x="14697" y="10442"/>
                  <a:pt x="14666" y="10470"/>
                  <a:pt x="14610" y="10592"/>
                </a:cubicBezTo>
                <a:cubicBezTo>
                  <a:pt x="14813" y="10634"/>
                  <a:pt x="14933" y="10640"/>
                  <a:pt x="14932" y="10418"/>
                </a:cubicBezTo>
              </a:path>
              <a:path w="6648" h="4168">
                <a:moveTo>
                  <a:pt x="15156" y="10244"/>
                </a:moveTo>
                <a:cubicBezTo>
                  <a:pt x="15077" y="10344"/>
                  <a:pt x="14944" y="10569"/>
                  <a:pt x="15205" y="10517"/>
                </a:cubicBezTo>
                <a:cubicBezTo>
                  <a:pt x="15417" y="10475"/>
                  <a:pt x="15292" y="10359"/>
                  <a:pt x="15230" y="10269"/>
                </a:cubicBezTo>
              </a:path>
              <a:path w="6648" h="4168">
                <a:moveTo>
                  <a:pt x="12998" y="10542"/>
                </a:moveTo>
                <a:cubicBezTo>
                  <a:pt x="12915" y="10617"/>
                  <a:pt x="12910" y="10631"/>
                  <a:pt x="12874" y="10740"/>
                </a:cubicBezTo>
                <a:cubicBezTo>
                  <a:pt x="13043" y="10899"/>
                  <a:pt x="13248" y="10953"/>
                  <a:pt x="13469" y="10790"/>
                </a:cubicBezTo>
                <a:cubicBezTo>
                  <a:pt x="13727" y="10599"/>
                  <a:pt x="13558" y="10289"/>
                  <a:pt x="13295" y="10244"/>
                </a:cubicBezTo>
                <a:cubicBezTo>
                  <a:pt x="12854" y="10168"/>
                  <a:pt x="12842" y="10488"/>
                  <a:pt x="12998" y="10740"/>
                </a:cubicBezTo>
              </a:path>
              <a:path w="6648" h="4168">
                <a:moveTo>
                  <a:pt x="14709" y="10864"/>
                </a:moveTo>
                <a:cubicBezTo>
                  <a:pt x="14652" y="10948"/>
                  <a:pt x="14607" y="11026"/>
                  <a:pt x="14536" y="11088"/>
                </a:cubicBezTo>
                <a:cubicBezTo>
                  <a:pt x="14575" y="11051"/>
                  <a:pt x="14766" y="10816"/>
                  <a:pt x="14833" y="10840"/>
                </a:cubicBezTo>
                <a:cubicBezTo>
                  <a:pt x="14930" y="10875"/>
                  <a:pt x="15010" y="10992"/>
                  <a:pt x="15081" y="11063"/>
                </a:cubicBezTo>
              </a:path>
              <a:path w="6648" h="4168">
                <a:moveTo>
                  <a:pt x="14114" y="11187"/>
                </a:moveTo>
                <a:cubicBezTo>
                  <a:pt x="14001" y="11187"/>
                  <a:pt x="13946" y="11183"/>
                  <a:pt x="13915" y="11311"/>
                </a:cubicBezTo>
                <a:cubicBezTo>
                  <a:pt x="13890" y="11415"/>
                  <a:pt x="14100" y="11392"/>
                  <a:pt x="14163" y="11410"/>
                </a:cubicBezTo>
                <a:cubicBezTo>
                  <a:pt x="14125" y="11564"/>
                  <a:pt x="14124" y="11533"/>
                  <a:pt x="13965" y="11559"/>
                </a:cubicBezTo>
              </a:path>
              <a:path w="6648" h="4168">
                <a:moveTo>
                  <a:pt x="15007" y="11311"/>
                </a:moveTo>
                <a:cubicBezTo>
                  <a:pt x="15007" y="11409"/>
                  <a:pt x="14996" y="11489"/>
                  <a:pt x="14982" y="11584"/>
                </a:cubicBezTo>
              </a:path>
              <a:path w="6648" h="4168">
                <a:moveTo>
                  <a:pt x="15255" y="11286"/>
                </a:moveTo>
                <a:cubicBezTo>
                  <a:pt x="15212" y="11392"/>
                  <a:pt x="15196" y="11414"/>
                  <a:pt x="15205" y="11485"/>
                </a:cubicBezTo>
                <a:cubicBezTo>
                  <a:pt x="15373" y="11449"/>
                  <a:pt x="15396" y="11391"/>
                  <a:pt x="15280" y="11261"/>
                </a:cubicBezTo>
              </a:path>
              <a:path w="6648" h="4168">
                <a:moveTo>
                  <a:pt x="15528" y="11286"/>
                </a:moveTo>
                <a:cubicBezTo>
                  <a:pt x="15521" y="11419"/>
                  <a:pt x="15595" y="11631"/>
                  <a:pt x="15776" y="11435"/>
                </a:cubicBezTo>
                <a:cubicBezTo>
                  <a:pt x="15803" y="11329"/>
                  <a:pt x="15807" y="11290"/>
                  <a:pt x="15726" y="11237"/>
                </a:cubicBezTo>
              </a:path>
              <a:path w="6648" h="4168">
                <a:moveTo>
                  <a:pt x="13667" y="11534"/>
                </a:moveTo>
                <a:cubicBezTo>
                  <a:pt x="13701" y="11732"/>
                  <a:pt x="13732" y="11740"/>
                  <a:pt x="14039" y="11733"/>
                </a:cubicBezTo>
                <a:cubicBezTo>
                  <a:pt x="14337" y="11726"/>
                  <a:pt x="14708" y="11512"/>
                  <a:pt x="14461" y="11162"/>
                </a:cubicBezTo>
                <a:cubicBezTo>
                  <a:pt x="14266" y="10886"/>
                  <a:pt x="13767" y="10843"/>
                  <a:pt x="13618" y="11187"/>
                </a:cubicBezTo>
                <a:cubicBezTo>
                  <a:pt x="13610" y="11278"/>
                  <a:pt x="13601" y="11369"/>
                  <a:pt x="13593" y="11460"/>
                </a:cubicBezTo>
              </a:path>
              <a:path w="6648" h="4168">
                <a:moveTo>
                  <a:pt x="15354" y="11757"/>
                </a:moveTo>
                <a:cubicBezTo>
                  <a:pt x="15291" y="11842"/>
                  <a:pt x="15279" y="11863"/>
                  <a:pt x="15230" y="11906"/>
                </a:cubicBezTo>
                <a:cubicBezTo>
                  <a:pt x="15301" y="11777"/>
                  <a:pt x="15309" y="11673"/>
                  <a:pt x="15429" y="11733"/>
                </a:cubicBezTo>
                <a:cubicBezTo>
                  <a:pt x="15512" y="11774"/>
                  <a:pt x="15593" y="11798"/>
                  <a:pt x="15677" y="11832"/>
                </a:cubicBezTo>
              </a:path>
              <a:path w="6648" h="4168">
                <a:moveTo>
                  <a:pt x="14858" y="12055"/>
                </a:moveTo>
                <a:cubicBezTo>
                  <a:pt x="14858" y="12114"/>
                  <a:pt x="14855" y="12140"/>
                  <a:pt x="14833" y="12179"/>
                </a:cubicBezTo>
                <a:cubicBezTo>
                  <a:pt x="14876" y="12179"/>
                  <a:pt x="15084" y="12167"/>
                  <a:pt x="15007" y="12278"/>
                </a:cubicBezTo>
                <a:cubicBezTo>
                  <a:pt x="14950" y="12306"/>
                  <a:pt x="14927" y="12317"/>
                  <a:pt x="14883" y="12328"/>
                </a:cubicBezTo>
              </a:path>
              <a:path w="6648" h="4168">
                <a:moveTo>
                  <a:pt x="14908" y="12080"/>
                </a:moveTo>
                <a:cubicBezTo>
                  <a:pt x="14949" y="12072"/>
                  <a:pt x="14991" y="12063"/>
                  <a:pt x="15032" y="12055"/>
                </a:cubicBezTo>
              </a:path>
              <a:path w="6648" h="4168">
                <a:moveTo>
                  <a:pt x="15751" y="12080"/>
                </a:moveTo>
                <a:cubicBezTo>
                  <a:pt x="15862" y="12024"/>
                  <a:pt x="15879" y="12079"/>
                  <a:pt x="15925" y="12179"/>
                </a:cubicBezTo>
                <a:cubicBezTo>
                  <a:pt x="15786" y="12249"/>
                  <a:pt x="15773" y="12247"/>
                  <a:pt x="15627" y="12204"/>
                </a:cubicBezTo>
                <a:cubicBezTo>
                  <a:pt x="15732" y="12183"/>
                  <a:pt x="15797" y="12216"/>
                  <a:pt x="15900" y="12254"/>
                </a:cubicBezTo>
              </a:path>
              <a:path w="6648" h="4168">
                <a:moveTo>
                  <a:pt x="16197" y="12005"/>
                </a:moveTo>
                <a:cubicBezTo>
                  <a:pt x="16190" y="12126"/>
                  <a:pt x="16244" y="12330"/>
                  <a:pt x="16421" y="12179"/>
                </a:cubicBezTo>
                <a:cubicBezTo>
                  <a:pt x="16449" y="12096"/>
                  <a:pt x="16451" y="12065"/>
                  <a:pt x="16371" y="12030"/>
                </a:cubicBezTo>
              </a:path>
              <a:path w="6648" h="4168">
                <a:moveTo>
                  <a:pt x="14536" y="12154"/>
                </a:moveTo>
                <a:cubicBezTo>
                  <a:pt x="14606" y="12394"/>
                  <a:pt x="14808" y="12493"/>
                  <a:pt x="15081" y="12477"/>
                </a:cubicBezTo>
                <a:cubicBezTo>
                  <a:pt x="15351" y="12461"/>
                  <a:pt x="15527" y="12185"/>
                  <a:pt x="15329" y="11956"/>
                </a:cubicBezTo>
                <a:cubicBezTo>
                  <a:pt x="15035" y="11616"/>
                  <a:pt x="14704" y="11996"/>
                  <a:pt x="14560" y="12204"/>
                </a:cubicBezTo>
              </a:path>
              <a:path w="6648" h="4168">
                <a:moveTo>
                  <a:pt x="16024" y="12402"/>
                </a:moveTo>
                <a:cubicBezTo>
                  <a:pt x="15986" y="12479"/>
                  <a:pt x="15987" y="12495"/>
                  <a:pt x="15949" y="12526"/>
                </a:cubicBezTo>
                <a:cubicBezTo>
                  <a:pt x="15993" y="12469"/>
                  <a:pt x="16041" y="12427"/>
                  <a:pt x="16098" y="12378"/>
                </a:cubicBezTo>
                <a:cubicBezTo>
                  <a:pt x="16189" y="12495"/>
                  <a:pt x="16150" y="12490"/>
                  <a:pt x="16272" y="12502"/>
                </a:cubicBezTo>
              </a:path>
              <a:path w="6648" h="4168">
                <a:moveTo>
                  <a:pt x="15726" y="12700"/>
                </a:moveTo>
                <a:cubicBezTo>
                  <a:pt x="15701" y="12692"/>
                  <a:pt x="15677" y="12683"/>
                  <a:pt x="15652" y="12675"/>
                </a:cubicBezTo>
              </a:path>
              <a:path w="6648" h="4168">
                <a:moveTo>
                  <a:pt x="15577" y="12700"/>
                </a:moveTo>
                <a:cubicBezTo>
                  <a:pt x="15648" y="12700"/>
                  <a:pt x="15681" y="12704"/>
                  <a:pt x="15751" y="12725"/>
                </a:cubicBezTo>
                <a:cubicBezTo>
                  <a:pt x="15706" y="12699"/>
                  <a:pt x="15589" y="12641"/>
                  <a:pt x="15528" y="12675"/>
                </a:cubicBezTo>
                <a:cubicBezTo>
                  <a:pt x="15489" y="12714"/>
                  <a:pt x="15472" y="12716"/>
                  <a:pt x="15478" y="12750"/>
                </a:cubicBezTo>
                <a:cubicBezTo>
                  <a:pt x="15492" y="12767"/>
                  <a:pt x="15694" y="12881"/>
                  <a:pt x="15652" y="12923"/>
                </a:cubicBezTo>
                <a:cubicBezTo>
                  <a:pt x="15596" y="12980"/>
                  <a:pt x="15484" y="12992"/>
                  <a:pt x="15429" y="12973"/>
                </a:cubicBezTo>
              </a:path>
              <a:path w="6648" h="4168">
                <a:moveTo>
                  <a:pt x="15180" y="13022"/>
                </a:moveTo>
                <a:cubicBezTo>
                  <a:pt x="15345" y="13174"/>
                  <a:pt x="15552" y="13190"/>
                  <a:pt x="15776" y="13097"/>
                </a:cubicBezTo>
                <a:cubicBezTo>
                  <a:pt x="15989" y="13008"/>
                  <a:pt x="16010" y="12889"/>
                  <a:pt x="16049" y="12700"/>
                </a:cubicBezTo>
                <a:cubicBezTo>
                  <a:pt x="15868" y="12530"/>
                  <a:pt x="15520" y="12351"/>
                  <a:pt x="15255" y="12551"/>
                </a:cubicBezTo>
                <a:cubicBezTo>
                  <a:pt x="15156" y="12724"/>
                  <a:pt x="15123" y="12782"/>
                  <a:pt x="15156" y="12923"/>
                </a:cubicBezTo>
              </a:path>
              <a:path w="6648" h="4168">
                <a:moveTo>
                  <a:pt x="16446" y="12626"/>
                </a:moveTo>
                <a:cubicBezTo>
                  <a:pt x="16428" y="12717"/>
                  <a:pt x="16419" y="12724"/>
                  <a:pt x="16421" y="12774"/>
                </a:cubicBezTo>
              </a:path>
              <a:path w="6648" h="4168">
                <a:moveTo>
                  <a:pt x="16421" y="12774"/>
                </a:moveTo>
                <a:lnTo>
                  <a:pt x="16421" y="12774"/>
                </a:lnTo>
              </a:path>
              <a:path w="6648" h="4168">
                <a:moveTo>
                  <a:pt x="16371" y="12502"/>
                </a:moveTo>
                <a:cubicBezTo>
                  <a:pt x="16351" y="12560"/>
                  <a:pt x="16331" y="12616"/>
                  <a:pt x="16321" y="12675"/>
                </a:cubicBezTo>
                <a:cubicBezTo>
                  <a:pt x="16376" y="12693"/>
                  <a:pt x="16446" y="12680"/>
                  <a:pt x="16520" y="12675"/>
                </a:cubicBezTo>
              </a:path>
              <a:path w="6648" h="4168">
                <a:moveTo>
                  <a:pt x="16594" y="12477"/>
                </a:moveTo>
                <a:cubicBezTo>
                  <a:pt x="16519" y="12608"/>
                  <a:pt x="16443" y="12723"/>
                  <a:pt x="16421" y="12874"/>
                </a:cubicBezTo>
              </a:path>
              <a:path w="6648" h="4168">
                <a:moveTo>
                  <a:pt x="16768" y="12750"/>
                </a:moveTo>
                <a:cubicBezTo>
                  <a:pt x="16793" y="12800"/>
                  <a:pt x="16840" y="12952"/>
                  <a:pt x="16867" y="12898"/>
                </a:cubicBezTo>
                <a:cubicBezTo>
                  <a:pt x="16851" y="12807"/>
                  <a:pt x="16820" y="12717"/>
                  <a:pt x="16793" y="12626"/>
                </a:cubicBezTo>
                <a:cubicBezTo>
                  <a:pt x="16901" y="12634"/>
                  <a:pt x="17006" y="12650"/>
                  <a:pt x="17115" y="12650"/>
                </a:cubicBezTo>
              </a:path>
              <a:path w="6648" h="4168">
                <a:moveTo>
                  <a:pt x="17066" y="12898"/>
                </a:moveTo>
                <a:cubicBezTo>
                  <a:pt x="17139" y="12910"/>
                  <a:pt x="17218" y="12936"/>
                  <a:pt x="17190" y="13047"/>
                </a:cubicBezTo>
                <a:cubicBezTo>
                  <a:pt x="17145" y="13227"/>
                  <a:pt x="16993" y="13115"/>
                  <a:pt x="16917" y="13047"/>
                </a:cubicBezTo>
                <a:cubicBezTo>
                  <a:pt x="17048" y="13004"/>
                  <a:pt x="17035" y="13004"/>
                  <a:pt x="17165" y="13047"/>
                </a:cubicBezTo>
              </a:path>
              <a:path w="6648" h="4168">
                <a:moveTo>
                  <a:pt x="17462" y="12551"/>
                </a:moveTo>
                <a:cubicBezTo>
                  <a:pt x="17540" y="12500"/>
                  <a:pt x="17569" y="12484"/>
                  <a:pt x="17636" y="12526"/>
                </a:cubicBezTo>
                <a:cubicBezTo>
                  <a:pt x="17625" y="12660"/>
                  <a:pt x="17601" y="12745"/>
                  <a:pt x="17438" y="12725"/>
                </a:cubicBezTo>
                <a:cubicBezTo>
                  <a:pt x="17330" y="12712"/>
                  <a:pt x="17519" y="12733"/>
                  <a:pt x="17587" y="12774"/>
                </a:cubicBezTo>
              </a:path>
              <a:path w="6648" h="4168">
                <a:moveTo>
                  <a:pt x="17314" y="12824"/>
                </a:moveTo>
                <a:cubicBezTo>
                  <a:pt x="17514" y="12856"/>
                  <a:pt x="17704" y="12888"/>
                  <a:pt x="17859" y="12725"/>
                </a:cubicBezTo>
                <a:cubicBezTo>
                  <a:pt x="18058" y="12516"/>
                  <a:pt x="17778" y="12282"/>
                  <a:pt x="17562" y="12278"/>
                </a:cubicBezTo>
                <a:cubicBezTo>
                  <a:pt x="17336" y="12274"/>
                  <a:pt x="17340" y="12451"/>
                  <a:pt x="17314" y="12601"/>
                </a:cubicBezTo>
              </a:path>
              <a:path w="6648" h="4168">
                <a:moveTo>
                  <a:pt x="16966" y="13097"/>
                </a:moveTo>
                <a:cubicBezTo>
                  <a:pt x="16924" y="13271"/>
                  <a:pt x="17116" y="13215"/>
                  <a:pt x="17239" y="13196"/>
                </a:cubicBezTo>
                <a:cubicBezTo>
                  <a:pt x="17390" y="13173"/>
                  <a:pt x="17539" y="12966"/>
                  <a:pt x="17388" y="12824"/>
                </a:cubicBezTo>
                <a:cubicBezTo>
                  <a:pt x="17202" y="12650"/>
                  <a:pt x="16866" y="12714"/>
                  <a:pt x="16842" y="12998"/>
                </a:cubicBezTo>
                <a:cubicBezTo>
                  <a:pt x="16859" y="13056"/>
                  <a:pt x="16875" y="13113"/>
                  <a:pt x="16892" y="13171"/>
                </a:cubicBezTo>
              </a:path>
              <a:path w="6648" h="4168">
                <a:moveTo>
                  <a:pt x="11361" y="10145"/>
                </a:moveTo>
                <a:cubicBezTo>
                  <a:pt x="11448" y="10233"/>
                  <a:pt x="11489" y="10248"/>
                  <a:pt x="11609" y="10170"/>
                </a:cubicBezTo>
                <a:cubicBezTo>
                  <a:pt x="11766" y="10068"/>
                  <a:pt x="11800" y="10023"/>
                  <a:pt x="11981" y="9996"/>
                </a:cubicBezTo>
              </a:path>
              <a:path w="6648" h="4168">
                <a:moveTo>
                  <a:pt x="12626" y="10666"/>
                </a:moveTo>
                <a:cubicBezTo>
                  <a:pt x="12649" y="10714"/>
                  <a:pt x="12657" y="10729"/>
                  <a:pt x="12650" y="10765"/>
                </a:cubicBezTo>
                <a:cubicBezTo>
                  <a:pt x="12813" y="10747"/>
                  <a:pt x="12919" y="10640"/>
                  <a:pt x="13047" y="10542"/>
                </a:cubicBezTo>
              </a:path>
              <a:path w="6648" h="4168">
                <a:moveTo>
                  <a:pt x="16917" y="12601"/>
                </a:moveTo>
                <a:cubicBezTo>
                  <a:pt x="16979" y="12569"/>
                  <a:pt x="16995" y="12576"/>
                  <a:pt x="16966" y="12675"/>
                </a:cubicBezTo>
                <a:cubicBezTo>
                  <a:pt x="17115" y="12690"/>
                  <a:pt x="17200" y="12582"/>
                  <a:pt x="17314" y="12477"/>
                </a:cubicBezTo>
              </a:path>
              <a:path w="6648" h="4168">
                <a:moveTo>
                  <a:pt x="17562" y="12154"/>
                </a:moveTo>
                <a:cubicBezTo>
                  <a:pt x="17600" y="12279"/>
                  <a:pt x="17633" y="12303"/>
                  <a:pt x="17760" y="12229"/>
                </a:cubicBezTo>
                <a:cubicBezTo>
                  <a:pt x="17898" y="12136"/>
                  <a:pt x="17938" y="12112"/>
                  <a:pt x="18008" y="120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75200" y="4964040"/>
            <a:ext cx="2751120" cy="1573200"/>
          </a:xfrm>
          <a:custGeom>
            <a:avLst/>
            <a:gdLst/>
            <a:ahLst/>
            <a:rect l="l" t="t" r="r" b="b"/>
            <a:pathLst>
              <a:path w="7641" h="4367">
                <a:moveTo>
                  <a:pt x="18579" y="13841"/>
                </a:moveTo>
                <a:cubicBezTo>
                  <a:pt x="18521" y="13941"/>
                  <a:pt x="18461" y="14038"/>
                  <a:pt x="18405" y="14139"/>
                </a:cubicBezTo>
                <a:cubicBezTo>
                  <a:pt x="18489" y="14013"/>
                  <a:pt x="18560" y="13882"/>
                  <a:pt x="18678" y="13791"/>
                </a:cubicBezTo>
                <a:cubicBezTo>
                  <a:pt x="18791" y="13879"/>
                  <a:pt x="18810" y="13969"/>
                  <a:pt x="18876" y="14089"/>
                </a:cubicBezTo>
                <a:cubicBezTo>
                  <a:pt x="18884" y="14097"/>
                  <a:pt x="18893" y="14106"/>
                  <a:pt x="18901" y="14114"/>
                </a:cubicBezTo>
              </a:path>
              <a:path w="7641" h="4367">
                <a:moveTo>
                  <a:pt x="18331" y="14387"/>
                </a:moveTo>
                <a:cubicBezTo>
                  <a:pt x="18224" y="14406"/>
                  <a:pt x="18014" y="14448"/>
                  <a:pt x="17959" y="14560"/>
                </a:cubicBezTo>
                <a:cubicBezTo>
                  <a:pt x="17959" y="14585"/>
                  <a:pt x="17959" y="14610"/>
                  <a:pt x="17959" y="14635"/>
                </a:cubicBezTo>
                <a:cubicBezTo>
                  <a:pt x="18080" y="14711"/>
                  <a:pt x="18200" y="14772"/>
                  <a:pt x="18331" y="14833"/>
                </a:cubicBezTo>
                <a:cubicBezTo>
                  <a:pt x="18299" y="14883"/>
                  <a:pt x="18068" y="15087"/>
                  <a:pt x="18083" y="14883"/>
                </a:cubicBezTo>
                <a:cubicBezTo>
                  <a:pt x="18095" y="14719"/>
                  <a:pt x="18228" y="14620"/>
                  <a:pt x="18331" y="14511"/>
                </a:cubicBezTo>
              </a:path>
              <a:path w="7641" h="4367">
                <a:moveTo>
                  <a:pt x="19273" y="14238"/>
                </a:moveTo>
                <a:cubicBezTo>
                  <a:pt x="19186" y="14273"/>
                  <a:pt x="19066" y="14408"/>
                  <a:pt x="19050" y="14511"/>
                </a:cubicBezTo>
                <a:cubicBezTo>
                  <a:pt x="19033" y="14620"/>
                  <a:pt x="19256" y="14694"/>
                  <a:pt x="19323" y="14734"/>
                </a:cubicBezTo>
                <a:cubicBezTo>
                  <a:pt x="19287" y="14870"/>
                  <a:pt x="19287" y="14869"/>
                  <a:pt x="19149" y="14932"/>
                </a:cubicBezTo>
                <a:cubicBezTo>
                  <a:pt x="19135" y="14744"/>
                  <a:pt x="19206" y="14631"/>
                  <a:pt x="19298" y="14461"/>
                </a:cubicBezTo>
              </a:path>
              <a:path w="7641" h="4367">
                <a:moveTo>
                  <a:pt x="18107" y="15180"/>
                </a:moveTo>
                <a:cubicBezTo>
                  <a:pt x="17998" y="15319"/>
                  <a:pt x="17894" y="15510"/>
                  <a:pt x="17760" y="15627"/>
                </a:cubicBezTo>
                <a:cubicBezTo>
                  <a:pt x="17768" y="15610"/>
                  <a:pt x="17777" y="15594"/>
                  <a:pt x="17785" y="15577"/>
                </a:cubicBezTo>
                <a:cubicBezTo>
                  <a:pt x="17902" y="15445"/>
                  <a:pt x="17999" y="15318"/>
                  <a:pt x="18107" y="15180"/>
                </a:cubicBezTo>
                <a:cubicBezTo>
                  <a:pt x="18185" y="15302"/>
                  <a:pt x="18258" y="15419"/>
                  <a:pt x="18355" y="15528"/>
                </a:cubicBezTo>
              </a:path>
              <a:path w="7641" h="4367">
                <a:moveTo>
                  <a:pt x="16917" y="15677"/>
                </a:moveTo>
                <a:cubicBezTo>
                  <a:pt x="17013" y="15604"/>
                  <a:pt x="17097" y="15717"/>
                  <a:pt x="17090" y="15825"/>
                </a:cubicBezTo>
                <a:cubicBezTo>
                  <a:pt x="17076" y="16055"/>
                  <a:pt x="16913" y="16108"/>
                  <a:pt x="16743" y="16049"/>
                </a:cubicBezTo>
                <a:cubicBezTo>
                  <a:pt x="16799" y="15878"/>
                  <a:pt x="16902" y="15871"/>
                  <a:pt x="17066" y="15974"/>
                </a:cubicBezTo>
                <a:cubicBezTo>
                  <a:pt x="17082" y="15991"/>
                  <a:pt x="17099" y="16007"/>
                  <a:pt x="17115" y="16024"/>
                </a:cubicBezTo>
              </a:path>
              <a:path w="7641" h="4367">
                <a:moveTo>
                  <a:pt x="18256" y="15751"/>
                </a:moveTo>
                <a:cubicBezTo>
                  <a:pt x="18230" y="15904"/>
                  <a:pt x="18204" y="16058"/>
                  <a:pt x="18430" y="15974"/>
                </a:cubicBezTo>
                <a:cubicBezTo>
                  <a:pt x="18471" y="15949"/>
                  <a:pt x="18513" y="15925"/>
                  <a:pt x="18554" y="15900"/>
                </a:cubicBezTo>
              </a:path>
              <a:path w="7641" h="4367">
                <a:moveTo>
                  <a:pt x="18504" y="15652"/>
                </a:moveTo>
                <a:cubicBezTo>
                  <a:pt x="18480" y="15818"/>
                  <a:pt x="18450" y="15975"/>
                  <a:pt x="18380" y="16123"/>
                </a:cubicBezTo>
              </a:path>
              <a:path w="7641" h="4367">
                <a:moveTo>
                  <a:pt x="16446" y="16222"/>
                </a:moveTo>
                <a:cubicBezTo>
                  <a:pt x="16483" y="16431"/>
                  <a:pt x="16587" y="16530"/>
                  <a:pt x="16818" y="16520"/>
                </a:cubicBezTo>
                <a:cubicBezTo>
                  <a:pt x="17130" y="16507"/>
                  <a:pt x="17418" y="16272"/>
                  <a:pt x="17413" y="15949"/>
                </a:cubicBezTo>
                <a:cubicBezTo>
                  <a:pt x="17407" y="15539"/>
                  <a:pt x="16852" y="15491"/>
                  <a:pt x="16570" y="15627"/>
                </a:cubicBezTo>
                <a:cubicBezTo>
                  <a:pt x="16111" y="15849"/>
                  <a:pt x="16378" y="16291"/>
                  <a:pt x="16570" y="16570"/>
                </a:cubicBezTo>
              </a:path>
              <a:path w="7641" h="4367">
                <a:moveTo>
                  <a:pt x="18256" y="16346"/>
                </a:moveTo>
                <a:cubicBezTo>
                  <a:pt x="18195" y="16567"/>
                  <a:pt x="18105" y="16726"/>
                  <a:pt x="17983" y="16917"/>
                </a:cubicBezTo>
                <a:cubicBezTo>
                  <a:pt x="17975" y="16933"/>
                  <a:pt x="17967" y="16950"/>
                  <a:pt x="17959" y="16966"/>
                </a:cubicBezTo>
                <a:cubicBezTo>
                  <a:pt x="18094" y="16763"/>
                  <a:pt x="18189" y="16496"/>
                  <a:pt x="18380" y="16346"/>
                </a:cubicBezTo>
                <a:cubicBezTo>
                  <a:pt x="18491" y="16457"/>
                  <a:pt x="18539" y="16558"/>
                  <a:pt x="18554" y="16718"/>
                </a:cubicBezTo>
                <a:cubicBezTo>
                  <a:pt x="18554" y="16726"/>
                  <a:pt x="18554" y="16735"/>
                  <a:pt x="18554" y="16743"/>
                </a:cubicBezTo>
              </a:path>
              <a:path w="7641" h="4367">
                <a:moveTo>
                  <a:pt x="17686" y="17214"/>
                </a:moveTo>
                <a:cubicBezTo>
                  <a:pt x="17801" y="17207"/>
                  <a:pt x="18029" y="17223"/>
                  <a:pt x="17934" y="17413"/>
                </a:cubicBezTo>
                <a:cubicBezTo>
                  <a:pt x="17833" y="17539"/>
                  <a:pt x="17798" y="17581"/>
                  <a:pt x="17686" y="17611"/>
                </a:cubicBezTo>
                <a:cubicBezTo>
                  <a:pt x="17628" y="17611"/>
                  <a:pt x="17603" y="17628"/>
                  <a:pt x="17611" y="17587"/>
                </a:cubicBezTo>
                <a:cubicBezTo>
                  <a:pt x="17765" y="17433"/>
                  <a:pt x="17817" y="17429"/>
                  <a:pt x="18033" y="17487"/>
                </a:cubicBezTo>
              </a:path>
              <a:path w="7641" h="4367">
                <a:moveTo>
                  <a:pt x="18827" y="17090"/>
                </a:moveTo>
                <a:cubicBezTo>
                  <a:pt x="18922" y="17130"/>
                  <a:pt x="19078" y="17199"/>
                  <a:pt x="18976" y="17338"/>
                </a:cubicBezTo>
                <a:cubicBezTo>
                  <a:pt x="18900" y="17441"/>
                  <a:pt x="18803" y="17431"/>
                  <a:pt x="18703" y="17413"/>
                </a:cubicBezTo>
                <a:cubicBezTo>
                  <a:pt x="18748" y="17307"/>
                  <a:pt x="18861" y="17318"/>
                  <a:pt x="18951" y="17413"/>
                </a:cubicBezTo>
                <a:cubicBezTo>
                  <a:pt x="18959" y="17429"/>
                  <a:pt x="18968" y="17446"/>
                  <a:pt x="18976" y="17462"/>
                </a:cubicBezTo>
              </a:path>
              <a:path w="7641" h="4367">
                <a:moveTo>
                  <a:pt x="18703" y="17711"/>
                </a:moveTo>
                <a:cubicBezTo>
                  <a:pt x="18919" y="17720"/>
                  <a:pt x="19223" y="17687"/>
                  <a:pt x="19372" y="17487"/>
                </a:cubicBezTo>
                <a:cubicBezTo>
                  <a:pt x="19523" y="17283"/>
                  <a:pt x="19406" y="16864"/>
                  <a:pt x="19124" y="16842"/>
                </a:cubicBezTo>
                <a:cubicBezTo>
                  <a:pt x="18747" y="16812"/>
                  <a:pt x="18442" y="17216"/>
                  <a:pt x="18604" y="17562"/>
                </a:cubicBezTo>
                <a:cubicBezTo>
                  <a:pt x="18653" y="17612"/>
                  <a:pt x="18703" y="17661"/>
                  <a:pt x="18752" y="17711"/>
                </a:cubicBezTo>
              </a:path>
              <a:path w="7641" h="4367">
                <a:moveTo>
                  <a:pt x="17686" y="18157"/>
                </a:moveTo>
                <a:cubicBezTo>
                  <a:pt x="17941" y="18136"/>
                  <a:pt x="18180" y="18074"/>
                  <a:pt x="18331" y="17835"/>
                </a:cubicBezTo>
                <a:cubicBezTo>
                  <a:pt x="18499" y="17570"/>
                  <a:pt x="18411" y="17183"/>
                  <a:pt x="18033" y="17214"/>
                </a:cubicBezTo>
                <a:cubicBezTo>
                  <a:pt x="17740" y="17238"/>
                  <a:pt x="17004" y="17668"/>
                  <a:pt x="17314" y="18058"/>
                </a:cubicBezTo>
                <a:cubicBezTo>
                  <a:pt x="17388" y="18091"/>
                  <a:pt x="17463" y="18124"/>
                  <a:pt x="17537" y="18157"/>
                </a:cubicBezTo>
              </a:path>
              <a:path w="7641" h="4367">
                <a:moveTo>
                  <a:pt x="19174" y="15280"/>
                </a:moveTo>
                <a:cubicBezTo>
                  <a:pt x="19184" y="15323"/>
                  <a:pt x="19199" y="15576"/>
                  <a:pt x="19199" y="15453"/>
                </a:cubicBezTo>
                <a:cubicBezTo>
                  <a:pt x="19199" y="15289"/>
                  <a:pt x="19219" y="15143"/>
                  <a:pt x="19248" y="14982"/>
                </a:cubicBezTo>
                <a:cubicBezTo>
                  <a:pt x="19429" y="15027"/>
                  <a:pt x="19564" y="15129"/>
                  <a:pt x="19745" y="15180"/>
                </a:cubicBezTo>
              </a:path>
              <a:path w="7641" h="4367">
                <a:moveTo>
                  <a:pt x="19323" y="15825"/>
                </a:moveTo>
                <a:cubicBezTo>
                  <a:pt x="19464" y="15761"/>
                  <a:pt x="19620" y="15803"/>
                  <a:pt x="19472" y="15974"/>
                </a:cubicBezTo>
                <a:cubicBezTo>
                  <a:pt x="19372" y="16049"/>
                  <a:pt x="19338" y="16074"/>
                  <a:pt x="19248" y="16024"/>
                </a:cubicBezTo>
                <a:cubicBezTo>
                  <a:pt x="19337" y="15891"/>
                  <a:pt x="19379" y="15908"/>
                  <a:pt x="19546" y="15974"/>
                </a:cubicBezTo>
              </a:path>
              <a:path w="7641" h="4367">
                <a:moveTo>
                  <a:pt x="20017" y="15131"/>
                </a:moveTo>
                <a:cubicBezTo>
                  <a:pt x="20017" y="15174"/>
                  <a:pt x="19999" y="15347"/>
                  <a:pt x="20117" y="15304"/>
                </a:cubicBezTo>
                <a:cubicBezTo>
                  <a:pt x="20150" y="15279"/>
                  <a:pt x="20183" y="15255"/>
                  <a:pt x="20216" y="15230"/>
                </a:cubicBezTo>
              </a:path>
              <a:path w="7641" h="4367">
                <a:moveTo>
                  <a:pt x="20166" y="14883"/>
                </a:moveTo>
                <a:cubicBezTo>
                  <a:pt x="20192" y="15139"/>
                  <a:pt x="20201" y="15230"/>
                  <a:pt x="20216" y="15404"/>
                </a:cubicBezTo>
              </a:path>
              <a:path w="7641" h="4367">
                <a:moveTo>
                  <a:pt x="19149" y="16222"/>
                </a:moveTo>
                <a:cubicBezTo>
                  <a:pt x="19233" y="16402"/>
                  <a:pt x="19389" y="16477"/>
                  <a:pt x="19596" y="16346"/>
                </a:cubicBezTo>
                <a:cubicBezTo>
                  <a:pt x="19809" y="16211"/>
                  <a:pt x="19951" y="15820"/>
                  <a:pt x="19695" y="15652"/>
                </a:cubicBezTo>
                <a:cubicBezTo>
                  <a:pt x="19344" y="15422"/>
                  <a:pt x="18852" y="15583"/>
                  <a:pt x="18852" y="16049"/>
                </a:cubicBezTo>
                <a:cubicBezTo>
                  <a:pt x="18945" y="16304"/>
                  <a:pt x="18962" y="16385"/>
                  <a:pt x="19149" y="16446"/>
                </a:cubicBezTo>
              </a:path>
              <a:path w="7641" h="4367">
                <a:moveTo>
                  <a:pt x="20290" y="15677"/>
                </a:moveTo>
                <a:cubicBezTo>
                  <a:pt x="20318" y="15786"/>
                  <a:pt x="20333" y="15887"/>
                  <a:pt x="20365" y="15999"/>
                </a:cubicBezTo>
                <a:cubicBezTo>
                  <a:pt x="20395" y="15844"/>
                  <a:pt x="20389" y="15688"/>
                  <a:pt x="20389" y="15528"/>
                </a:cubicBezTo>
                <a:cubicBezTo>
                  <a:pt x="20389" y="15511"/>
                  <a:pt x="20389" y="15495"/>
                  <a:pt x="20389" y="15478"/>
                </a:cubicBezTo>
                <a:cubicBezTo>
                  <a:pt x="20584" y="15517"/>
                  <a:pt x="20750" y="15569"/>
                  <a:pt x="20960" y="15577"/>
                </a:cubicBezTo>
              </a:path>
              <a:path w="7641" h="4367">
                <a:moveTo>
                  <a:pt x="20489" y="16421"/>
                </a:moveTo>
                <a:cubicBezTo>
                  <a:pt x="20558" y="16374"/>
                  <a:pt x="20578" y="16353"/>
                  <a:pt x="20613" y="16421"/>
                </a:cubicBezTo>
                <a:cubicBezTo>
                  <a:pt x="20652" y="16569"/>
                  <a:pt x="20629" y="16754"/>
                  <a:pt x="20414" y="16768"/>
                </a:cubicBezTo>
                <a:cubicBezTo>
                  <a:pt x="20389" y="16760"/>
                  <a:pt x="20365" y="16751"/>
                  <a:pt x="20340" y="16743"/>
                </a:cubicBezTo>
                <a:cubicBezTo>
                  <a:pt x="20425" y="16573"/>
                  <a:pt x="20469" y="16578"/>
                  <a:pt x="20638" y="16669"/>
                </a:cubicBezTo>
              </a:path>
              <a:path w="7641" h="4367">
                <a:moveTo>
                  <a:pt x="21158" y="15478"/>
                </a:moveTo>
                <a:cubicBezTo>
                  <a:pt x="21117" y="15478"/>
                  <a:pt x="21101" y="15486"/>
                  <a:pt x="21109" y="15453"/>
                </a:cubicBezTo>
                <a:cubicBezTo>
                  <a:pt x="21288" y="15454"/>
                  <a:pt x="21322" y="15607"/>
                  <a:pt x="21233" y="15776"/>
                </a:cubicBezTo>
                <a:cubicBezTo>
                  <a:pt x="21162" y="15910"/>
                  <a:pt x="20991" y="15841"/>
                  <a:pt x="21282" y="15825"/>
                </a:cubicBezTo>
              </a:path>
              <a:path w="7641" h="4367">
                <a:moveTo>
                  <a:pt x="21208" y="16049"/>
                </a:moveTo>
                <a:cubicBezTo>
                  <a:pt x="21500" y="15926"/>
                  <a:pt x="21777" y="15826"/>
                  <a:pt x="21679" y="15429"/>
                </a:cubicBezTo>
                <a:cubicBezTo>
                  <a:pt x="21586" y="15053"/>
                  <a:pt x="20917" y="14898"/>
                  <a:pt x="20836" y="15379"/>
                </a:cubicBezTo>
                <a:cubicBezTo>
                  <a:pt x="20906" y="15708"/>
                  <a:pt x="20917" y="15811"/>
                  <a:pt x="21134" y="15925"/>
                </a:cubicBezTo>
              </a:path>
              <a:path w="7641" h="4367">
                <a:moveTo>
                  <a:pt x="20389" y="17115"/>
                </a:moveTo>
                <a:cubicBezTo>
                  <a:pt x="20616" y="17148"/>
                  <a:pt x="20792" y="17159"/>
                  <a:pt x="20960" y="16966"/>
                </a:cubicBezTo>
                <a:cubicBezTo>
                  <a:pt x="21198" y="16693"/>
                  <a:pt x="21243" y="16283"/>
                  <a:pt x="20861" y="16098"/>
                </a:cubicBezTo>
                <a:cubicBezTo>
                  <a:pt x="20397" y="15874"/>
                  <a:pt x="19887" y="16359"/>
                  <a:pt x="20117" y="16842"/>
                </a:cubicBezTo>
                <a:cubicBezTo>
                  <a:pt x="20191" y="16900"/>
                  <a:pt x="20266" y="16958"/>
                  <a:pt x="20340" y="17016"/>
                </a:cubicBezTo>
              </a:path>
              <a:path w="7641" h="4367">
                <a:moveTo>
                  <a:pt x="22498" y="16073"/>
                </a:moveTo>
                <a:cubicBezTo>
                  <a:pt x="22445" y="16251"/>
                  <a:pt x="22490" y="16104"/>
                  <a:pt x="22622" y="16098"/>
                </a:cubicBezTo>
                <a:cubicBezTo>
                  <a:pt x="22902" y="16084"/>
                  <a:pt x="22922" y="16518"/>
                  <a:pt x="22771" y="16669"/>
                </a:cubicBezTo>
                <a:cubicBezTo>
                  <a:pt x="22547" y="16804"/>
                  <a:pt x="22492" y="16846"/>
                  <a:pt x="22324" y="16867"/>
                </a:cubicBezTo>
                <a:cubicBezTo>
                  <a:pt x="22345" y="16614"/>
                  <a:pt x="22597" y="16552"/>
                  <a:pt x="22845" y="16619"/>
                </a:cubicBezTo>
                <a:cubicBezTo>
                  <a:pt x="22930" y="16683"/>
                  <a:pt x="22950" y="16695"/>
                  <a:pt x="22994" y="16743"/>
                </a:cubicBezTo>
              </a:path>
              <a:path w="7641" h="4367">
                <a:moveTo>
                  <a:pt x="16842" y="16644"/>
                </a:moveTo>
                <a:cubicBezTo>
                  <a:pt x="16868" y="16565"/>
                  <a:pt x="16866" y="16653"/>
                  <a:pt x="16917" y="16718"/>
                </a:cubicBezTo>
                <a:cubicBezTo>
                  <a:pt x="17044" y="16660"/>
                  <a:pt x="17115" y="16560"/>
                  <a:pt x="17214" y="16446"/>
                </a:cubicBezTo>
              </a:path>
              <a:path w="7641" h="4367">
                <a:moveTo>
                  <a:pt x="17165" y="17735"/>
                </a:moveTo>
                <a:cubicBezTo>
                  <a:pt x="17165" y="17923"/>
                  <a:pt x="17551" y="17497"/>
                  <a:pt x="17562" y="17487"/>
                </a:cubicBezTo>
              </a:path>
              <a:path w="7641" h="4367">
                <a:moveTo>
                  <a:pt x="19100" y="17711"/>
                </a:moveTo>
                <a:cubicBezTo>
                  <a:pt x="19086" y="17818"/>
                  <a:pt x="19067" y="17821"/>
                  <a:pt x="19124" y="17909"/>
                </a:cubicBezTo>
                <a:cubicBezTo>
                  <a:pt x="19275" y="17802"/>
                  <a:pt x="19376" y="17645"/>
                  <a:pt x="19496" y="17487"/>
                </a:cubicBezTo>
              </a:path>
              <a:path w="7641" h="4367">
                <a:moveTo>
                  <a:pt x="19323" y="16495"/>
                </a:moveTo>
                <a:cubicBezTo>
                  <a:pt x="19315" y="16479"/>
                  <a:pt x="19306" y="16462"/>
                  <a:pt x="19298" y="16446"/>
                </a:cubicBezTo>
                <a:cubicBezTo>
                  <a:pt x="19342" y="16685"/>
                  <a:pt x="19494" y="16476"/>
                  <a:pt x="19571" y="16346"/>
                </a:cubicBezTo>
                <a:cubicBezTo>
                  <a:pt x="19612" y="16263"/>
                  <a:pt x="19654" y="16181"/>
                  <a:pt x="19695" y="16098"/>
                </a:cubicBezTo>
              </a:path>
              <a:path w="7641" h="4367">
                <a:moveTo>
                  <a:pt x="20836" y="17140"/>
                </a:moveTo>
                <a:cubicBezTo>
                  <a:pt x="20904" y="17236"/>
                  <a:pt x="20958" y="17322"/>
                  <a:pt x="21059" y="17190"/>
                </a:cubicBezTo>
                <a:cubicBezTo>
                  <a:pt x="21198" y="16966"/>
                  <a:pt x="21251" y="16873"/>
                  <a:pt x="21307" y="16694"/>
                </a:cubicBezTo>
              </a:path>
              <a:path w="7641" h="4367">
                <a:moveTo>
                  <a:pt x="21481" y="15156"/>
                </a:moveTo>
                <a:cubicBezTo>
                  <a:pt x="21508" y="15209"/>
                  <a:pt x="21520" y="15229"/>
                  <a:pt x="21555" y="15255"/>
                </a:cubicBezTo>
                <a:cubicBezTo>
                  <a:pt x="21738" y="15099"/>
                  <a:pt x="21822" y="14949"/>
                  <a:pt x="21952" y="14734"/>
                </a:cubicBezTo>
              </a:path>
              <a:path w="7641" h="4367">
                <a:moveTo>
                  <a:pt x="22771" y="15528"/>
                </a:moveTo>
                <a:cubicBezTo>
                  <a:pt x="22820" y="15643"/>
                  <a:pt x="22799" y="15768"/>
                  <a:pt x="22870" y="15850"/>
                </a:cubicBezTo>
                <a:cubicBezTo>
                  <a:pt x="23016" y="15826"/>
                  <a:pt x="23204" y="15802"/>
                  <a:pt x="23118" y="15652"/>
                </a:cubicBezTo>
                <a:cubicBezTo>
                  <a:pt x="22971" y="15692"/>
                  <a:pt x="23010" y="15690"/>
                  <a:pt x="23019" y="15850"/>
                </a:cubicBezTo>
              </a:path>
              <a:path w="7641" h="4367">
                <a:moveTo>
                  <a:pt x="22225" y="17214"/>
                </a:moveTo>
                <a:cubicBezTo>
                  <a:pt x="22396" y="17308"/>
                  <a:pt x="22645" y="17248"/>
                  <a:pt x="22845" y="17214"/>
                </a:cubicBezTo>
                <a:cubicBezTo>
                  <a:pt x="23199" y="17153"/>
                  <a:pt x="23379" y="17069"/>
                  <a:pt x="23614" y="16793"/>
                </a:cubicBezTo>
                <a:cubicBezTo>
                  <a:pt x="23836" y="16533"/>
                  <a:pt x="24017" y="16151"/>
                  <a:pt x="23937" y="15801"/>
                </a:cubicBezTo>
                <a:cubicBezTo>
                  <a:pt x="23894" y="15613"/>
                  <a:pt x="23697" y="15383"/>
                  <a:pt x="23540" y="15280"/>
                </a:cubicBezTo>
                <a:cubicBezTo>
                  <a:pt x="23339" y="15148"/>
                  <a:pt x="23079" y="15122"/>
                  <a:pt x="22845" y="15156"/>
                </a:cubicBezTo>
                <a:cubicBezTo>
                  <a:pt x="22546" y="15200"/>
                  <a:pt x="22350" y="15344"/>
                  <a:pt x="22151" y="15553"/>
                </a:cubicBezTo>
                <a:cubicBezTo>
                  <a:pt x="21959" y="15755"/>
                  <a:pt x="21895" y="15911"/>
                  <a:pt x="21878" y="16197"/>
                </a:cubicBezTo>
                <a:cubicBezTo>
                  <a:pt x="21862" y="16464"/>
                  <a:pt x="21906" y="16790"/>
                  <a:pt x="22151" y="16942"/>
                </a:cubicBezTo>
                <a:cubicBezTo>
                  <a:pt x="22327" y="17052"/>
                  <a:pt x="22484" y="17016"/>
                  <a:pt x="22671" y="169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2200" y="2911320"/>
            <a:ext cx="1401840" cy="1366920"/>
          </a:xfrm>
          <a:custGeom>
            <a:avLst/>
            <a:gdLst/>
            <a:ahLst/>
            <a:rect l="l" t="t" r="r" b="b"/>
            <a:pathLst>
              <a:path w="3895" h="3796">
                <a:moveTo>
                  <a:pt x="3473" y="8210"/>
                </a:moveTo>
                <a:cubicBezTo>
                  <a:pt x="3427" y="8201"/>
                  <a:pt x="3204" y="8407"/>
                  <a:pt x="3076" y="8508"/>
                </a:cubicBezTo>
                <a:cubicBezTo>
                  <a:pt x="3163" y="8335"/>
                  <a:pt x="3286" y="8222"/>
                  <a:pt x="3448" y="8111"/>
                </a:cubicBezTo>
                <a:cubicBezTo>
                  <a:pt x="3464" y="8103"/>
                  <a:pt x="3481" y="8094"/>
                  <a:pt x="3497" y="8086"/>
                </a:cubicBezTo>
                <a:cubicBezTo>
                  <a:pt x="3510" y="8232"/>
                  <a:pt x="3545" y="8352"/>
                  <a:pt x="3597" y="8483"/>
                </a:cubicBezTo>
                <a:cubicBezTo>
                  <a:pt x="3605" y="8508"/>
                  <a:pt x="3613" y="8533"/>
                  <a:pt x="3621" y="8558"/>
                </a:cubicBezTo>
              </a:path>
              <a:path w="3895" h="3796">
                <a:moveTo>
                  <a:pt x="2927" y="8731"/>
                </a:moveTo>
                <a:cubicBezTo>
                  <a:pt x="2778" y="8686"/>
                  <a:pt x="2716" y="8685"/>
                  <a:pt x="2604" y="8806"/>
                </a:cubicBezTo>
                <a:cubicBezTo>
                  <a:pt x="2588" y="8831"/>
                  <a:pt x="2571" y="8855"/>
                  <a:pt x="2555" y="8880"/>
                </a:cubicBezTo>
                <a:cubicBezTo>
                  <a:pt x="2635" y="8897"/>
                  <a:pt x="2847" y="8866"/>
                  <a:pt x="2803" y="9004"/>
                </a:cubicBezTo>
                <a:cubicBezTo>
                  <a:pt x="2757" y="9148"/>
                  <a:pt x="2593" y="9117"/>
                  <a:pt x="2480" y="9128"/>
                </a:cubicBezTo>
              </a:path>
              <a:path w="3895" h="3796">
                <a:moveTo>
                  <a:pt x="3870" y="8830"/>
                </a:moveTo>
                <a:cubicBezTo>
                  <a:pt x="3863" y="8757"/>
                  <a:pt x="3851" y="8604"/>
                  <a:pt x="3721" y="8706"/>
                </a:cubicBezTo>
                <a:cubicBezTo>
                  <a:pt x="3696" y="8739"/>
                  <a:pt x="3671" y="8773"/>
                  <a:pt x="3646" y="8806"/>
                </a:cubicBezTo>
                <a:cubicBezTo>
                  <a:pt x="3638" y="8831"/>
                  <a:pt x="3629" y="8855"/>
                  <a:pt x="3621" y="8880"/>
                </a:cubicBezTo>
                <a:cubicBezTo>
                  <a:pt x="3800" y="8833"/>
                  <a:pt x="3898" y="8758"/>
                  <a:pt x="3870" y="9004"/>
                </a:cubicBezTo>
                <a:cubicBezTo>
                  <a:pt x="3862" y="9037"/>
                  <a:pt x="3853" y="9070"/>
                  <a:pt x="3845" y="9103"/>
                </a:cubicBezTo>
              </a:path>
              <a:path w="3895" h="3796">
                <a:moveTo>
                  <a:pt x="2208" y="9054"/>
                </a:moveTo>
                <a:cubicBezTo>
                  <a:pt x="2241" y="9222"/>
                  <a:pt x="2322" y="9341"/>
                  <a:pt x="2505" y="9376"/>
                </a:cubicBezTo>
                <a:cubicBezTo>
                  <a:pt x="2806" y="9434"/>
                  <a:pt x="3053" y="9227"/>
                  <a:pt x="3101" y="8930"/>
                </a:cubicBezTo>
                <a:cubicBezTo>
                  <a:pt x="3165" y="8532"/>
                  <a:pt x="2735" y="8492"/>
                  <a:pt x="2456" y="8558"/>
                </a:cubicBezTo>
                <a:cubicBezTo>
                  <a:pt x="2091" y="8644"/>
                  <a:pt x="2186" y="8846"/>
                  <a:pt x="2208" y="9128"/>
                </a:cubicBezTo>
              </a:path>
              <a:path w="3895" h="3796">
                <a:moveTo>
                  <a:pt x="3770" y="9327"/>
                </a:moveTo>
                <a:cubicBezTo>
                  <a:pt x="3699" y="9433"/>
                  <a:pt x="3633" y="9538"/>
                  <a:pt x="3572" y="9649"/>
                </a:cubicBezTo>
                <a:cubicBezTo>
                  <a:pt x="3666" y="9484"/>
                  <a:pt x="3753" y="9352"/>
                  <a:pt x="3870" y="9203"/>
                </a:cubicBezTo>
                <a:cubicBezTo>
                  <a:pt x="3928" y="9344"/>
                  <a:pt x="3982" y="9485"/>
                  <a:pt x="4043" y="9624"/>
                </a:cubicBezTo>
              </a:path>
              <a:path w="3895" h="3796">
                <a:moveTo>
                  <a:pt x="3175" y="9773"/>
                </a:moveTo>
                <a:cubicBezTo>
                  <a:pt x="3212" y="9754"/>
                  <a:pt x="3420" y="9669"/>
                  <a:pt x="3373" y="9798"/>
                </a:cubicBezTo>
                <a:cubicBezTo>
                  <a:pt x="3324" y="9872"/>
                  <a:pt x="3307" y="9897"/>
                  <a:pt x="3249" y="9922"/>
                </a:cubicBezTo>
                <a:cubicBezTo>
                  <a:pt x="3348" y="9942"/>
                  <a:pt x="3389" y="9924"/>
                  <a:pt x="3373" y="9996"/>
                </a:cubicBezTo>
                <a:cubicBezTo>
                  <a:pt x="3289" y="10119"/>
                  <a:pt x="3271" y="10088"/>
                  <a:pt x="3101" y="10096"/>
                </a:cubicBezTo>
              </a:path>
              <a:path w="3895" h="3796">
                <a:moveTo>
                  <a:pt x="4142" y="9996"/>
                </a:moveTo>
                <a:cubicBezTo>
                  <a:pt x="4228" y="9957"/>
                  <a:pt x="4299" y="9935"/>
                  <a:pt x="4390" y="9922"/>
                </a:cubicBezTo>
                <a:cubicBezTo>
                  <a:pt x="4340" y="10034"/>
                  <a:pt x="4231" y="10052"/>
                  <a:pt x="4341" y="10096"/>
                </a:cubicBezTo>
                <a:cubicBezTo>
                  <a:pt x="4550" y="10180"/>
                  <a:pt x="4243" y="10262"/>
                  <a:pt x="4167" y="10294"/>
                </a:cubicBezTo>
              </a:path>
              <a:path w="3895" h="3796">
                <a:moveTo>
                  <a:pt x="4018" y="10393"/>
                </a:moveTo>
                <a:cubicBezTo>
                  <a:pt x="4262" y="10380"/>
                  <a:pt x="4627" y="10404"/>
                  <a:pt x="4762" y="10145"/>
                </a:cubicBezTo>
                <a:cubicBezTo>
                  <a:pt x="4770" y="10095"/>
                  <a:pt x="4779" y="10046"/>
                  <a:pt x="4787" y="9996"/>
                </a:cubicBezTo>
                <a:cubicBezTo>
                  <a:pt x="4512" y="9765"/>
                  <a:pt x="4140" y="9613"/>
                  <a:pt x="3944" y="10071"/>
                </a:cubicBezTo>
                <a:cubicBezTo>
                  <a:pt x="3944" y="10284"/>
                  <a:pt x="3937" y="10352"/>
                  <a:pt x="4093" y="10418"/>
                </a:cubicBezTo>
              </a:path>
              <a:path w="3895" h="3796">
                <a:moveTo>
                  <a:pt x="2828" y="10220"/>
                </a:moveTo>
                <a:cubicBezTo>
                  <a:pt x="3064" y="10330"/>
                  <a:pt x="3316" y="10368"/>
                  <a:pt x="3572" y="10269"/>
                </a:cubicBezTo>
                <a:cubicBezTo>
                  <a:pt x="3884" y="10148"/>
                  <a:pt x="3863" y="9708"/>
                  <a:pt x="3522" y="9624"/>
                </a:cubicBezTo>
                <a:cubicBezTo>
                  <a:pt x="2995" y="9494"/>
                  <a:pt x="2956" y="9992"/>
                  <a:pt x="3051" y="10294"/>
                </a:cubicBezTo>
              </a:path>
              <a:path w="3895" h="3796">
                <a:moveTo>
                  <a:pt x="1488" y="11063"/>
                </a:moveTo>
                <a:cubicBezTo>
                  <a:pt x="1569" y="11036"/>
                  <a:pt x="1601" y="11028"/>
                  <a:pt x="1662" y="11038"/>
                </a:cubicBezTo>
                <a:cubicBezTo>
                  <a:pt x="1662" y="11190"/>
                  <a:pt x="1613" y="11227"/>
                  <a:pt x="1513" y="11336"/>
                </a:cubicBezTo>
                <a:cubicBezTo>
                  <a:pt x="1625" y="11317"/>
                  <a:pt x="1742" y="11324"/>
                  <a:pt x="1662" y="11485"/>
                </a:cubicBezTo>
                <a:cubicBezTo>
                  <a:pt x="1585" y="11640"/>
                  <a:pt x="1396" y="11634"/>
                  <a:pt x="1265" y="11584"/>
                </a:cubicBezTo>
              </a:path>
              <a:path w="3895" h="3796">
                <a:moveTo>
                  <a:pt x="1960" y="10691"/>
                </a:moveTo>
                <a:cubicBezTo>
                  <a:pt x="2081" y="10779"/>
                  <a:pt x="2135" y="10848"/>
                  <a:pt x="1984" y="10964"/>
                </a:cubicBezTo>
                <a:cubicBezTo>
                  <a:pt x="1882" y="11042"/>
                  <a:pt x="1823" y="11040"/>
                  <a:pt x="1811" y="10964"/>
                </a:cubicBezTo>
                <a:cubicBezTo>
                  <a:pt x="1928" y="10946"/>
                  <a:pt x="1952" y="10956"/>
                  <a:pt x="2059" y="11013"/>
                </a:cubicBezTo>
              </a:path>
              <a:path w="3895" h="3796">
                <a:moveTo>
                  <a:pt x="2356" y="11063"/>
                </a:moveTo>
                <a:cubicBezTo>
                  <a:pt x="2431" y="11155"/>
                  <a:pt x="2508" y="11242"/>
                  <a:pt x="2580" y="11336"/>
                </a:cubicBezTo>
              </a:path>
              <a:path w="3895" h="3796">
                <a:moveTo>
                  <a:pt x="2629" y="10964"/>
                </a:moveTo>
                <a:cubicBezTo>
                  <a:pt x="2544" y="11092"/>
                  <a:pt x="2485" y="11234"/>
                  <a:pt x="2406" y="11361"/>
                </a:cubicBezTo>
              </a:path>
              <a:path w="3895" h="3796">
                <a:moveTo>
                  <a:pt x="3150" y="10939"/>
                </a:moveTo>
                <a:cubicBezTo>
                  <a:pt x="3044" y="10950"/>
                  <a:pt x="2940" y="10945"/>
                  <a:pt x="2902" y="11013"/>
                </a:cubicBezTo>
                <a:cubicBezTo>
                  <a:pt x="2894" y="11030"/>
                  <a:pt x="2885" y="11046"/>
                  <a:pt x="2877" y="11063"/>
                </a:cubicBezTo>
                <a:cubicBezTo>
                  <a:pt x="2973" y="11106"/>
                  <a:pt x="3122" y="11109"/>
                  <a:pt x="3175" y="11212"/>
                </a:cubicBezTo>
                <a:cubicBezTo>
                  <a:pt x="3259" y="11374"/>
                  <a:pt x="3004" y="11380"/>
                  <a:pt x="2927" y="11385"/>
                </a:cubicBezTo>
              </a:path>
              <a:path w="3895" h="3796">
                <a:moveTo>
                  <a:pt x="1339" y="11832"/>
                </a:moveTo>
                <a:cubicBezTo>
                  <a:pt x="1646" y="11908"/>
                  <a:pt x="1966" y="11881"/>
                  <a:pt x="2282" y="11881"/>
                </a:cubicBezTo>
                <a:cubicBezTo>
                  <a:pt x="2620" y="11881"/>
                  <a:pt x="2877" y="11861"/>
                  <a:pt x="3200" y="11757"/>
                </a:cubicBezTo>
                <a:cubicBezTo>
                  <a:pt x="3442" y="11679"/>
                  <a:pt x="3531" y="11650"/>
                  <a:pt x="3597" y="11410"/>
                </a:cubicBezTo>
                <a:cubicBezTo>
                  <a:pt x="3619" y="11330"/>
                  <a:pt x="3653" y="11171"/>
                  <a:pt x="3621" y="11088"/>
                </a:cubicBezTo>
                <a:cubicBezTo>
                  <a:pt x="3591" y="11010"/>
                  <a:pt x="3530" y="10988"/>
                  <a:pt x="3473" y="10939"/>
                </a:cubicBezTo>
                <a:cubicBezTo>
                  <a:pt x="3390" y="10868"/>
                  <a:pt x="3303" y="10854"/>
                  <a:pt x="3200" y="10815"/>
                </a:cubicBezTo>
                <a:cubicBezTo>
                  <a:pt x="3101" y="10777"/>
                  <a:pt x="2996" y="10727"/>
                  <a:pt x="2902" y="10666"/>
                </a:cubicBezTo>
                <a:cubicBezTo>
                  <a:pt x="2847" y="10630"/>
                  <a:pt x="2787" y="10602"/>
                  <a:pt x="2729" y="10567"/>
                </a:cubicBezTo>
                <a:cubicBezTo>
                  <a:pt x="2649" y="10519"/>
                  <a:pt x="2544" y="10452"/>
                  <a:pt x="2456" y="10418"/>
                </a:cubicBezTo>
                <a:cubicBezTo>
                  <a:pt x="2323" y="10367"/>
                  <a:pt x="2171" y="10353"/>
                  <a:pt x="2034" y="10319"/>
                </a:cubicBezTo>
                <a:cubicBezTo>
                  <a:pt x="1873" y="10280"/>
                  <a:pt x="1725" y="10293"/>
                  <a:pt x="1563" y="10319"/>
                </a:cubicBezTo>
                <a:cubicBezTo>
                  <a:pt x="1401" y="10345"/>
                  <a:pt x="1137" y="10393"/>
                  <a:pt x="1017" y="10517"/>
                </a:cubicBezTo>
                <a:cubicBezTo>
                  <a:pt x="929" y="10608"/>
                  <a:pt x="885" y="10741"/>
                  <a:pt x="893" y="10864"/>
                </a:cubicBezTo>
                <a:cubicBezTo>
                  <a:pt x="907" y="11068"/>
                  <a:pt x="980" y="11219"/>
                  <a:pt x="1091" y="11385"/>
                </a:cubicBezTo>
                <a:cubicBezTo>
                  <a:pt x="1200" y="11549"/>
                  <a:pt x="1332" y="11567"/>
                  <a:pt x="1513" y="11609"/>
                </a:cubicBezTo>
                <a:cubicBezTo>
                  <a:pt x="1592" y="11627"/>
                  <a:pt x="1619" y="11637"/>
                  <a:pt x="1687" y="116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10000" y="2928960"/>
            <a:ext cx="1347840" cy="446040"/>
          </a:xfrm>
          <a:custGeom>
            <a:avLst/>
            <a:gdLst/>
            <a:ahLst/>
            <a:rect l="l" t="t" r="r" b="b"/>
            <a:pathLst>
              <a:path w="3747" h="1241">
                <a:moveTo>
                  <a:pt x="11633" y="8235"/>
                </a:moveTo>
                <a:cubicBezTo>
                  <a:pt x="11523" y="8313"/>
                  <a:pt x="11408" y="8500"/>
                  <a:pt x="11311" y="8632"/>
                </a:cubicBezTo>
                <a:cubicBezTo>
                  <a:pt x="11408" y="8457"/>
                  <a:pt x="11509" y="8293"/>
                  <a:pt x="11633" y="8136"/>
                </a:cubicBezTo>
                <a:cubicBezTo>
                  <a:pt x="11675" y="8268"/>
                  <a:pt x="11701" y="8434"/>
                  <a:pt x="11807" y="8533"/>
                </a:cubicBezTo>
                <a:cubicBezTo>
                  <a:pt x="11824" y="8541"/>
                  <a:pt x="11840" y="8550"/>
                  <a:pt x="11857" y="8558"/>
                </a:cubicBezTo>
              </a:path>
              <a:path w="3747" h="1241">
                <a:moveTo>
                  <a:pt x="10468" y="8731"/>
                </a:moveTo>
                <a:cubicBezTo>
                  <a:pt x="10427" y="8754"/>
                  <a:pt x="10376" y="8760"/>
                  <a:pt x="10418" y="8781"/>
                </a:cubicBezTo>
                <a:cubicBezTo>
                  <a:pt x="10624" y="8712"/>
                  <a:pt x="10710" y="8878"/>
                  <a:pt x="10517" y="9029"/>
                </a:cubicBezTo>
                <a:cubicBezTo>
                  <a:pt x="10416" y="9108"/>
                  <a:pt x="10210" y="9168"/>
                  <a:pt x="10170" y="9029"/>
                </a:cubicBezTo>
                <a:cubicBezTo>
                  <a:pt x="10343" y="8992"/>
                  <a:pt x="10435" y="9020"/>
                  <a:pt x="10592" y="9103"/>
                </a:cubicBezTo>
              </a:path>
              <a:path w="3747" h="1241">
                <a:moveTo>
                  <a:pt x="11807" y="8756"/>
                </a:moveTo>
                <a:cubicBezTo>
                  <a:pt x="11857" y="8761"/>
                  <a:pt x="12222" y="8829"/>
                  <a:pt x="12030" y="8979"/>
                </a:cubicBezTo>
                <a:cubicBezTo>
                  <a:pt x="11923" y="9063"/>
                  <a:pt x="11796" y="9029"/>
                  <a:pt x="11683" y="9004"/>
                </a:cubicBezTo>
                <a:cubicBezTo>
                  <a:pt x="11858" y="8910"/>
                  <a:pt x="11935" y="8932"/>
                  <a:pt x="12105" y="9029"/>
                </a:cubicBezTo>
              </a:path>
              <a:path w="3747" h="1241">
                <a:moveTo>
                  <a:pt x="12551" y="8682"/>
                </a:moveTo>
                <a:cubicBezTo>
                  <a:pt x="12466" y="8706"/>
                  <a:pt x="12321" y="8809"/>
                  <a:pt x="12402" y="8930"/>
                </a:cubicBezTo>
                <a:cubicBezTo>
                  <a:pt x="12476" y="9040"/>
                  <a:pt x="12607" y="8895"/>
                  <a:pt x="12650" y="8855"/>
                </a:cubicBezTo>
                <a:cubicBezTo>
                  <a:pt x="12622" y="8738"/>
                  <a:pt x="12596" y="8699"/>
                  <a:pt x="12477" y="8706"/>
                </a:cubicBezTo>
              </a:path>
              <a:path w="3747" h="1241">
                <a:moveTo>
                  <a:pt x="12849" y="8632"/>
                </a:moveTo>
                <a:cubicBezTo>
                  <a:pt x="12789" y="8668"/>
                  <a:pt x="12728" y="8755"/>
                  <a:pt x="12799" y="8830"/>
                </a:cubicBezTo>
                <a:cubicBezTo>
                  <a:pt x="12890" y="8925"/>
                  <a:pt x="13131" y="8865"/>
                  <a:pt x="13072" y="8706"/>
                </a:cubicBezTo>
                <a:cubicBezTo>
                  <a:pt x="13055" y="8698"/>
                  <a:pt x="13039" y="8690"/>
                  <a:pt x="13022" y="8682"/>
                </a:cubicBezTo>
              </a:path>
              <a:path w="3747" h="1241">
                <a:moveTo>
                  <a:pt x="13345" y="8632"/>
                </a:moveTo>
                <a:cubicBezTo>
                  <a:pt x="13289" y="8688"/>
                  <a:pt x="13153" y="8874"/>
                  <a:pt x="13345" y="8880"/>
                </a:cubicBezTo>
                <a:cubicBezTo>
                  <a:pt x="13495" y="8885"/>
                  <a:pt x="13480" y="8785"/>
                  <a:pt x="13494" y="8682"/>
                </a:cubicBezTo>
              </a:path>
              <a:path w="3747" h="1241">
                <a:moveTo>
                  <a:pt x="9773" y="9203"/>
                </a:moveTo>
                <a:cubicBezTo>
                  <a:pt x="9882" y="9402"/>
                  <a:pt x="10151" y="9405"/>
                  <a:pt x="10368" y="9376"/>
                </a:cubicBezTo>
                <a:cubicBezTo>
                  <a:pt x="10618" y="9343"/>
                  <a:pt x="11057" y="9139"/>
                  <a:pt x="10840" y="8806"/>
                </a:cubicBezTo>
                <a:cubicBezTo>
                  <a:pt x="10670" y="8546"/>
                  <a:pt x="10097" y="8403"/>
                  <a:pt x="9872" y="8657"/>
                </a:cubicBezTo>
                <a:cubicBezTo>
                  <a:pt x="9831" y="8748"/>
                  <a:pt x="9789" y="8839"/>
                  <a:pt x="9748" y="89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28960" y="3625920"/>
            <a:ext cx="946080" cy="652320"/>
          </a:xfrm>
          <a:custGeom>
            <a:avLst/>
            <a:gdLst/>
            <a:ahLst/>
            <a:rect l="l" t="t" r="r" b="b"/>
            <a:pathLst>
              <a:path w="2630" h="1811">
                <a:moveTo>
                  <a:pt x="9227" y="10616"/>
                </a:moveTo>
                <a:cubicBezTo>
                  <a:pt x="9120" y="10616"/>
                  <a:pt x="9108" y="10625"/>
                  <a:pt x="9054" y="10716"/>
                </a:cubicBezTo>
                <a:cubicBezTo>
                  <a:pt x="9127" y="10716"/>
                  <a:pt x="9210" y="10693"/>
                  <a:pt x="9227" y="10790"/>
                </a:cubicBezTo>
                <a:cubicBezTo>
                  <a:pt x="9257" y="10958"/>
                  <a:pt x="9079" y="10914"/>
                  <a:pt x="9004" y="10864"/>
                </a:cubicBezTo>
              </a:path>
              <a:path w="2630" h="1811">
                <a:moveTo>
                  <a:pt x="9550" y="10840"/>
                </a:moveTo>
                <a:cubicBezTo>
                  <a:pt x="9621" y="10959"/>
                  <a:pt x="9678" y="11059"/>
                  <a:pt x="9723" y="11187"/>
                </a:cubicBezTo>
              </a:path>
              <a:path w="2630" h="1811">
                <a:moveTo>
                  <a:pt x="9723" y="10889"/>
                </a:moveTo>
                <a:cubicBezTo>
                  <a:pt x="9650" y="11030"/>
                  <a:pt x="9574" y="11170"/>
                  <a:pt x="9500" y="11311"/>
                </a:cubicBezTo>
              </a:path>
              <a:path w="2630" h="1811">
                <a:moveTo>
                  <a:pt x="10195" y="10864"/>
                </a:moveTo>
                <a:cubicBezTo>
                  <a:pt x="10046" y="10939"/>
                  <a:pt x="9984" y="10901"/>
                  <a:pt x="9922" y="11038"/>
                </a:cubicBezTo>
                <a:cubicBezTo>
                  <a:pt x="9914" y="11055"/>
                  <a:pt x="9905" y="11071"/>
                  <a:pt x="9897" y="11088"/>
                </a:cubicBezTo>
                <a:cubicBezTo>
                  <a:pt x="9980" y="11088"/>
                  <a:pt x="10251" y="11049"/>
                  <a:pt x="10195" y="11237"/>
                </a:cubicBezTo>
                <a:cubicBezTo>
                  <a:pt x="10148" y="11397"/>
                  <a:pt x="9994" y="11374"/>
                  <a:pt x="9872" y="11385"/>
                </a:cubicBezTo>
              </a:path>
              <a:path w="2630" h="1811">
                <a:moveTo>
                  <a:pt x="10319" y="10517"/>
                </a:moveTo>
                <a:cubicBezTo>
                  <a:pt x="10364" y="10492"/>
                  <a:pt x="10551" y="10448"/>
                  <a:pt x="10468" y="10592"/>
                </a:cubicBezTo>
                <a:cubicBezTo>
                  <a:pt x="10443" y="10608"/>
                  <a:pt x="10418" y="10625"/>
                  <a:pt x="10393" y="10641"/>
                </a:cubicBezTo>
                <a:cubicBezTo>
                  <a:pt x="10470" y="10656"/>
                  <a:pt x="10497" y="10691"/>
                  <a:pt x="10443" y="10765"/>
                </a:cubicBezTo>
                <a:cubicBezTo>
                  <a:pt x="10392" y="10816"/>
                  <a:pt x="10374" y="10832"/>
                  <a:pt x="10319" y="10815"/>
                </a:cubicBezTo>
              </a:path>
              <a:path w="2630" h="1811">
                <a:moveTo>
                  <a:pt x="8483" y="11857"/>
                </a:moveTo>
                <a:cubicBezTo>
                  <a:pt x="8781" y="11903"/>
                  <a:pt x="9074" y="11865"/>
                  <a:pt x="9376" y="11857"/>
                </a:cubicBezTo>
                <a:cubicBezTo>
                  <a:pt x="9839" y="11845"/>
                  <a:pt x="10170" y="11787"/>
                  <a:pt x="10517" y="11460"/>
                </a:cubicBezTo>
                <a:cubicBezTo>
                  <a:pt x="10716" y="11273"/>
                  <a:pt x="10860" y="10888"/>
                  <a:pt x="10740" y="10616"/>
                </a:cubicBezTo>
                <a:cubicBezTo>
                  <a:pt x="10648" y="10409"/>
                  <a:pt x="10461" y="10285"/>
                  <a:pt x="10269" y="10195"/>
                </a:cubicBezTo>
                <a:cubicBezTo>
                  <a:pt x="10011" y="10074"/>
                  <a:pt x="9657" y="10035"/>
                  <a:pt x="9376" y="10096"/>
                </a:cubicBezTo>
                <a:cubicBezTo>
                  <a:pt x="9004" y="10176"/>
                  <a:pt x="8542" y="10349"/>
                  <a:pt x="8310" y="10666"/>
                </a:cubicBezTo>
                <a:cubicBezTo>
                  <a:pt x="7895" y="11234"/>
                  <a:pt x="8206" y="11553"/>
                  <a:pt x="8657" y="118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86200" y="4098960"/>
            <a:ext cx="706680" cy="544320"/>
          </a:xfrm>
          <a:custGeom>
            <a:avLst/>
            <a:gdLst/>
            <a:ahLst/>
            <a:rect l="l" t="t" r="r" b="b"/>
            <a:pathLst>
              <a:path w="1961" h="1514">
                <a:moveTo>
                  <a:pt x="13320" y="11410"/>
                </a:moveTo>
                <a:cubicBezTo>
                  <a:pt x="13262" y="11696"/>
                  <a:pt x="13549" y="11464"/>
                  <a:pt x="13667" y="11385"/>
                </a:cubicBezTo>
              </a:path>
              <a:path w="1961" h="1514">
                <a:moveTo>
                  <a:pt x="14114" y="12129"/>
                </a:moveTo>
                <a:cubicBezTo>
                  <a:pt x="14184" y="12256"/>
                  <a:pt x="14195" y="12288"/>
                  <a:pt x="14337" y="12204"/>
                </a:cubicBezTo>
                <a:cubicBezTo>
                  <a:pt x="14492" y="12101"/>
                  <a:pt x="14548" y="12064"/>
                  <a:pt x="14660" y="12005"/>
                </a:cubicBezTo>
              </a:path>
              <a:path w="1961" h="1514">
                <a:moveTo>
                  <a:pt x="14709" y="12799"/>
                </a:moveTo>
                <a:cubicBezTo>
                  <a:pt x="14701" y="12824"/>
                  <a:pt x="14692" y="12849"/>
                  <a:pt x="14684" y="12874"/>
                </a:cubicBezTo>
                <a:cubicBezTo>
                  <a:pt x="14880" y="12921"/>
                  <a:pt x="15083" y="12749"/>
                  <a:pt x="15255" y="126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09960" y="3990960"/>
            <a:ext cx="187200" cy="223920"/>
          </a:xfrm>
          <a:custGeom>
            <a:avLst/>
            <a:gdLst/>
            <a:ahLst/>
            <a:rect l="l" t="t" r="r" b="b"/>
            <a:pathLst>
              <a:path w="522" h="621">
                <a:moveTo>
                  <a:pt x="8508" y="11137"/>
                </a:moveTo>
                <a:cubicBezTo>
                  <a:pt x="8756" y="11090"/>
                  <a:pt x="8950" y="11206"/>
                  <a:pt x="8781" y="11509"/>
                </a:cubicBezTo>
                <a:cubicBezTo>
                  <a:pt x="8667" y="11714"/>
                  <a:pt x="8533" y="11695"/>
                  <a:pt x="8359" y="11658"/>
                </a:cubicBezTo>
                <a:cubicBezTo>
                  <a:pt x="8504" y="11434"/>
                  <a:pt x="8613" y="11498"/>
                  <a:pt x="8880" y="115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384960" y="2384280"/>
            <a:ext cx="1714320" cy="687600"/>
          </a:xfrm>
          <a:custGeom>
            <a:avLst/>
            <a:gdLst/>
            <a:ahLst/>
            <a:rect l="l" t="t" r="r" b="b"/>
            <a:pathLst>
              <a:path w="4764" h="1911">
                <a:moveTo>
                  <a:pt x="17983" y="8285"/>
                </a:moveTo>
                <a:cubicBezTo>
                  <a:pt x="18223" y="8510"/>
                  <a:pt x="18536" y="8597"/>
                  <a:pt x="18876" y="8508"/>
                </a:cubicBezTo>
                <a:cubicBezTo>
                  <a:pt x="19297" y="8397"/>
                  <a:pt x="19593" y="7935"/>
                  <a:pt x="19596" y="7516"/>
                </a:cubicBezTo>
                <a:cubicBezTo>
                  <a:pt x="19599" y="7100"/>
                  <a:pt x="19071" y="6775"/>
                  <a:pt x="18728" y="6672"/>
                </a:cubicBezTo>
                <a:cubicBezTo>
                  <a:pt x="18227" y="6522"/>
                  <a:pt x="17757" y="6789"/>
                  <a:pt x="17735" y="7342"/>
                </a:cubicBezTo>
                <a:cubicBezTo>
                  <a:pt x="17804" y="7777"/>
                  <a:pt x="17812" y="7901"/>
                  <a:pt x="17983" y="8136"/>
                </a:cubicBezTo>
              </a:path>
              <a:path w="4764" h="1911">
                <a:moveTo>
                  <a:pt x="20067" y="7987"/>
                </a:moveTo>
                <a:cubicBezTo>
                  <a:pt x="20035" y="8139"/>
                  <a:pt x="20028" y="8445"/>
                  <a:pt x="19993" y="8434"/>
                </a:cubicBezTo>
                <a:cubicBezTo>
                  <a:pt x="19981" y="8053"/>
                  <a:pt x="19985" y="7882"/>
                  <a:pt x="20340" y="7764"/>
                </a:cubicBezTo>
                <a:cubicBezTo>
                  <a:pt x="20439" y="8047"/>
                  <a:pt x="20321" y="8070"/>
                  <a:pt x="20042" y="8111"/>
                </a:cubicBezTo>
              </a:path>
              <a:path w="4764" h="1911">
                <a:moveTo>
                  <a:pt x="20613" y="7888"/>
                </a:moveTo>
                <a:cubicBezTo>
                  <a:pt x="20621" y="7921"/>
                  <a:pt x="20630" y="7954"/>
                  <a:pt x="20638" y="7987"/>
                </a:cubicBezTo>
                <a:cubicBezTo>
                  <a:pt x="20705" y="7863"/>
                  <a:pt x="20761" y="7714"/>
                  <a:pt x="20886" y="7640"/>
                </a:cubicBezTo>
                <a:cubicBezTo>
                  <a:pt x="20911" y="7632"/>
                  <a:pt x="20935" y="7623"/>
                  <a:pt x="20960" y="7615"/>
                </a:cubicBezTo>
              </a:path>
              <a:path w="4764" h="1911">
                <a:moveTo>
                  <a:pt x="21109" y="7813"/>
                </a:moveTo>
                <a:cubicBezTo>
                  <a:pt x="21109" y="7913"/>
                  <a:pt x="21109" y="7946"/>
                  <a:pt x="21109" y="8012"/>
                </a:cubicBezTo>
              </a:path>
              <a:path w="4764" h="1911">
                <a:moveTo>
                  <a:pt x="21332" y="7863"/>
                </a:moveTo>
                <a:cubicBezTo>
                  <a:pt x="21332" y="8083"/>
                  <a:pt x="21304" y="7642"/>
                  <a:pt x="21481" y="7590"/>
                </a:cubicBezTo>
                <a:cubicBezTo>
                  <a:pt x="21626" y="7547"/>
                  <a:pt x="21669" y="7754"/>
                  <a:pt x="21704" y="7838"/>
                </a:cubicBezTo>
                <a:cubicBezTo>
                  <a:pt x="21704" y="7683"/>
                  <a:pt x="21699" y="7668"/>
                  <a:pt x="21803" y="7541"/>
                </a:cubicBezTo>
                <a:cubicBezTo>
                  <a:pt x="21924" y="7651"/>
                  <a:pt x="21947" y="7737"/>
                  <a:pt x="22002" y="7888"/>
                </a:cubicBezTo>
              </a:path>
              <a:path w="4764" h="1911">
                <a:moveTo>
                  <a:pt x="22250" y="7590"/>
                </a:moveTo>
                <a:cubicBezTo>
                  <a:pt x="22340" y="7528"/>
                  <a:pt x="22418" y="7465"/>
                  <a:pt x="22498" y="7392"/>
                </a:cubicBezTo>
                <a:cubicBezTo>
                  <a:pt x="22382" y="7399"/>
                  <a:pt x="21987" y="7561"/>
                  <a:pt x="22250" y="7739"/>
                </a:cubicBezTo>
                <a:cubicBezTo>
                  <a:pt x="22316" y="7756"/>
                  <a:pt x="22382" y="7772"/>
                  <a:pt x="22448" y="7789"/>
                </a:cubicBezTo>
              </a:path>
              <a:path w="4764" h="1911">
                <a:moveTo>
                  <a:pt x="21134" y="7243"/>
                </a:moveTo>
                <a:lnTo>
                  <a:pt x="21134" y="724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54080" y="5027760"/>
            <a:ext cx="258840" cy="196560"/>
          </a:xfrm>
          <a:custGeom>
            <a:avLst/>
            <a:gdLst/>
            <a:ahLst/>
            <a:rect l="l" t="t" r="r" b="b"/>
            <a:pathLst>
              <a:path w="720" h="547">
                <a:moveTo>
                  <a:pt x="3249" y="13965"/>
                </a:moveTo>
                <a:cubicBezTo>
                  <a:pt x="3169" y="14138"/>
                  <a:pt x="3061" y="14252"/>
                  <a:pt x="2927" y="14387"/>
                </a:cubicBezTo>
                <a:cubicBezTo>
                  <a:pt x="3059" y="14223"/>
                  <a:pt x="3166" y="14097"/>
                  <a:pt x="3349" y="13990"/>
                </a:cubicBezTo>
                <a:cubicBezTo>
                  <a:pt x="3365" y="13982"/>
                  <a:pt x="3382" y="13973"/>
                  <a:pt x="3398" y="13965"/>
                </a:cubicBezTo>
                <a:cubicBezTo>
                  <a:pt x="3471" y="14119"/>
                  <a:pt x="3516" y="14286"/>
                  <a:pt x="3597" y="14436"/>
                </a:cubicBezTo>
                <a:cubicBezTo>
                  <a:pt x="3613" y="14461"/>
                  <a:pt x="3630" y="14486"/>
                  <a:pt x="3646" y="145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04880" y="5276880"/>
            <a:ext cx="135000" cy="171360"/>
          </a:xfrm>
          <a:custGeom>
            <a:avLst/>
            <a:gdLst/>
            <a:ahLst/>
            <a:rect l="l" t="t" r="r" b="b"/>
            <a:pathLst>
              <a:path w="373" h="472">
                <a:moveTo>
                  <a:pt x="2307" y="14784"/>
                </a:moveTo>
                <a:cubicBezTo>
                  <a:pt x="2276" y="14677"/>
                  <a:pt x="2170" y="14635"/>
                  <a:pt x="2059" y="14709"/>
                </a:cubicBezTo>
                <a:cubicBezTo>
                  <a:pt x="1975" y="14793"/>
                  <a:pt x="1942" y="14804"/>
                  <a:pt x="1960" y="14883"/>
                </a:cubicBezTo>
                <a:cubicBezTo>
                  <a:pt x="2130" y="14902"/>
                  <a:pt x="2218" y="14910"/>
                  <a:pt x="2332" y="14784"/>
                </a:cubicBezTo>
                <a:cubicBezTo>
                  <a:pt x="2326" y="14908"/>
                  <a:pt x="2311" y="15010"/>
                  <a:pt x="2282" y="151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8840" y="5160960"/>
            <a:ext cx="1251000" cy="876240"/>
          </a:xfrm>
          <a:custGeom>
            <a:avLst/>
            <a:gdLst/>
            <a:ahLst/>
            <a:rect l="l" t="t" r="r" b="b"/>
            <a:pathLst>
              <a:path w="3474" h="2432">
                <a:moveTo>
                  <a:pt x="3448" y="14684"/>
                </a:moveTo>
                <a:cubicBezTo>
                  <a:pt x="3448" y="14801"/>
                  <a:pt x="3453" y="14899"/>
                  <a:pt x="3423" y="15007"/>
                </a:cubicBezTo>
              </a:path>
              <a:path w="3474" h="2432">
                <a:moveTo>
                  <a:pt x="3746" y="14660"/>
                </a:moveTo>
                <a:cubicBezTo>
                  <a:pt x="3753" y="14752"/>
                  <a:pt x="3764" y="14839"/>
                  <a:pt x="3770" y="14932"/>
                </a:cubicBezTo>
              </a:path>
              <a:path w="3474" h="2432">
                <a:moveTo>
                  <a:pt x="3324" y="15280"/>
                </a:moveTo>
                <a:cubicBezTo>
                  <a:pt x="3517" y="15369"/>
                  <a:pt x="3727" y="15385"/>
                  <a:pt x="3919" y="15255"/>
                </a:cubicBezTo>
                <a:cubicBezTo>
                  <a:pt x="4104" y="15130"/>
                  <a:pt x="4259" y="14860"/>
                  <a:pt x="4167" y="14635"/>
                </a:cubicBezTo>
                <a:cubicBezTo>
                  <a:pt x="4074" y="14405"/>
                  <a:pt x="3824" y="14272"/>
                  <a:pt x="3597" y="14387"/>
                </a:cubicBezTo>
                <a:cubicBezTo>
                  <a:pt x="3267" y="14555"/>
                  <a:pt x="3213" y="14825"/>
                  <a:pt x="3274" y="15131"/>
                </a:cubicBezTo>
              </a:path>
              <a:path w="3474" h="2432">
                <a:moveTo>
                  <a:pt x="2133" y="15255"/>
                </a:moveTo>
                <a:cubicBezTo>
                  <a:pt x="2029" y="15385"/>
                  <a:pt x="1932" y="15506"/>
                  <a:pt x="1811" y="15627"/>
                </a:cubicBezTo>
                <a:cubicBezTo>
                  <a:pt x="1794" y="15644"/>
                  <a:pt x="1778" y="15660"/>
                  <a:pt x="1761" y="15677"/>
                </a:cubicBezTo>
                <a:cubicBezTo>
                  <a:pt x="1882" y="15529"/>
                  <a:pt x="1997" y="15352"/>
                  <a:pt x="2133" y="15230"/>
                </a:cubicBezTo>
                <a:cubicBezTo>
                  <a:pt x="2256" y="15308"/>
                  <a:pt x="2280" y="15407"/>
                  <a:pt x="2332" y="15553"/>
                </a:cubicBezTo>
              </a:path>
              <a:path w="3474" h="2432">
                <a:moveTo>
                  <a:pt x="1290" y="15751"/>
                </a:moveTo>
                <a:cubicBezTo>
                  <a:pt x="1386" y="15751"/>
                  <a:pt x="1416" y="15749"/>
                  <a:pt x="1463" y="15801"/>
                </a:cubicBezTo>
                <a:cubicBezTo>
                  <a:pt x="1429" y="15920"/>
                  <a:pt x="1354" y="16000"/>
                  <a:pt x="1215" y="15999"/>
                </a:cubicBezTo>
                <a:cubicBezTo>
                  <a:pt x="1232" y="15991"/>
                  <a:pt x="1248" y="15982"/>
                  <a:pt x="1265" y="15974"/>
                </a:cubicBezTo>
                <a:cubicBezTo>
                  <a:pt x="1356" y="15981"/>
                  <a:pt x="1501" y="16075"/>
                  <a:pt x="1364" y="16049"/>
                </a:cubicBezTo>
                <a:cubicBezTo>
                  <a:pt x="1234" y="16024"/>
                  <a:pt x="1237" y="16033"/>
                  <a:pt x="1215" y="15925"/>
                </a:cubicBezTo>
              </a:path>
              <a:path w="3474" h="2432">
                <a:moveTo>
                  <a:pt x="2332" y="15677"/>
                </a:moveTo>
                <a:cubicBezTo>
                  <a:pt x="2362" y="15673"/>
                  <a:pt x="2660" y="15627"/>
                  <a:pt x="2580" y="15751"/>
                </a:cubicBezTo>
                <a:cubicBezTo>
                  <a:pt x="2524" y="15837"/>
                  <a:pt x="2442" y="15841"/>
                  <a:pt x="2356" y="15875"/>
                </a:cubicBezTo>
                <a:cubicBezTo>
                  <a:pt x="2457" y="15891"/>
                  <a:pt x="2499" y="15910"/>
                  <a:pt x="2580" y="15974"/>
                </a:cubicBezTo>
                <a:cubicBezTo>
                  <a:pt x="2437" y="15999"/>
                  <a:pt x="2392" y="15997"/>
                  <a:pt x="2257" y="15949"/>
                </a:cubicBezTo>
              </a:path>
              <a:path w="3474" h="2432">
                <a:moveTo>
                  <a:pt x="2108" y="16272"/>
                </a:moveTo>
                <a:cubicBezTo>
                  <a:pt x="2297" y="16365"/>
                  <a:pt x="2486" y="16364"/>
                  <a:pt x="2679" y="16247"/>
                </a:cubicBezTo>
                <a:cubicBezTo>
                  <a:pt x="2863" y="16136"/>
                  <a:pt x="3040" y="15979"/>
                  <a:pt x="3026" y="15776"/>
                </a:cubicBezTo>
                <a:cubicBezTo>
                  <a:pt x="2799" y="15621"/>
                  <a:pt x="2472" y="15460"/>
                  <a:pt x="2208" y="15677"/>
                </a:cubicBezTo>
                <a:cubicBezTo>
                  <a:pt x="1991" y="15856"/>
                  <a:pt x="2082" y="16004"/>
                  <a:pt x="2183" y="16173"/>
                </a:cubicBezTo>
              </a:path>
              <a:path w="3474" h="2432">
                <a:moveTo>
                  <a:pt x="1463" y="16123"/>
                </a:moveTo>
                <a:cubicBezTo>
                  <a:pt x="1463" y="16215"/>
                  <a:pt x="1489" y="16306"/>
                  <a:pt x="1414" y="16371"/>
                </a:cubicBezTo>
                <a:cubicBezTo>
                  <a:pt x="1325" y="16447"/>
                  <a:pt x="1303" y="16434"/>
                  <a:pt x="1240" y="16371"/>
                </a:cubicBezTo>
              </a:path>
              <a:path w="3474" h="2432">
                <a:moveTo>
                  <a:pt x="943" y="16669"/>
                </a:moveTo>
                <a:cubicBezTo>
                  <a:pt x="1059" y="16736"/>
                  <a:pt x="1202" y="16777"/>
                  <a:pt x="1339" y="16768"/>
                </a:cubicBezTo>
                <a:cubicBezTo>
                  <a:pt x="1433" y="16762"/>
                  <a:pt x="1566" y="16562"/>
                  <a:pt x="1612" y="16495"/>
                </a:cubicBezTo>
                <a:cubicBezTo>
                  <a:pt x="1719" y="16338"/>
                  <a:pt x="1762" y="16149"/>
                  <a:pt x="1687" y="15974"/>
                </a:cubicBezTo>
                <a:cubicBezTo>
                  <a:pt x="1638" y="15859"/>
                  <a:pt x="1524" y="15795"/>
                  <a:pt x="1414" y="15751"/>
                </a:cubicBezTo>
                <a:cubicBezTo>
                  <a:pt x="1346" y="15724"/>
                  <a:pt x="1267" y="15705"/>
                  <a:pt x="1191" y="15701"/>
                </a:cubicBezTo>
                <a:cubicBezTo>
                  <a:pt x="1064" y="15695"/>
                  <a:pt x="943" y="15780"/>
                  <a:pt x="868" y="15875"/>
                </a:cubicBezTo>
                <a:cubicBezTo>
                  <a:pt x="786" y="15979"/>
                  <a:pt x="653" y="16211"/>
                  <a:pt x="744" y="16346"/>
                </a:cubicBezTo>
                <a:cubicBezTo>
                  <a:pt x="870" y="16447"/>
                  <a:pt x="913" y="16482"/>
                  <a:pt x="1017" y="165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7680" y="5840280"/>
            <a:ext cx="1179360" cy="554040"/>
          </a:xfrm>
          <a:custGeom>
            <a:avLst/>
            <a:gdLst/>
            <a:ahLst/>
            <a:rect l="l" t="t" r="r" b="b"/>
            <a:pathLst>
              <a:path w="3275" h="1539">
                <a:moveTo>
                  <a:pt x="2059" y="16768"/>
                </a:moveTo>
                <a:cubicBezTo>
                  <a:pt x="2140" y="16791"/>
                  <a:pt x="2222" y="16800"/>
                  <a:pt x="2307" y="16818"/>
                </a:cubicBezTo>
                <a:cubicBezTo>
                  <a:pt x="2338" y="17014"/>
                  <a:pt x="2249" y="17083"/>
                  <a:pt x="2084" y="17190"/>
                </a:cubicBezTo>
                <a:cubicBezTo>
                  <a:pt x="2067" y="17198"/>
                  <a:pt x="2051" y="17206"/>
                  <a:pt x="2034" y="17214"/>
                </a:cubicBezTo>
                <a:cubicBezTo>
                  <a:pt x="2127" y="17204"/>
                  <a:pt x="2281" y="17140"/>
                  <a:pt x="2356" y="17239"/>
                </a:cubicBezTo>
                <a:cubicBezTo>
                  <a:pt x="2356" y="17264"/>
                  <a:pt x="2356" y="17289"/>
                  <a:pt x="2356" y="17314"/>
                </a:cubicBezTo>
                <a:cubicBezTo>
                  <a:pt x="2273" y="17456"/>
                  <a:pt x="2164" y="17546"/>
                  <a:pt x="1984" y="17537"/>
                </a:cubicBezTo>
                <a:cubicBezTo>
                  <a:pt x="1889" y="17513"/>
                  <a:pt x="1859" y="17508"/>
                  <a:pt x="1836" y="17438"/>
                </a:cubicBezTo>
              </a:path>
              <a:path w="3275" h="1539">
                <a:moveTo>
                  <a:pt x="2704" y="16793"/>
                </a:moveTo>
                <a:cubicBezTo>
                  <a:pt x="2727" y="16722"/>
                  <a:pt x="2752" y="16721"/>
                  <a:pt x="2828" y="16743"/>
                </a:cubicBezTo>
                <a:cubicBezTo>
                  <a:pt x="2828" y="16917"/>
                  <a:pt x="2774" y="16986"/>
                  <a:pt x="2604" y="17066"/>
                </a:cubicBezTo>
                <a:cubicBezTo>
                  <a:pt x="2498" y="17116"/>
                  <a:pt x="2459" y="17137"/>
                  <a:pt x="2381" y="17090"/>
                </a:cubicBezTo>
                <a:cubicBezTo>
                  <a:pt x="2394" y="16999"/>
                  <a:pt x="2434" y="16979"/>
                  <a:pt x="2530" y="17016"/>
                </a:cubicBezTo>
                <a:cubicBezTo>
                  <a:pt x="2629" y="17066"/>
                  <a:pt x="2662" y="17083"/>
                  <a:pt x="2729" y="17115"/>
                </a:cubicBezTo>
              </a:path>
              <a:path w="3275" h="1539">
                <a:moveTo>
                  <a:pt x="3150" y="16842"/>
                </a:moveTo>
                <a:cubicBezTo>
                  <a:pt x="3220" y="16964"/>
                  <a:pt x="3266" y="17098"/>
                  <a:pt x="3349" y="17214"/>
                </a:cubicBezTo>
                <a:cubicBezTo>
                  <a:pt x="3357" y="17222"/>
                  <a:pt x="3365" y="17231"/>
                  <a:pt x="3373" y="17239"/>
                </a:cubicBezTo>
              </a:path>
              <a:path w="3275" h="1539">
                <a:moveTo>
                  <a:pt x="3398" y="16917"/>
                </a:moveTo>
                <a:cubicBezTo>
                  <a:pt x="3278" y="17037"/>
                  <a:pt x="3192" y="17132"/>
                  <a:pt x="3125" y="17289"/>
                </a:cubicBezTo>
              </a:path>
              <a:path w="3275" h="1539">
                <a:moveTo>
                  <a:pt x="3845" y="16818"/>
                </a:moveTo>
                <a:cubicBezTo>
                  <a:pt x="3833" y="16963"/>
                  <a:pt x="3833" y="17123"/>
                  <a:pt x="3795" y="17264"/>
                </a:cubicBezTo>
                <a:cubicBezTo>
                  <a:pt x="3787" y="17281"/>
                  <a:pt x="3778" y="17297"/>
                  <a:pt x="3770" y="17314"/>
                </a:cubicBezTo>
              </a:path>
              <a:path w="3275" h="1539">
                <a:moveTo>
                  <a:pt x="4118" y="16718"/>
                </a:moveTo>
                <a:cubicBezTo>
                  <a:pt x="4143" y="16883"/>
                  <a:pt x="4174" y="17127"/>
                  <a:pt x="4118" y="17289"/>
                </a:cubicBezTo>
                <a:cubicBezTo>
                  <a:pt x="4101" y="17305"/>
                  <a:pt x="4085" y="17322"/>
                  <a:pt x="4068" y="17338"/>
                </a:cubicBezTo>
              </a:path>
              <a:path w="3275" h="1539">
                <a:moveTo>
                  <a:pt x="2332" y="17711"/>
                </a:moveTo>
                <a:cubicBezTo>
                  <a:pt x="2503" y="17784"/>
                  <a:pt x="2685" y="17760"/>
                  <a:pt x="2877" y="17760"/>
                </a:cubicBezTo>
                <a:cubicBezTo>
                  <a:pt x="3161" y="17760"/>
                  <a:pt x="3439" y="17763"/>
                  <a:pt x="3721" y="17735"/>
                </a:cubicBezTo>
                <a:cubicBezTo>
                  <a:pt x="3970" y="17710"/>
                  <a:pt x="4141" y="17661"/>
                  <a:pt x="4366" y="17562"/>
                </a:cubicBezTo>
                <a:cubicBezTo>
                  <a:pt x="4509" y="17499"/>
                  <a:pt x="4627" y="17390"/>
                  <a:pt x="4688" y="17239"/>
                </a:cubicBezTo>
                <a:cubicBezTo>
                  <a:pt x="4733" y="17128"/>
                  <a:pt x="4714" y="16948"/>
                  <a:pt x="4663" y="16842"/>
                </a:cubicBezTo>
                <a:cubicBezTo>
                  <a:pt x="4589" y="16689"/>
                  <a:pt x="4465" y="16611"/>
                  <a:pt x="4316" y="16545"/>
                </a:cubicBezTo>
                <a:cubicBezTo>
                  <a:pt x="4187" y="16488"/>
                  <a:pt x="4051" y="16443"/>
                  <a:pt x="3919" y="16396"/>
                </a:cubicBezTo>
                <a:cubicBezTo>
                  <a:pt x="3814" y="16358"/>
                  <a:pt x="3704" y="16327"/>
                  <a:pt x="3597" y="16297"/>
                </a:cubicBezTo>
                <a:cubicBezTo>
                  <a:pt x="3483" y="16265"/>
                  <a:pt x="3364" y="16233"/>
                  <a:pt x="3249" y="16222"/>
                </a:cubicBezTo>
                <a:cubicBezTo>
                  <a:pt x="3054" y="16204"/>
                  <a:pt x="2793" y="16190"/>
                  <a:pt x="2604" y="16247"/>
                </a:cubicBezTo>
                <a:cubicBezTo>
                  <a:pt x="2446" y="16295"/>
                  <a:pt x="2257" y="16328"/>
                  <a:pt x="2108" y="16396"/>
                </a:cubicBezTo>
                <a:cubicBezTo>
                  <a:pt x="1991" y="16450"/>
                  <a:pt x="1874" y="16502"/>
                  <a:pt x="1761" y="16570"/>
                </a:cubicBezTo>
                <a:cubicBezTo>
                  <a:pt x="1695" y="16609"/>
                  <a:pt x="1621" y="16646"/>
                  <a:pt x="1563" y="16694"/>
                </a:cubicBezTo>
                <a:cubicBezTo>
                  <a:pt x="1447" y="16790"/>
                  <a:pt x="1443" y="16926"/>
                  <a:pt x="1439" y="17066"/>
                </a:cubicBezTo>
                <a:cubicBezTo>
                  <a:pt x="1436" y="17184"/>
                  <a:pt x="1487" y="17320"/>
                  <a:pt x="1563" y="17413"/>
                </a:cubicBezTo>
                <a:cubicBezTo>
                  <a:pt x="1670" y="17545"/>
                  <a:pt x="1747" y="17576"/>
                  <a:pt x="1910" y="17611"/>
                </a:cubicBezTo>
                <a:cubicBezTo>
                  <a:pt x="2041" y="17637"/>
                  <a:pt x="2090" y="17646"/>
                  <a:pt x="2183" y="176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963880" y="4983120"/>
            <a:ext cx="1260360" cy="919080"/>
          </a:xfrm>
          <a:custGeom>
            <a:avLst/>
            <a:gdLst/>
            <a:ahLst/>
            <a:rect l="l" t="t" r="r" b="b"/>
            <a:pathLst>
              <a:path w="3499" h="2556">
                <a:moveTo>
                  <a:pt x="10914" y="13940"/>
                </a:moveTo>
                <a:cubicBezTo>
                  <a:pt x="10813" y="14075"/>
                  <a:pt x="10711" y="14193"/>
                  <a:pt x="10592" y="14312"/>
                </a:cubicBezTo>
                <a:cubicBezTo>
                  <a:pt x="10677" y="14178"/>
                  <a:pt x="10770" y="14023"/>
                  <a:pt x="10889" y="13915"/>
                </a:cubicBezTo>
                <a:cubicBezTo>
                  <a:pt x="10922" y="13890"/>
                  <a:pt x="10955" y="13866"/>
                  <a:pt x="10988" y="13841"/>
                </a:cubicBezTo>
                <a:cubicBezTo>
                  <a:pt x="11076" y="13952"/>
                  <a:pt x="11111" y="14112"/>
                  <a:pt x="11212" y="14213"/>
                </a:cubicBezTo>
                <a:cubicBezTo>
                  <a:pt x="11261" y="14238"/>
                  <a:pt x="11278" y="14247"/>
                  <a:pt x="11311" y="14263"/>
                </a:cubicBezTo>
              </a:path>
              <a:path w="3499" h="2556">
                <a:moveTo>
                  <a:pt x="10120" y="14536"/>
                </a:moveTo>
                <a:cubicBezTo>
                  <a:pt x="10019" y="14644"/>
                  <a:pt x="9838" y="14787"/>
                  <a:pt x="9922" y="14957"/>
                </a:cubicBezTo>
                <a:cubicBezTo>
                  <a:pt x="10013" y="15140"/>
                  <a:pt x="10295" y="15052"/>
                  <a:pt x="10393" y="14932"/>
                </a:cubicBezTo>
                <a:cubicBezTo>
                  <a:pt x="10564" y="14723"/>
                  <a:pt x="10295" y="14809"/>
                  <a:pt x="10220" y="14908"/>
                </a:cubicBezTo>
              </a:path>
              <a:path w="3499" h="2556">
                <a:moveTo>
                  <a:pt x="11485" y="14387"/>
                </a:moveTo>
                <a:cubicBezTo>
                  <a:pt x="11427" y="14552"/>
                  <a:pt x="11363" y="14664"/>
                  <a:pt x="11410" y="14833"/>
                </a:cubicBezTo>
                <a:cubicBezTo>
                  <a:pt x="11583" y="14854"/>
                  <a:pt x="11663" y="14857"/>
                  <a:pt x="11733" y="14684"/>
                </a:cubicBezTo>
                <a:cubicBezTo>
                  <a:pt x="11580" y="14668"/>
                  <a:pt x="11577" y="14768"/>
                  <a:pt x="11559" y="14908"/>
                </a:cubicBezTo>
              </a:path>
              <a:path w="3499" h="2556">
                <a:moveTo>
                  <a:pt x="9773" y="15230"/>
                </a:moveTo>
                <a:cubicBezTo>
                  <a:pt x="9677" y="15343"/>
                  <a:pt x="9580" y="15448"/>
                  <a:pt x="9475" y="15553"/>
                </a:cubicBezTo>
                <a:cubicBezTo>
                  <a:pt x="9582" y="15482"/>
                  <a:pt x="9710" y="15316"/>
                  <a:pt x="9798" y="15205"/>
                </a:cubicBezTo>
                <a:cubicBezTo>
                  <a:pt x="9806" y="15189"/>
                  <a:pt x="9815" y="15172"/>
                  <a:pt x="9823" y="15156"/>
                </a:cubicBezTo>
                <a:cubicBezTo>
                  <a:pt x="9913" y="15269"/>
                  <a:pt x="9957" y="15397"/>
                  <a:pt x="10021" y="15528"/>
                </a:cubicBezTo>
                <a:cubicBezTo>
                  <a:pt x="10029" y="15544"/>
                  <a:pt x="10038" y="15561"/>
                  <a:pt x="10046" y="15577"/>
                </a:cubicBezTo>
              </a:path>
              <a:path w="3499" h="2556">
                <a:moveTo>
                  <a:pt x="8632" y="15652"/>
                </a:moveTo>
                <a:cubicBezTo>
                  <a:pt x="8791" y="15672"/>
                  <a:pt x="8794" y="15682"/>
                  <a:pt x="8905" y="15801"/>
                </a:cubicBezTo>
                <a:cubicBezTo>
                  <a:pt x="8772" y="16029"/>
                  <a:pt x="8699" y="16048"/>
                  <a:pt x="8434" y="16024"/>
                </a:cubicBezTo>
                <a:cubicBezTo>
                  <a:pt x="8519" y="15867"/>
                  <a:pt x="8665" y="15862"/>
                  <a:pt x="8830" y="15974"/>
                </a:cubicBezTo>
                <a:cubicBezTo>
                  <a:pt x="8847" y="15991"/>
                  <a:pt x="8863" y="16007"/>
                  <a:pt x="8880" y="16024"/>
                </a:cubicBezTo>
              </a:path>
              <a:path w="3499" h="2556">
                <a:moveTo>
                  <a:pt x="10046" y="15801"/>
                </a:moveTo>
                <a:cubicBezTo>
                  <a:pt x="10158" y="15768"/>
                  <a:pt x="10454" y="15754"/>
                  <a:pt x="10244" y="15949"/>
                </a:cubicBezTo>
                <a:cubicBezTo>
                  <a:pt x="10211" y="15966"/>
                  <a:pt x="10178" y="15982"/>
                  <a:pt x="10145" y="15999"/>
                </a:cubicBezTo>
                <a:cubicBezTo>
                  <a:pt x="10053" y="16031"/>
                  <a:pt x="10256" y="15941"/>
                  <a:pt x="10344" y="16049"/>
                </a:cubicBezTo>
                <a:cubicBezTo>
                  <a:pt x="10496" y="16235"/>
                  <a:pt x="9992" y="16176"/>
                  <a:pt x="9947" y="16173"/>
                </a:cubicBezTo>
              </a:path>
              <a:path w="3499" h="2556">
                <a:moveTo>
                  <a:pt x="9674" y="16321"/>
                </a:moveTo>
                <a:cubicBezTo>
                  <a:pt x="9885" y="16400"/>
                  <a:pt x="10128" y="16436"/>
                  <a:pt x="10344" y="16321"/>
                </a:cubicBezTo>
                <a:cubicBezTo>
                  <a:pt x="10519" y="16227"/>
                  <a:pt x="10722" y="15921"/>
                  <a:pt x="10567" y="15726"/>
                </a:cubicBezTo>
                <a:cubicBezTo>
                  <a:pt x="10328" y="15426"/>
                  <a:pt x="9920" y="15681"/>
                  <a:pt x="9798" y="15949"/>
                </a:cubicBezTo>
                <a:cubicBezTo>
                  <a:pt x="9773" y="16146"/>
                  <a:pt x="9764" y="16210"/>
                  <a:pt x="9897" y="16297"/>
                </a:cubicBezTo>
              </a:path>
              <a:path w="3499" h="2556">
                <a:moveTo>
                  <a:pt x="8235" y="16148"/>
                </a:moveTo>
                <a:cubicBezTo>
                  <a:pt x="8342" y="16392"/>
                  <a:pt x="8506" y="16421"/>
                  <a:pt x="8781" y="16396"/>
                </a:cubicBezTo>
                <a:cubicBezTo>
                  <a:pt x="9005" y="16375"/>
                  <a:pt x="9436" y="16161"/>
                  <a:pt x="9252" y="15850"/>
                </a:cubicBezTo>
                <a:cubicBezTo>
                  <a:pt x="9097" y="15587"/>
                  <a:pt x="8524" y="15423"/>
                  <a:pt x="8310" y="15701"/>
                </a:cubicBezTo>
                <a:cubicBezTo>
                  <a:pt x="8237" y="15942"/>
                  <a:pt x="8210" y="16017"/>
                  <a:pt x="8310" y="161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143160" y="5419800"/>
            <a:ext cx="1527120" cy="1073160"/>
          </a:xfrm>
          <a:custGeom>
            <a:avLst/>
            <a:gdLst/>
            <a:ahLst/>
            <a:rect l="l" t="t" r="r" b="b"/>
            <a:pathLst>
              <a:path w="4243" h="2978">
                <a:moveTo>
                  <a:pt x="11609" y="15106"/>
                </a:moveTo>
                <a:cubicBezTo>
                  <a:pt x="11559" y="15239"/>
                  <a:pt x="11520" y="15341"/>
                  <a:pt x="11435" y="15453"/>
                </a:cubicBezTo>
                <a:cubicBezTo>
                  <a:pt x="11497" y="15310"/>
                  <a:pt x="11545" y="15156"/>
                  <a:pt x="11658" y="15056"/>
                </a:cubicBezTo>
                <a:cubicBezTo>
                  <a:pt x="11811" y="15127"/>
                  <a:pt x="11921" y="15224"/>
                  <a:pt x="12080" y="15280"/>
                </a:cubicBezTo>
              </a:path>
              <a:path w="4243" h="2978">
                <a:moveTo>
                  <a:pt x="11311" y="15801"/>
                </a:moveTo>
                <a:cubicBezTo>
                  <a:pt x="11383" y="15793"/>
                  <a:pt x="11418" y="15786"/>
                  <a:pt x="11485" y="15801"/>
                </a:cubicBezTo>
                <a:cubicBezTo>
                  <a:pt x="11462" y="15990"/>
                  <a:pt x="11398" y="16125"/>
                  <a:pt x="11162" y="16098"/>
                </a:cubicBezTo>
                <a:cubicBezTo>
                  <a:pt x="11129" y="16082"/>
                  <a:pt x="11096" y="16065"/>
                  <a:pt x="11063" y="16049"/>
                </a:cubicBezTo>
                <a:cubicBezTo>
                  <a:pt x="11167" y="15900"/>
                  <a:pt x="11261" y="15948"/>
                  <a:pt x="11410" y="16049"/>
                </a:cubicBezTo>
                <a:cubicBezTo>
                  <a:pt x="11418" y="16057"/>
                  <a:pt x="11427" y="16065"/>
                  <a:pt x="11435" y="16073"/>
                </a:cubicBezTo>
              </a:path>
              <a:path w="4243" h="2978">
                <a:moveTo>
                  <a:pt x="12229" y="15429"/>
                </a:moveTo>
                <a:cubicBezTo>
                  <a:pt x="12273" y="15404"/>
                  <a:pt x="12477" y="15304"/>
                  <a:pt x="12452" y="15453"/>
                </a:cubicBezTo>
                <a:cubicBezTo>
                  <a:pt x="12399" y="15532"/>
                  <a:pt x="12379" y="15560"/>
                  <a:pt x="12328" y="15602"/>
                </a:cubicBezTo>
                <a:cubicBezTo>
                  <a:pt x="12328" y="15552"/>
                  <a:pt x="12489" y="15600"/>
                  <a:pt x="12502" y="15701"/>
                </a:cubicBezTo>
                <a:cubicBezTo>
                  <a:pt x="12523" y="15867"/>
                  <a:pt x="12351" y="15840"/>
                  <a:pt x="12254" y="15850"/>
                </a:cubicBezTo>
              </a:path>
              <a:path w="4243" h="2978">
                <a:moveTo>
                  <a:pt x="12005" y="15974"/>
                </a:moveTo>
                <a:cubicBezTo>
                  <a:pt x="12239" y="16035"/>
                  <a:pt x="12509" y="16047"/>
                  <a:pt x="12750" y="15974"/>
                </a:cubicBezTo>
                <a:cubicBezTo>
                  <a:pt x="13084" y="15873"/>
                  <a:pt x="12972" y="15555"/>
                  <a:pt x="12774" y="15379"/>
                </a:cubicBezTo>
                <a:cubicBezTo>
                  <a:pt x="12447" y="15087"/>
                  <a:pt x="12125" y="15259"/>
                  <a:pt x="12055" y="15677"/>
                </a:cubicBezTo>
                <a:cubicBezTo>
                  <a:pt x="12063" y="15751"/>
                  <a:pt x="12072" y="15826"/>
                  <a:pt x="12080" y="15900"/>
                </a:cubicBezTo>
              </a:path>
              <a:path w="4243" h="2978">
                <a:moveTo>
                  <a:pt x="11038" y="16297"/>
                </a:moveTo>
                <a:cubicBezTo>
                  <a:pt x="11092" y="16440"/>
                  <a:pt x="11311" y="16451"/>
                  <a:pt x="11460" y="16421"/>
                </a:cubicBezTo>
                <a:cubicBezTo>
                  <a:pt x="11697" y="16373"/>
                  <a:pt x="11998" y="16129"/>
                  <a:pt x="11906" y="15850"/>
                </a:cubicBezTo>
                <a:cubicBezTo>
                  <a:pt x="11797" y="15519"/>
                  <a:pt x="11338" y="15403"/>
                  <a:pt x="11088" y="15627"/>
                </a:cubicBezTo>
                <a:cubicBezTo>
                  <a:pt x="10802" y="15883"/>
                  <a:pt x="10948" y="16010"/>
                  <a:pt x="11112" y="16222"/>
                </a:cubicBezTo>
              </a:path>
              <a:path w="4243" h="2978">
                <a:moveTo>
                  <a:pt x="9451" y="17016"/>
                </a:moveTo>
                <a:cubicBezTo>
                  <a:pt x="9575" y="17037"/>
                  <a:pt x="9683" y="17127"/>
                  <a:pt x="9699" y="17264"/>
                </a:cubicBezTo>
                <a:cubicBezTo>
                  <a:pt x="9725" y="17495"/>
                  <a:pt x="9384" y="17626"/>
                  <a:pt x="9203" y="17611"/>
                </a:cubicBezTo>
                <a:cubicBezTo>
                  <a:pt x="9170" y="17595"/>
                  <a:pt x="9136" y="17578"/>
                  <a:pt x="9103" y="17562"/>
                </a:cubicBezTo>
                <a:cubicBezTo>
                  <a:pt x="9197" y="17421"/>
                  <a:pt x="9304" y="17346"/>
                  <a:pt x="9475" y="17438"/>
                </a:cubicBezTo>
                <a:cubicBezTo>
                  <a:pt x="9551" y="17494"/>
                  <a:pt x="9564" y="17497"/>
                  <a:pt x="9599" y="17537"/>
                </a:cubicBezTo>
              </a:path>
              <a:path w="4243" h="2978">
                <a:moveTo>
                  <a:pt x="9798" y="16818"/>
                </a:moveTo>
                <a:cubicBezTo>
                  <a:pt x="9865" y="16855"/>
                  <a:pt x="9915" y="16891"/>
                  <a:pt x="9971" y="16942"/>
                </a:cubicBezTo>
                <a:cubicBezTo>
                  <a:pt x="9902" y="17081"/>
                  <a:pt x="9799" y="17159"/>
                  <a:pt x="9624" y="17115"/>
                </a:cubicBezTo>
                <a:cubicBezTo>
                  <a:pt x="9568" y="17078"/>
                  <a:pt x="9543" y="17083"/>
                  <a:pt x="9550" y="17041"/>
                </a:cubicBezTo>
                <a:cubicBezTo>
                  <a:pt x="9714" y="16977"/>
                  <a:pt x="9770" y="17010"/>
                  <a:pt x="9847" y="17165"/>
                </a:cubicBezTo>
              </a:path>
              <a:path w="4243" h="2978">
                <a:moveTo>
                  <a:pt x="10269" y="17041"/>
                </a:moveTo>
                <a:cubicBezTo>
                  <a:pt x="10351" y="17183"/>
                  <a:pt x="10433" y="17323"/>
                  <a:pt x="10517" y="17462"/>
                </a:cubicBezTo>
              </a:path>
              <a:path w="4243" h="2978">
                <a:moveTo>
                  <a:pt x="10542" y="17066"/>
                </a:moveTo>
                <a:cubicBezTo>
                  <a:pt x="10444" y="17224"/>
                  <a:pt x="10344" y="17381"/>
                  <a:pt x="10244" y="17537"/>
                </a:cubicBezTo>
              </a:path>
              <a:path w="4243" h="2978">
                <a:moveTo>
                  <a:pt x="10840" y="17041"/>
                </a:moveTo>
                <a:cubicBezTo>
                  <a:pt x="10925" y="17058"/>
                  <a:pt x="11277" y="17081"/>
                  <a:pt x="11112" y="17239"/>
                </a:cubicBezTo>
                <a:cubicBezTo>
                  <a:pt x="11016" y="17288"/>
                  <a:pt x="10985" y="17304"/>
                  <a:pt x="10914" y="17314"/>
                </a:cubicBezTo>
                <a:cubicBezTo>
                  <a:pt x="11075" y="17325"/>
                  <a:pt x="11061" y="17314"/>
                  <a:pt x="11137" y="17438"/>
                </a:cubicBezTo>
                <a:cubicBezTo>
                  <a:pt x="11052" y="17636"/>
                  <a:pt x="10966" y="17610"/>
                  <a:pt x="10765" y="17562"/>
                </a:cubicBezTo>
              </a:path>
              <a:path w="4243" h="2978">
                <a:moveTo>
                  <a:pt x="11410" y="16867"/>
                </a:moveTo>
                <a:cubicBezTo>
                  <a:pt x="11481" y="16876"/>
                  <a:pt x="11577" y="16924"/>
                  <a:pt x="11584" y="17016"/>
                </a:cubicBezTo>
                <a:cubicBezTo>
                  <a:pt x="11597" y="17189"/>
                  <a:pt x="11374" y="17134"/>
                  <a:pt x="11286" y="17115"/>
                </a:cubicBezTo>
                <a:cubicBezTo>
                  <a:pt x="11361" y="16991"/>
                  <a:pt x="11410" y="17057"/>
                  <a:pt x="11485" y="17140"/>
                </a:cubicBezTo>
              </a:path>
              <a:path w="4243" h="2978">
                <a:moveTo>
                  <a:pt x="9227" y="17859"/>
                </a:moveTo>
                <a:cubicBezTo>
                  <a:pt x="9445" y="17985"/>
                  <a:pt x="9665" y="18022"/>
                  <a:pt x="9922" y="18033"/>
                </a:cubicBezTo>
                <a:cubicBezTo>
                  <a:pt x="10260" y="18048"/>
                  <a:pt x="10610" y="18048"/>
                  <a:pt x="10939" y="17959"/>
                </a:cubicBezTo>
                <a:cubicBezTo>
                  <a:pt x="11212" y="17886"/>
                  <a:pt x="11473" y="17767"/>
                  <a:pt x="11708" y="17611"/>
                </a:cubicBezTo>
                <a:cubicBezTo>
                  <a:pt x="11801" y="17549"/>
                  <a:pt x="11981" y="17448"/>
                  <a:pt x="11981" y="17314"/>
                </a:cubicBezTo>
                <a:cubicBezTo>
                  <a:pt x="11981" y="17209"/>
                  <a:pt x="11913" y="17102"/>
                  <a:pt x="11857" y="17016"/>
                </a:cubicBezTo>
                <a:cubicBezTo>
                  <a:pt x="11813" y="16949"/>
                  <a:pt x="11770" y="16871"/>
                  <a:pt x="11708" y="16818"/>
                </a:cubicBezTo>
                <a:cubicBezTo>
                  <a:pt x="11622" y="16744"/>
                  <a:pt x="11533" y="16721"/>
                  <a:pt x="11435" y="16669"/>
                </a:cubicBezTo>
                <a:cubicBezTo>
                  <a:pt x="11310" y="16603"/>
                  <a:pt x="11229" y="16555"/>
                  <a:pt x="11088" y="16520"/>
                </a:cubicBezTo>
                <a:cubicBezTo>
                  <a:pt x="10935" y="16482"/>
                  <a:pt x="10793" y="16431"/>
                  <a:pt x="10641" y="16396"/>
                </a:cubicBezTo>
                <a:cubicBezTo>
                  <a:pt x="10433" y="16349"/>
                  <a:pt x="10208" y="16349"/>
                  <a:pt x="9996" y="16346"/>
                </a:cubicBezTo>
                <a:cubicBezTo>
                  <a:pt x="9826" y="16343"/>
                  <a:pt x="9689" y="16355"/>
                  <a:pt x="9525" y="16396"/>
                </a:cubicBezTo>
                <a:cubicBezTo>
                  <a:pt x="9356" y="16439"/>
                  <a:pt x="9205" y="16507"/>
                  <a:pt x="9054" y="16594"/>
                </a:cubicBezTo>
                <a:cubicBezTo>
                  <a:pt x="8890" y="16689"/>
                  <a:pt x="8742" y="16863"/>
                  <a:pt x="8731" y="17066"/>
                </a:cubicBezTo>
                <a:cubicBezTo>
                  <a:pt x="8716" y="17340"/>
                  <a:pt x="8905" y="17713"/>
                  <a:pt x="9153" y="17835"/>
                </a:cubicBezTo>
                <a:cubicBezTo>
                  <a:pt x="9244" y="17860"/>
                  <a:pt x="9335" y="17884"/>
                  <a:pt x="9426" y="179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Homewor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Course 1:  PW 60 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Course 2:  PW p. 41 &amp; 42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(problems 13-22 onl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Extens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ClassZone</a:t>
            </a:r>
            <a:r>
              <a:rPr b="0" lang="en-US" sz="2200" spc="-1" strike="noStrike" u="sng">
                <a:solidFill>
                  <a:srgbClr val="808080"/>
                </a:solidFill>
                <a:uFillTx/>
                <a:latin typeface="Arial"/>
                <a:hlinkClick r:id="rId2"/>
              </a:rPr>
              <a:t> Animated Ma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6600"/>
                </a:solidFill>
                <a:latin typeface="Arial"/>
              </a:rPr>
              <a:t>(Chapter 5 – Creating a Factor Tre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cc66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 mcgrath</cp:lastModifiedBy>
  <dcterms:modified xsi:type="dcterms:W3CDTF">2011-09-28T19:50:33Z</dcterms:modified>
  <cp:revision>39</cp:revision>
  <dc:subject/>
  <dc:title>Unit 1 – Variables and Equations </dc:title>
</cp:coreProperties>
</file>